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WooHoo! Second Seme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2008-2009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ecalculu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Back to the law of sines!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mportant paper number 5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First, let’s find the area of an oblique triangle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area of any triangle is one-half the product of the lengths of two sides time the sine of their included angle.  That is,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rea=½bcsinA=½absinC=½acSinB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"/>
          <p:cNvSpPr/>
          <p:nvPr/>
        </p:nvSpPr>
        <p:spPr>
          <a:xfrm>
            <a:off x="1214280" y="4394160"/>
            <a:ext cx="6232680" cy="1562040"/>
          </a:xfrm>
          <a:custGeom>
            <a:avLst/>
            <a:gdLst/>
            <a:ahLst/>
            <a:rect l="l" t="t" r="r" b="b"/>
            <a:pathLst>
              <a:path w="17315" h="4342">
                <a:moveTo>
                  <a:pt x="5383" y="12477"/>
                </a:moveTo>
                <a:cubicBezTo>
                  <a:pt x="5372" y="12512"/>
                  <a:pt x="5400" y="12470"/>
                  <a:pt x="5383" y="12502"/>
                </a:cubicBezTo>
                <a:cubicBezTo>
                  <a:pt x="5355" y="12553"/>
                  <a:pt x="5316" y="12618"/>
                  <a:pt x="5283" y="12675"/>
                </a:cubicBezTo>
                <a:cubicBezTo>
                  <a:pt x="5147" y="12908"/>
                  <a:pt x="4986" y="13123"/>
                  <a:pt x="4837" y="13345"/>
                </a:cubicBezTo>
                <a:cubicBezTo>
                  <a:pt x="4743" y="13485"/>
                  <a:pt x="4638" y="13639"/>
                  <a:pt x="4564" y="13791"/>
                </a:cubicBezTo>
                <a:cubicBezTo>
                  <a:pt x="4489" y="13945"/>
                  <a:pt x="4407" y="14116"/>
                  <a:pt x="4316" y="14263"/>
                </a:cubicBezTo>
                <a:cubicBezTo>
                  <a:pt x="4193" y="14461"/>
                  <a:pt x="4076" y="14673"/>
                  <a:pt x="3969" y="14883"/>
                </a:cubicBezTo>
                <a:cubicBezTo>
                  <a:pt x="3888" y="15042"/>
                  <a:pt x="3848" y="15219"/>
                  <a:pt x="3770" y="15379"/>
                </a:cubicBezTo>
                <a:cubicBezTo>
                  <a:pt x="3683" y="15559"/>
                  <a:pt x="3560" y="15737"/>
                  <a:pt x="3448" y="15900"/>
                </a:cubicBezTo>
                <a:cubicBezTo>
                  <a:pt x="3424" y="15936"/>
                  <a:pt x="3398" y="15964"/>
                  <a:pt x="3373" y="15999"/>
                </a:cubicBezTo>
                <a:cubicBezTo>
                  <a:pt x="3424" y="16001"/>
                  <a:pt x="3485" y="16021"/>
                  <a:pt x="3522" y="16024"/>
                </a:cubicBezTo>
                <a:cubicBezTo>
                  <a:pt x="3833" y="16047"/>
                  <a:pt x="4135" y="15992"/>
                  <a:pt x="4440" y="15974"/>
                </a:cubicBezTo>
                <a:cubicBezTo>
                  <a:pt x="4663" y="15961"/>
                  <a:pt x="4887" y="15970"/>
                  <a:pt x="5110" y="15949"/>
                </a:cubicBezTo>
                <a:cubicBezTo>
                  <a:pt x="5414" y="15921"/>
                  <a:pt x="5722" y="15905"/>
                  <a:pt x="6028" y="15900"/>
                </a:cubicBezTo>
                <a:cubicBezTo>
                  <a:pt x="6252" y="15897"/>
                  <a:pt x="6472" y="15875"/>
                  <a:pt x="6697" y="15875"/>
                </a:cubicBezTo>
                <a:cubicBezTo>
                  <a:pt x="6909" y="15875"/>
                  <a:pt x="7136" y="15876"/>
                  <a:pt x="7342" y="15825"/>
                </a:cubicBezTo>
                <a:cubicBezTo>
                  <a:pt x="7439" y="15801"/>
                  <a:pt x="7538" y="15763"/>
                  <a:pt x="7615" y="15701"/>
                </a:cubicBezTo>
                <a:cubicBezTo>
                  <a:pt x="7706" y="15628"/>
                  <a:pt x="7611" y="15685"/>
                  <a:pt x="7615" y="15602"/>
                </a:cubicBezTo>
                <a:cubicBezTo>
                  <a:pt x="7607" y="15594"/>
                  <a:pt x="7598" y="15585"/>
                  <a:pt x="7590" y="15577"/>
                </a:cubicBezTo>
              </a:path>
              <a:path w="17315" h="4342">
                <a:moveTo>
                  <a:pt x="3969" y="13692"/>
                </a:moveTo>
                <a:cubicBezTo>
                  <a:pt x="4022" y="13735"/>
                  <a:pt x="4086" y="13779"/>
                  <a:pt x="4142" y="13816"/>
                </a:cubicBezTo>
                <a:cubicBezTo>
                  <a:pt x="4234" y="13877"/>
                  <a:pt x="4343" y="13936"/>
                  <a:pt x="4440" y="13990"/>
                </a:cubicBezTo>
                <a:cubicBezTo>
                  <a:pt x="4547" y="14050"/>
                  <a:pt x="4659" y="14113"/>
                  <a:pt x="4762" y="14163"/>
                </a:cubicBezTo>
                <a:cubicBezTo>
                  <a:pt x="4841" y="14202"/>
                  <a:pt x="4969" y="14345"/>
                  <a:pt x="4936" y="14263"/>
                </a:cubicBezTo>
                <a:cubicBezTo>
                  <a:pt x="4936" y="14255"/>
                  <a:pt x="4936" y="14246"/>
                  <a:pt x="4936" y="14238"/>
                </a:cubicBezTo>
              </a:path>
              <a:path w="17315" h="4342">
                <a:moveTo>
                  <a:pt x="6028" y="15404"/>
                </a:moveTo>
                <a:cubicBezTo>
                  <a:pt x="6041" y="15458"/>
                  <a:pt x="6054" y="15518"/>
                  <a:pt x="6077" y="15577"/>
                </a:cubicBezTo>
                <a:cubicBezTo>
                  <a:pt x="6126" y="15706"/>
                  <a:pt x="6165" y="15840"/>
                  <a:pt x="6201" y="15974"/>
                </a:cubicBezTo>
                <a:cubicBezTo>
                  <a:pt x="6233" y="16091"/>
                  <a:pt x="6249" y="16207"/>
                  <a:pt x="6276" y="16321"/>
                </a:cubicBezTo>
                <a:cubicBezTo>
                  <a:pt x="6290" y="16380"/>
                  <a:pt x="6319" y="16435"/>
                  <a:pt x="6325" y="16495"/>
                </a:cubicBezTo>
                <a:cubicBezTo>
                  <a:pt x="6328" y="16528"/>
                  <a:pt x="6380" y="16535"/>
                  <a:pt x="6350" y="16520"/>
                </a:cubicBezTo>
                <a:cubicBezTo>
                  <a:pt x="6325" y="16520"/>
                  <a:pt x="6317" y="16520"/>
                  <a:pt x="6325" y="16495"/>
                </a:cubicBezTo>
              </a:path>
              <a:path w="17315" h="4342">
                <a:moveTo>
                  <a:pt x="4093" y="14982"/>
                </a:moveTo>
                <a:cubicBezTo>
                  <a:pt x="4126" y="14965"/>
                  <a:pt x="4092" y="14957"/>
                  <a:pt x="4142" y="14982"/>
                </a:cubicBezTo>
                <a:cubicBezTo>
                  <a:pt x="4182" y="15002"/>
                  <a:pt x="4221" y="15032"/>
                  <a:pt x="4266" y="15056"/>
                </a:cubicBezTo>
                <a:cubicBezTo>
                  <a:pt x="4306" y="15077"/>
                  <a:pt x="4441" y="15176"/>
                  <a:pt x="4465" y="15205"/>
                </a:cubicBezTo>
                <a:cubicBezTo>
                  <a:pt x="4532" y="15285"/>
                  <a:pt x="4599" y="15392"/>
                  <a:pt x="4663" y="15478"/>
                </a:cubicBezTo>
                <a:cubicBezTo>
                  <a:pt x="4720" y="15554"/>
                  <a:pt x="4783" y="15656"/>
                  <a:pt x="4787" y="15751"/>
                </a:cubicBezTo>
                <a:cubicBezTo>
                  <a:pt x="4788" y="15784"/>
                  <a:pt x="4787" y="15817"/>
                  <a:pt x="4787" y="15850"/>
                </a:cubicBezTo>
                <a:cubicBezTo>
                  <a:pt x="4775" y="15827"/>
                  <a:pt x="4757" y="15827"/>
                  <a:pt x="4787" y="15776"/>
                </a:cubicBezTo>
                <a:cubicBezTo>
                  <a:pt x="4799" y="15756"/>
                  <a:pt x="4825" y="15740"/>
                  <a:pt x="4812" y="15701"/>
                </a:cubicBezTo>
                <a:cubicBezTo>
                  <a:pt x="4798" y="15661"/>
                  <a:pt x="4780" y="15591"/>
                  <a:pt x="4762" y="15553"/>
                </a:cubicBezTo>
                <a:cubicBezTo>
                  <a:pt x="4734" y="15496"/>
                  <a:pt x="4692" y="15438"/>
                  <a:pt x="4663" y="15379"/>
                </a:cubicBezTo>
                <a:cubicBezTo>
                  <a:pt x="4632" y="15316"/>
                  <a:pt x="4582" y="15236"/>
                  <a:pt x="4539" y="15180"/>
                </a:cubicBezTo>
                <a:cubicBezTo>
                  <a:pt x="4493" y="15121"/>
                  <a:pt x="4420" y="15086"/>
                  <a:pt x="4366" y="15032"/>
                </a:cubicBezTo>
                <a:cubicBezTo>
                  <a:pt x="4315" y="14981"/>
                  <a:pt x="4239" y="14954"/>
                  <a:pt x="4167" y="14957"/>
                </a:cubicBezTo>
                <a:cubicBezTo>
                  <a:pt x="4142" y="14957"/>
                  <a:pt x="4134" y="14957"/>
                  <a:pt x="4142" y="14982"/>
                </a:cubicBezTo>
                <a:cubicBezTo>
                  <a:pt x="4182" y="14988"/>
                  <a:pt x="4207" y="14991"/>
                  <a:pt x="4242" y="15007"/>
                </a:cubicBezTo>
                <a:cubicBezTo>
                  <a:pt x="4296" y="15031"/>
                  <a:pt x="4342" y="15045"/>
                  <a:pt x="4390" y="15081"/>
                </a:cubicBezTo>
                <a:cubicBezTo>
                  <a:pt x="4445" y="15122"/>
                  <a:pt x="4520" y="15177"/>
                  <a:pt x="4564" y="15230"/>
                </a:cubicBezTo>
                <a:cubicBezTo>
                  <a:pt x="4630" y="15310"/>
                  <a:pt x="4698" y="15396"/>
                  <a:pt x="4762" y="15478"/>
                </a:cubicBezTo>
                <a:cubicBezTo>
                  <a:pt x="4833" y="15569"/>
                  <a:pt x="4884" y="15674"/>
                  <a:pt x="4936" y="15776"/>
                </a:cubicBezTo>
                <a:cubicBezTo>
                  <a:pt x="4951" y="15806"/>
                  <a:pt x="4988" y="15869"/>
                  <a:pt x="4986" y="15900"/>
                </a:cubicBezTo>
                <a:cubicBezTo>
                  <a:pt x="4982" y="15954"/>
                  <a:pt x="4980" y="15913"/>
                  <a:pt x="4961" y="15875"/>
                </a:cubicBezTo>
              </a:path>
              <a:path w="17315" h="4342">
                <a:moveTo>
                  <a:pt x="11112" y="12378"/>
                </a:moveTo>
                <a:cubicBezTo>
                  <a:pt x="11027" y="12481"/>
                  <a:pt x="10927" y="12585"/>
                  <a:pt x="10864" y="12700"/>
                </a:cubicBezTo>
                <a:cubicBezTo>
                  <a:pt x="10739" y="12926"/>
                  <a:pt x="10594" y="13144"/>
                  <a:pt x="10468" y="13370"/>
                </a:cubicBezTo>
                <a:cubicBezTo>
                  <a:pt x="10323" y="13631"/>
                  <a:pt x="10188" y="13901"/>
                  <a:pt x="10046" y="14163"/>
                </a:cubicBezTo>
                <a:cubicBezTo>
                  <a:pt x="9903" y="14427"/>
                  <a:pt x="9769" y="14694"/>
                  <a:pt x="9624" y="14957"/>
                </a:cubicBezTo>
                <a:cubicBezTo>
                  <a:pt x="9486" y="15208"/>
                  <a:pt x="9357" y="15457"/>
                  <a:pt x="9203" y="15701"/>
                </a:cubicBezTo>
                <a:cubicBezTo>
                  <a:pt x="9173" y="15749"/>
                  <a:pt x="9143" y="15874"/>
                  <a:pt x="9079" y="15875"/>
                </a:cubicBezTo>
                <a:cubicBezTo>
                  <a:pt x="9079" y="15840"/>
                  <a:pt x="9083" y="15823"/>
                  <a:pt x="9103" y="15801"/>
                </a:cubicBezTo>
              </a:path>
              <a:path w="17315" h="4342">
                <a:moveTo>
                  <a:pt x="11187" y="12328"/>
                </a:moveTo>
                <a:cubicBezTo>
                  <a:pt x="11198" y="12368"/>
                  <a:pt x="11167" y="12366"/>
                  <a:pt x="11187" y="12402"/>
                </a:cubicBezTo>
                <a:cubicBezTo>
                  <a:pt x="11225" y="12471"/>
                  <a:pt x="11288" y="12537"/>
                  <a:pt x="11336" y="12601"/>
                </a:cubicBezTo>
                <a:cubicBezTo>
                  <a:pt x="11413" y="12703"/>
                  <a:pt x="11498" y="12813"/>
                  <a:pt x="11584" y="12923"/>
                </a:cubicBezTo>
                <a:cubicBezTo>
                  <a:pt x="11755" y="13141"/>
                  <a:pt x="11968" y="13318"/>
                  <a:pt x="12154" y="13519"/>
                </a:cubicBezTo>
                <a:cubicBezTo>
                  <a:pt x="12384" y="13768"/>
                  <a:pt x="12624" y="14010"/>
                  <a:pt x="12849" y="14263"/>
                </a:cubicBezTo>
                <a:cubicBezTo>
                  <a:pt x="13082" y="14525"/>
                  <a:pt x="13335" y="14800"/>
                  <a:pt x="13543" y="15081"/>
                </a:cubicBezTo>
                <a:cubicBezTo>
                  <a:pt x="13671" y="15254"/>
                  <a:pt x="13784" y="15384"/>
                  <a:pt x="13940" y="15528"/>
                </a:cubicBezTo>
                <a:cubicBezTo>
                  <a:pt x="14008" y="15591"/>
                  <a:pt x="14068" y="15632"/>
                  <a:pt x="14139" y="15677"/>
                </a:cubicBezTo>
                <a:cubicBezTo>
                  <a:pt x="14163" y="15677"/>
                  <a:pt x="14171" y="15677"/>
                  <a:pt x="14139" y="15677"/>
                </a:cubicBezTo>
                <a:cubicBezTo>
                  <a:pt x="14106" y="15644"/>
                  <a:pt x="14072" y="15610"/>
                  <a:pt x="14039" y="15577"/>
                </a:cubicBezTo>
              </a:path>
              <a:path w="17315" h="4342">
                <a:moveTo>
                  <a:pt x="10567" y="13295"/>
                </a:moveTo>
                <a:cubicBezTo>
                  <a:pt x="10627" y="13311"/>
                  <a:pt x="10705" y="13337"/>
                  <a:pt x="10765" y="13345"/>
                </a:cubicBezTo>
                <a:cubicBezTo>
                  <a:pt x="11011" y="13379"/>
                  <a:pt x="11292" y="13348"/>
                  <a:pt x="11534" y="13320"/>
                </a:cubicBezTo>
                <a:cubicBezTo>
                  <a:pt x="11638" y="13308"/>
                  <a:pt x="11708" y="13313"/>
                  <a:pt x="11807" y="13271"/>
                </a:cubicBezTo>
                <a:cubicBezTo>
                  <a:pt x="11822" y="13264"/>
                  <a:pt x="11930" y="13192"/>
                  <a:pt x="11881" y="13221"/>
                </a:cubicBezTo>
                <a:cubicBezTo>
                  <a:pt x="11850" y="13239"/>
                  <a:pt x="11810" y="13253"/>
                  <a:pt x="11782" y="13271"/>
                </a:cubicBezTo>
                <a:cubicBezTo>
                  <a:pt x="11735" y="13302"/>
                  <a:pt x="11710" y="13342"/>
                  <a:pt x="11658" y="13370"/>
                </a:cubicBezTo>
                <a:cubicBezTo>
                  <a:pt x="11574" y="13415"/>
                  <a:pt x="11509" y="13415"/>
                  <a:pt x="11410" y="13419"/>
                </a:cubicBezTo>
                <a:cubicBezTo>
                  <a:pt x="11338" y="13422"/>
                  <a:pt x="11254" y="13416"/>
                  <a:pt x="11187" y="13395"/>
                </a:cubicBezTo>
                <a:cubicBezTo>
                  <a:pt x="11094" y="13366"/>
                  <a:pt x="10984" y="13333"/>
                  <a:pt x="10889" y="13320"/>
                </a:cubicBezTo>
                <a:cubicBezTo>
                  <a:pt x="10816" y="13310"/>
                  <a:pt x="10775" y="13315"/>
                  <a:pt x="10716" y="13295"/>
                </a:cubicBezTo>
                <a:cubicBezTo>
                  <a:pt x="10708" y="13295"/>
                  <a:pt x="10699" y="13295"/>
                  <a:pt x="10691" y="13295"/>
                </a:cubicBezTo>
                <a:cubicBezTo>
                  <a:pt x="10729" y="13308"/>
                  <a:pt x="10711" y="13320"/>
                  <a:pt x="10765" y="13320"/>
                </a:cubicBezTo>
                <a:cubicBezTo>
                  <a:pt x="10841" y="13320"/>
                  <a:pt x="10907" y="13345"/>
                  <a:pt x="10988" y="13345"/>
                </a:cubicBezTo>
                <a:cubicBezTo>
                  <a:pt x="11117" y="13345"/>
                  <a:pt x="11235" y="13358"/>
                  <a:pt x="11361" y="13370"/>
                </a:cubicBezTo>
                <a:cubicBezTo>
                  <a:pt x="11481" y="13382"/>
                  <a:pt x="11590" y="13350"/>
                  <a:pt x="11708" y="13345"/>
                </a:cubicBezTo>
                <a:cubicBezTo>
                  <a:pt x="11752" y="13343"/>
                  <a:pt x="11850" y="13347"/>
                  <a:pt x="11881" y="13320"/>
                </a:cubicBezTo>
                <a:cubicBezTo>
                  <a:pt x="11905" y="13299"/>
                  <a:pt x="11918" y="13290"/>
                  <a:pt x="11906" y="13295"/>
                </a:cubicBezTo>
                <a:cubicBezTo>
                  <a:pt x="11881" y="13295"/>
                  <a:pt x="11873" y="13295"/>
                  <a:pt x="11857" y="13295"/>
                </a:cubicBezTo>
              </a:path>
              <a:path w="17315" h="4342">
                <a:moveTo>
                  <a:pt x="16321" y="12204"/>
                </a:moveTo>
                <a:cubicBezTo>
                  <a:pt x="16451" y="12272"/>
                  <a:pt x="16572" y="12340"/>
                  <a:pt x="16694" y="12427"/>
                </a:cubicBezTo>
                <a:cubicBezTo>
                  <a:pt x="16831" y="12525"/>
                  <a:pt x="16973" y="12609"/>
                  <a:pt x="17115" y="12700"/>
                </a:cubicBezTo>
                <a:cubicBezTo>
                  <a:pt x="17319" y="12830"/>
                  <a:pt x="17526" y="12949"/>
                  <a:pt x="17735" y="13072"/>
                </a:cubicBezTo>
                <a:cubicBezTo>
                  <a:pt x="18035" y="13248"/>
                  <a:pt x="18319" y="13443"/>
                  <a:pt x="18604" y="13643"/>
                </a:cubicBezTo>
                <a:cubicBezTo>
                  <a:pt x="18831" y="13803"/>
                  <a:pt x="19038" y="13990"/>
                  <a:pt x="19273" y="14139"/>
                </a:cubicBezTo>
                <a:cubicBezTo>
                  <a:pt x="19469" y="14263"/>
                  <a:pt x="19665" y="14410"/>
                  <a:pt x="19844" y="14560"/>
                </a:cubicBezTo>
                <a:cubicBezTo>
                  <a:pt x="19979" y="14673"/>
                  <a:pt x="20098" y="14805"/>
                  <a:pt x="20241" y="14908"/>
                </a:cubicBezTo>
                <a:cubicBezTo>
                  <a:pt x="20323" y="14967"/>
                  <a:pt x="20404" y="15030"/>
                  <a:pt x="20489" y="15081"/>
                </a:cubicBezTo>
                <a:cubicBezTo>
                  <a:pt x="20544" y="15114"/>
                  <a:pt x="20599" y="15157"/>
                  <a:pt x="20662" y="15180"/>
                </a:cubicBezTo>
                <a:cubicBezTo>
                  <a:pt x="20670" y="15180"/>
                  <a:pt x="20679" y="15180"/>
                  <a:pt x="20687" y="15180"/>
                </a:cubicBezTo>
                <a:cubicBezTo>
                  <a:pt x="20664" y="15197"/>
                  <a:pt x="20646" y="15212"/>
                  <a:pt x="20613" y="15230"/>
                </a:cubicBezTo>
                <a:cubicBezTo>
                  <a:pt x="20555" y="15261"/>
                  <a:pt x="20517" y="15280"/>
                  <a:pt x="20439" y="15304"/>
                </a:cubicBezTo>
                <a:cubicBezTo>
                  <a:pt x="20333" y="15336"/>
                  <a:pt x="20227" y="15371"/>
                  <a:pt x="20117" y="15379"/>
                </a:cubicBezTo>
                <a:cubicBezTo>
                  <a:pt x="19944" y="15391"/>
                  <a:pt x="19769" y="15401"/>
                  <a:pt x="19596" y="15404"/>
                </a:cubicBezTo>
                <a:cubicBezTo>
                  <a:pt x="19355" y="15408"/>
                  <a:pt x="19115" y="15409"/>
                  <a:pt x="18876" y="15429"/>
                </a:cubicBezTo>
                <a:cubicBezTo>
                  <a:pt x="18604" y="15452"/>
                  <a:pt x="18329" y="15471"/>
                  <a:pt x="18058" y="15503"/>
                </a:cubicBezTo>
                <a:cubicBezTo>
                  <a:pt x="17684" y="15548"/>
                  <a:pt x="17294" y="15647"/>
                  <a:pt x="16917" y="15652"/>
                </a:cubicBezTo>
                <a:cubicBezTo>
                  <a:pt x="16797" y="15654"/>
                  <a:pt x="16718" y="15626"/>
                  <a:pt x="16619" y="15602"/>
                </a:cubicBezTo>
              </a:path>
              <a:path w="17315" h="4342">
                <a:moveTo>
                  <a:pt x="19447" y="14263"/>
                </a:moveTo>
                <a:cubicBezTo>
                  <a:pt x="19336" y="14322"/>
                  <a:pt x="19327" y="14330"/>
                  <a:pt x="19273" y="14436"/>
                </a:cubicBezTo>
                <a:cubicBezTo>
                  <a:pt x="19225" y="14531"/>
                  <a:pt x="19205" y="14633"/>
                  <a:pt x="19174" y="14734"/>
                </a:cubicBezTo>
                <a:cubicBezTo>
                  <a:pt x="19142" y="14841"/>
                  <a:pt x="19149" y="14950"/>
                  <a:pt x="19124" y="15056"/>
                </a:cubicBezTo>
                <a:cubicBezTo>
                  <a:pt x="19111" y="15113"/>
                  <a:pt x="19113" y="15174"/>
                  <a:pt x="19100" y="15230"/>
                </a:cubicBezTo>
                <a:cubicBezTo>
                  <a:pt x="19092" y="15247"/>
                  <a:pt x="19083" y="15263"/>
                  <a:pt x="19075" y="15280"/>
                </a:cubicBezTo>
                <a:cubicBezTo>
                  <a:pt x="19084" y="15218"/>
                  <a:pt x="19091" y="15173"/>
                  <a:pt x="19100" y="15106"/>
                </a:cubicBezTo>
                <a:cubicBezTo>
                  <a:pt x="19117" y="14971"/>
                  <a:pt x="19160" y="14841"/>
                  <a:pt x="19174" y="14709"/>
                </a:cubicBezTo>
                <a:cubicBezTo>
                  <a:pt x="19186" y="14602"/>
                  <a:pt x="19189" y="14490"/>
                  <a:pt x="19224" y="14387"/>
                </a:cubicBezTo>
                <a:cubicBezTo>
                  <a:pt x="19248" y="14318"/>
                  <a:pt x="19243" y="14227"/>
                  <a:pt x="19273" y="14163"/>
                </a:cubicBezTo>
                <a:cubicBezTo>
                  <a:pt x="19285" y="14137"/>
                  <a:pt x="19278" y="14159"/>
                  <a:pt x="19298" y="14139"/>
                </a:cubicBezTo>
                <a:cubicBezTo>
                  <a:pt x="19298" y="14204"/>
                  <a:pt x="19297" y="14249"/>
                  <a:pt x="19273" y="14312"/>
                </a:cubicBezTo>
                <a:cubicBezTo>
                  <a:pt x="19240" y="14398"/>
                  <a:pt x="19225" y="14493"/>
                  <a:pt x="19199" y="14585"/>
                </a:cubicBezTo>
                <a:cubicBezTo>
                  <a:pt x="19165" y="14704"/>
                  <a:pt x="19152" y="14834"/>
                  <a:pt x="19149" y="14957"/>
                </a:cubicBezTo>
                <a:cubicBezTo>
                  <a:pt x="19145" y="15086"/>
                  <a:pt x="19179" y="15236"/>
                  <a:pt x="19224" y="15354"/>
                </a:cubicBezTo>
                <a:cubicBezTo>
                  <a:pt x="19244" y="15407"/>
                  <a:pt x="19276" y="15454"/>
                  <a:pt x="19298" y="15478"/>
                </a:cubicBezTo>
                <a:cubicBezTo>
                  <a:pt x="19317" y="15499"/>
                  <a:pt x="19330" y="15501"/>
                  <a:pt x="19323" y="15503"/>
                </a:cubicBezTo>
                <a:cubicBezTo>
                  <a:pt x="19315" y="15503"/>
                  <a:pt x="19306" y="15503"/>
                  <a:pt x="19298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nd the area of a triangular lot having two sides of lengths 90 meters and 52 meters and an included angle of 102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"/>
          <p:cNvSpPr/>
          <p:nvPr/>
        </p:nvSpPr>
        <p:spPr>
          <a:xfrm>
            <a:off x="1303200" y="2473200"/>
            <a:ext cx="662040" cy="554040"/>
          </a:xfrm>
          <a:custGeom>
            <a:avLst/>
            <a:gdLst/>
            <a:ahLst/>
            <a:rect l="l" t="t" r="r" b="b"/>
            <a:pathLst>
              <a:path w="1837" h="1539">
                <a:moveTo>
                  <a:pt x="4093" y="7764"/>
                </a:moveTo>
                <a:cubicBezTo>
                  <a:pt x="4101" y="7794"/>
                  <a:pt x="4110" y="7808"/>
                  <a:pt x="4118" y="7838"/>
                </a:cubicBezTo>
                <a:cubicBezTo>
                  <a:pt x="4088" y="7828"/>
                  <a:pt x="4079" y="7777"/>
                  <a:pt x="4068" y="7739"/>
                </a:cubicBezTo>
                <a:cubicBezTo>
                  <a:pt x="4053" y="7690"/>
                  <a:pt x="4029" y="7632"/>
                  <a:pt x="3994" y="7590"/>
                </a:cubicBezTo>
                <a:cubicBezTo>
                  <a:pt x="3947" y="7534"/>
                  <a:pt x="3911" y="7520"/>
                  <a:pt x="3845" y="7516"/>
                </a:cubicBezTo>
                <a:cubicBezTo>
                  <a:pt x="3774" y="7512"/>
                  <a:pt x="3744" y="7567"/>
                  <a:pt x="3696" y="7615"/>
                </a:cubicBezTo>
                <a:cubicBezTo>
                  <a:pt x="3638" y="7673"/>
                  <a:pt x="3625" y="7761"/>
                  <a:pt x="3621" y="7838"/>
                </a:cubicBezTo>
                <a:cubicBezTo>
                  <a:pt x="3617" y="7927"/>
                  <a:pt x="3619" y="8004"/>
                  <a:pt x="3646" y="8086"/>
                </a:cubicBezTo>
                <a:cubicBezTo>
                  <a:pt x="3667" y="8150"/>
                  <a:pt x="3695" y="8217"/>
                  <a:pt x="3770" y="8235"/>
                </a:cubicBezTo>
                <a:cubicBezTo>
                  <a:pt x="3814" y="8245"/>
                  <a:pt x="3911" y="8243"/>
                  <a:pt x="3944" y="8210"/>
                </a:cubicBezTo>
                <a:cubicBezTo>
                  <a:pt x="4006" y="8148"/>
                  <a:pt x="4075" y="8053"/>
                  <a:pt x="4093" y="7962"/>
                </a:cubicBezTo>
                <a:cubicBezTo>
                  <a:pt x="4105" y="7898"/>
                  <a:pt x="4113" y="7827"/>
                  <a:pt x="4118" y="7764"/>
                </a:cubicBezTo>
                <a:cubicBezTo>
                  <a:pt x="4118" y="7729"/>
                  <a:pt x="4113" y="7711"/>
                  <a:pt x="4093" y="7689"/>
                </a:cubicBezTo>
                <a:cubicBezTo>
                  <a:pt x="4093" y="7722"/>
                  <a:pt x="4093" y="7706"/>
                  <a:pt x="4093" y="7739"/>
                </a:cubicBezTo>
                <a:cubicBezTo>
                  <a:pt x="4093" y="7823"/>
                  <a:pt x="4151" y="7879"/>
                  <a:pt x="4167" y="7962"/>
                </a:cubicBezTo>
                <a:cubicBezTo>
                  <a:pt x="4181" y="8037"/>
                  <a:pt x="4230" y="8109"/>
                  <a:pt x="4266" y="8186"/>
                </a:cubicBezTo>
                <a:cubicBezTo>
                  <a:pt x="4295" y="8246"/>
                  <a:pt x="4322" y="8309"/>
                  <a:pt x="4366" y="8359"/>
                </a:cubicBezTo>
                <a:cubicBezTo>
                  <a:pt x="4374" y="8367"/>
                  <a:pt x="4382" y="8376"/>
                  <a:pt x="4390" y="8384"/>
                </a:cubicBezTo>
                <a:cubicBezTo>
                  <a:pt x="4390" y="8447"/>
                  <a:pt x="4367" y="8307"/>
                  <a:pt x="4366" y="8285"/>
                </a:cubicBezTo>
                <a:cubicBezTo>
                  <a:pt x="4366" y="8219"/>
                  <a:pt x="4366" y="8202"/>
                  <a:pt x="4366" y="8161"/>
                </a:cubicBezTo>
              </a:path>
              <a:path w="1837" h="1539">
                <a:moveTo>
                  <a:pt x="4390" y="7466"/>
                </a:moveTo>
                <a:cubicBezTo>
                  <a:pt x="4390" y="7611"/>
                  <a:pt x="4399" y="7748"/>
                  <a:pt x="4415" y="7888"/>
                </a:cubicBezTo>
                <a:cubicBezTo>
                  <a:pt x="4424" y="7971"/>
                  <a:pt x="4432" y="8044"/>
                  <a:pt x="4490" y="8111"/>
                </a:cubicBezTo>
                <a:cubicBezTo>
                  <a:pt x="4538" y="8166"/>
                  <a:pt x="4619" y="8192"/>
                  <a:pt x="4688" y="8136"/>
                </a:cubicBezTo>
                <a:cubicBezTo>
                  <a:pt x="4728" y="8103"/>
                  <a:pt x="4779" y="7960"/>
                  <a:pt x="4787" y="7913"/>
                </a:cubicBezTo>
                <a:cubicBezTo>
                  <a:pt x="4812" y="7765"/>
                  <a:pt x="4737" y="7597"/>
                  <a:pt x="4688" y="7466"/>
                </a:cubicBezTo>
                <a:cubicBezTo>
                  <a:pt x="4658" y="7388"/>
                  <a:pt x="4600" y="7361"/>
                  <a:pt x="4539" y="7317"/>
                </a:cubicBezTo>
                <a:cubicBezTo>
                  <a:pt x="4526" y="7308"/>
                  <a:pt x="4461" y="7268"/>
                  <a:pt x="4440" y="7293"/>
                </a:cubicBezTo>
                <a:cubicBezTo>
                  <a:pt x="4440" y="7317"/>
                  <a:pt x="4440" y="7325"/>
                  <a:pt x="4465" y="7317"/>
                </a:cubicBezTo>
              </a:path>
              <a:path w="1837" h="1539">
                <a:moveTo>
                  <a:pt x="4961" y="7541"/>
                </a:moveTo>
                <a:cubicBezTo>
                  <a:pt x="4980" y="7598"/>
                  <a:pt x="4989" y="7641"/>
                  <a:pt x="4986" y="7590"/>
                </a:cubicBezTo>
                <a:cubicBezTo>
                  <a:pt x="4964" y="7561"/>
                  <a:pt x="4943" y="7505"/>
                  <a:pt x="4936" y="7466"/>
                </a:cubicBezTo>
                <a:cubicBezTo>
                  <a:pt x="4927" y="7415"/>
                  <a:pt x="4921" y="7282"/>
                  <a:pt x="4961" y="7243"/>
                </a:cubicBezTo>
                <a:cubicBezTo>
                  <a:pt x="4986" y="7218"/>
                  <a:pt x="5033" y="7225"/>
                  <a:pt x="5060" y="7243"/>
                </a:cubicBezTo>
                <a:cubicBezTo>
                  <a:pt x="5099" y="7269"/>
                  <a:pt x="5135" y="7351"/>
                  <a:pt x="5159" y="7367"/>
                </a:cubicBezTo>
                <a:cubicBezTo>
                  <a:pt x="5184" y="7384"/>
                  <a:pt x="5179" y="7382"/>
                  <a:pt x="5209" y="7392"/>
                </a:cubicBezTo>
                <a:cubicBezTo>
                  <a:pt x="5184" y="7384"/>
                  <a:pt x="5166" y="7333"/>
                  <a:pt x="5159" y="7293"/>
                </a:cubicBezTo>
                <a:cubicBezTo>
                  <a:pt x="5148" y="7231"/>
                  <a:pt x="5143" y="7153"/>
                  <a:pt x="5135" y="7094"/>
                </a:cubicBezTo>
                <a:cubicBezTo>
                  <a:pt x="5127" y="7034"/>
                  <a:pt x="5155" y="6907"/>
                  <a:pt x="5209" y="6871"/>
                </a:cubicBezTo>
                <a:cubicBezTo>
                  <a:pt x="5248" y="6845"/>
                  <a:pt x="5304" y="6880"/>
                  <a:pt x="5333" y="6896"/>
                </a:cubicBezTo>
                <a:cubicBezTo>
                  <a:pt x="5399" y="6934"/>
                  <a:pt x="5396" y="6917"/>
                  <a:pt x="5432" y="6970"/>
                </a:cubicBezTo>
                <a:cubicBezTo>
                  <a:pt x="5458" y="7010"/>
                  <a:pt x="5457" y="7020"/>
                  <a:pt x="5457" y="7069"/>
                </a:cubicBezTo>
                <a:cubicBezTo>
                  <a:pt x="5457" y="7077"/>
                  <a:pt x="5457" y="7086"/>
                  <a:pt x="5457" y="70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03640" y="2411280"/>
            <a:ext cx="474480" cy="285840"/>
          </a:xfrm>
          <a:custGeom>
            <a:avLst/>
            <a:gdLst/>
            <a:ahLst/>
            <a:rect l="l" t="t" r="r" b="b"/>
            <a:pathLst>
              <a:path w="1315" h="795">
                <a:moveTo>
                  <a:pt x="6400" y="6921"/>
                </a:moveTo>
                <a:cubicBezTo>
                  <a:pt x="6421" y="7001"/>
                  <a:pt x="6424" y="7061"/>
                  <a:pt x="6424" y="7144"/>
                </a:cubicBezTo>
                <a:cubicBezTo>
                  <a:pt x="6424" y="7224"/>
                  <a:pt x="6424" y="7472"/>
                  <a:pt x="6424" y="7466"/>
                </a:cubicBezTo>
                <a:cubicBezTo>
                  <a:pt x="6424" y="7402"/>
                  <a:pt x="6427" y="7376"/>
                  <a:pt x="6449" y="7317"/>
                </a:cubicBezTo>
              </a:path>
              <a:path w="1315" h="795">
                <a:moveTo>
                  <a:pt x="6722" y="6871"/>
                </a:moveTo>
                <a:cubicBezTo>
                  <a:pt x="6701" y="6977"/>
                  <a:pt x="6663" y="7087"/>
                  <a:pt x="6648" y="7193"/>
                </a:cubicBezTo>
                <a:cubicBezTo>
                  <a:pt x="6640" y="7248"/>
                  <a:pt x="6601" y="7360"/>
                  <a:pt x="6623" y="7417"/>
                </a:cubicBezTo>
                <a:cubicBezTo>
                  <a:pt x="6640" y="7461"/>
                  <a:pt x="6684" y="7466"/>
                  <a:pt x="6722" y="7466"/>
                </a:cubicBezTo>
                <a:cubicBezTo>
                  <a:pt x="6788" y="7466"/>
                  <a:pt x="6810" y="7384"/>
                  <a:pt x="6846" y="7342"/>
                </a:cubicBezTo>
                <a:cubicBezTo>
                  <a:pt x="6896" y="7282"/>
                  <a:pt x="6953" y="7201"/>
                  <a:pt x="6945" y="7119"/>
                </a:cubicBezTo>
                <a:cubicBezTo>
                  <a:pt x="6940" y="7068"/>
                  <a:pt x="6910" y="7013"/>
                  <a:pt x="6896" y="6970"/>
                </a:cubicBezTo>
                <a:cubicBezTo>
                  <a:pt x="6876" y="6910"/>
                  <a:pt x="6826" y="6907"/>
                  <a:pt x="6772" y="6871"/>
                </a:cubicBezTo>
              </a:path>
              <a:path w="1315" h="795">
                <a:moveTo>
                  <a:pt x="7020" y="6747"/>
                </a:moveTo>
                <a:cubicBezTo>
                  <a:pt x="7107" y="6738"/>
                  <a:pt x="7122" y="6733"/>
                  <a:pt x="7193" y="6747"/>
                </a:cubicBezTo>
                <a:cubicBezTo>
                  <a:pt x="7228" y="6754"/>
                  <a:pt x="7306" y="6768"/>
                  <a:pt x="7317" y="6821"/>
                </a:cubicBezTo>
                <a:cubicBezTo>
                  <a:pt x="7341" y="6938"/>
                  <a:pt x="7242" y="7005"/>
                  <a:pt x="7193" y="7094"/>
                </a:cubicBezTo>
                <a:cubicBezTo>
                  <a:pt x="7166" y="7143"/>
                  <a:pt x="7107" y="7215"/>
                  <a:pt x="7094" y="7268"/>
                </a:cubicBezTo>
                <a:cubicBezTo>
                  <a:pt x="7094" y="7284"/>
                  <a:pt x="7094" y="7301"/>
                  <a:pt x="7094" y="7317"/>
                </a:cubicBezTo>
                <a:cubicBezTo>
                  <a:pt x="7166" y="7317"/>
                  <a:pt x="7226" y="7323"/>
                  <a:pt x="7293" y="7293"/>
                </a:cubicBezTo>
                <a:cubicBezTo>
                  <a:pt x="7357" y="7265"/>
                  <a:pt x="7425" y="7200"/>
                  <a:pt x="7466" y="7144"/>
                </a:cubicBezTo>
                <a:cubicBezTo>
                  <a:pt x="7474" y="7127"/>
                  <a:pt x="7483" y="7111"/>
                  <a:pt x="7491" y="7094"/>
                </a:cubicBezTo>
              </a:path>
              <a:path w="1315" h="795">
                <a:moveTo>
                  <a:pt x="7541" y="6722"/>
                </a:moveTo>
                <a:cubicBezTo>
                  <a:pt x="7541" y="6776"/>
                  <a:pt x="7528" y="6843"/>
                  <a:pt x="7590" y="6871"/>
                </a:cubicBezTo>
                <a:cubicBezTo>
                  <a:pt x="7615" y="6882"/>
                  <a:pt x="7672" y="6836"/>
                  <a:pt x="7689" y="6821"/>
                </a:cubicBezTo>
                <a:cubicBezTo>
                  <a:pt x="7727" y="6787"/>
                  <a:pt x="7714" y="6746"/>
                  <a:pt x="7714" y="6697"/>
                </a:cubicBezTo>
                <a:cubicBezTo>
                  <a:pt x="7664" y="6697"/>
                  <a:pt x="7615" y="6697"/>
                  <a:pt x="7565" y="66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51160" y="2125800"/>
            <a:ext cx="741240" cy="625320"/>
          </a:xfrm>
          <a:custGeom>
            <a:avLst/>
            <a:gdLst/>
            <a:ahLst/>
            <a:rect l="l" t="t" r="r" b="b"/>
            <a:pathLst>
              <a:path w="2060" h="1737">
                <a:moveTo>
                  <a:pt x="9029" y="5904"/>
                </a:moveTo>
                <a:cubicBezTo>
                  <a:pt x="9100" y="5962"/>
                  <a:pt x="9170" y="5990"/>
                  <a:pt x="9252" y="6028"/>
                </a:cubicBezTo>
                <a:cubicBezTo>
                  <a:pt x="9324" y="6062"/>
                  <a:pt x="9402" y="6053"/>
                  <a:pt x="9475" y="6077"/>
                </a:cubicBezTo>
                <a:cubicBezTo>
                  <a:pt x="9526" y="6094"/>
                  <a:pt x="9545" y="6102"/>
                  <a:pt x="9599" y="6102"/>
                </a:cubicBezTo>
              </a:path>
              <a:path w="2060" h="1737">
                <a:moveTo>
                  <a:pt x="9277" y="6003"/>
                </a:moveTo>
                <a:cubicBezTo>
                  <a:pt x="9191" y="6063"/>
                  <a:pt x="9188" y="6065"/>
                  <a:pt x="9153" y="6152"/>
                </a:cubicBezTo>
                <a:cubicBezTo>
                  <a:pt x="9133" y="6202"/>
                  <a:pt x="9067" y="6252"/>
                  <a:pt x="9054" y="6300"/>
                </a:cubicBezTo>
                <a:cubicBezTo>
                  <a:pt x="9054" y="6342"/>
                  <a:pt x="9054" y="6350"/>
                  <a:pt x="9054" y="6375"/>
                </a:cubicBezTo>
                <a:cubicBezTo>
                  <a:pt x="9057" y="6374"/>
                  <a:pt x="9125" y="6353"/>
                  <a:pt x="9128" y="6350"/>
                </a:cubicBezTo>
                <a:cubicBezTo>
                  <a:pt x="9167" y="6301"/>
                  <a:pt x="9145" y="6300"/>
                  <a:pt x="9227" y="6300"/>
                </a:cubicBezTo>
                <a:cubicBezTo>
                  <a:pt x="9329" y="6300"/>
                  <a:pt x="9331" y="6305"/>
                  <a:pt x="9401" y="6375"/>
                </a:cubicBezTo>
                <a:cubicBezTo>
                  <a:pt x="9466" y="6441"/>
                  <a:pt x="9452" y="6494"/>
                  <a:pt x="9475" y="6573"/>
                </a:cubicBezTo>
                <a:cubicBezTo>
                  <a:pt x="9495" y="6642"/>
                  <a:pt x="9507" y="6702"/>
                  <a:pt x="9475" y="6772"/>
                </a:cubicBezTo>
                <a:cubicBezTo>
                  <a:pt x="9455" y="6815"/>
                  <a:pt x="9369" y="6862"/>
                  <a:pt x="9327" y="6871"/>
                </a:cubicBezTo>
                <a:cubicBezTo>
                  <a:pt x="9248" y="6889"/>
                  <a:pt x="9174" y="6864"/>
                  <a:pt x="9103" y="6846"/>
                </a:cubicBezTo>
                <a:cubicBezTo>
                  <a:pt x="9075" y="6846"/>
                  <a:pt x="9065" y="6843"/>
                  <a:pt x="9054" y="6821"/>
                </a:cubicBezTo>
                <a:cubicBezTo>
                  <a:pt x="9068" y="6778"/>
                  <a:pt x="9123" y="6769"/>
                  <a:pt x="9178" y="6747"/>
                </a:cubicBezTo>
              </a:path>
              <a:path w="2060" h="1737">
                <a:moveTo>
                  <a:pt x="9823" y="6400"/>
                </a:moveTo>
                <a:cubicBezTo>
                  <a:pt x="9926" y="6338"/>
                  <a:pt x="9965" y="6293"/>
                  <a:pt x="10071" y="6350"/>
                </a:cubicBezTo>
                <a:cubicBezTo>
                  <a:pt x="10108" y="6370"/>
                  <a:pt x="10198" y="6419"/>
                  <a:pt x="10195" y="6474"/>
                </a:cubicBezTo>
                <a:cubicBezTo>
                  <a:pt x="10190" y="6566"/>
                  <a:pt x="10124" y="6604"/>
                  <a:pt x="10071" y="6672"/>
                </a:cubicBezTo>
                <a:cubicBezTo>
                  <a:pt x="9993" y="6771"/>
                  <a:pt x="9952" y="6810"/>
                  <a:pt x="9847" y="6871"/>
                </a:cubicBezTo>
                <a:cubicBezTo>
                  <a:pt x="9777" y="6912"/>
                  <a:pt x="9690" y="6949"/>
                  <a:pt x="9624" y="6995"/>
                </a:cubicBezTo>
                <a:cubicBezTo>
                  <a:pt x="9591" y="7018"/>
                  <a:pt x="9599" y="7035"/>
                  <a:pt x="9599" y="7069"/>
                </a:cubicBezTo>
                <a:cubicBezTo>
                  <a:pt x="9652" y="7109"/>
                  <a:pt x="9674" y="7115"/>
                  <a:pt x="9748" y="7119"/>
                </a:cubicBezTo>
                <a:cubicBezTo>
                  <a:pt x="9850" y="7124"/>
                  <a:pt x="9952" y="7129"/>
                  <a:pt x="10046" y="7094"/>
                </a:cubicBezTo>
              </a:path>
              <a:path w="2060" h="1737">
                <a:moveTo>
                  <a:pt x="10244" y="7020"/>
                </a:moveTo>
                <a:cubicBezTo>
                  <a:pt x="10214" y="7067"/>
                  <a:pt x="10134" y="7164"/>
                  <a:pt x="10120" y="7218"/>
                </a:cubicBezTo>
                <a:cubicBezTo>
                  <a:pt x="10108" y="7264"/>
                  <a:pt x="10105" y="7296"/>
                  <a:pt x="10096" y="7342"/>
                </a:cubicBezTo>
                <a:cubicBezTo>
                  <a:pt x="10135" y="7308"/>
                  <a:pt x="10163" y="7274"/>
                  <a:pt x="10195" y="7218"/>
                </a:cubicBezTo>
                <a:cubicBezTo>
                  <a:pt x="10223" y="7170"/>
                  <a:pt x="10284" y="7062"/>
                  <a:pt x="10344" y="7045"/>
                </a:cubicBezTo>
                <a:cubicBezTo>
                  <a:pt x="10422" y="7023"/>
                  <a:pt x="10428" y="7080"/>
                  <a:pt x="10443" y="7119"/>
                </a:cubicBezTo>
                <a:cubicBezTo>
                  <a:pt x="10468" y="7184"/>
                  <a:pt x="10468" y="7221"/>
                  <a:pt x="10468" y="7293"/>
                </a:cubicBezTo>
                <a:cubicBezTo>
                  <a:pt x="10468" y="7318"/>
                  <a:pt x="10468" y="7342"/>
                  <a:pt x="10468" y="7367"/>
                </a:cubicBezTo>
                <a:cubicBezTo>
                  <a:pt x="10468" y="7430"/>
                  <a:pt x="10490" y="7247"/>
                  <a:pt x="10492" y="7243"/>
                </a:cubicBezTo>
                <a:cubicBezTo>
                  <a:pt x="10520" y="7178"/>
                  <a:pt x="10614" y="7133"/>
                  <a:pt x="10666" y="7094"/>
                </a:cubicBezTo>
                <a:cubicBezTo>
                  <a:pt x="10720" y="7053"/>
                  <a:pt x="10761" y="7065"/>
                  <a:pt x="10815" y="7094"/>
                </a:cubicBezTo>
                <a:cubicBezTo>
                  <a:pt x="10912" y="7146"/>
                  <a:pt x="10923" y="7197"/>
                  <a:pt x="10964" y="7293"/>
                </a:cubicBezTo>
                <a:cubicBezTo>
                  <a:pt x="10995" y="7366"/>
                  <a:pt x="11017" y="7450"/>
                  <a:pt x="11063" y="7516"/>
                </a:cubicBezTo>
                <a:cubicBezTo>
                  <a:pt x="11085" y="7547"/>
                  <a:pt x="11116" y="7614"/>
                  <a:pt x="11063" y="7640"/>
                </a:cubicBezTo>
                <a:cubicBezTo>
                  <a:pt x="11055" y="7640"/>
                  <a:pt x="11046" y="7640"/>
                  <a:pt x="11038" y="76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89640" y="2143080"/>
            <a:ext cx="1447560" cy="652680"/>
          </a:xfrm>
          <a:custGeom>
            <a:avLst/>
            <a:gdLst/>
            <a:ahLst/>
            <a:rect l="l" t="t" r="r" b="b"/>
            <a:pathLst>
              <a:path w="4019" h="1812">
                <a:moveTo>
                  <a:pt x="13097" y="6672"/>
                </a:moveTo>
                <a:cubicBezTo>
                  <a:pt x="13070" y="6815"/>
                  <a:pt x="13033" y="6952"/>
                  <a:pt x="12998" y="7094"/>
                </a:cubicBezTo>
                <a:cubicBezTo>
                  <a:pt x="12965" y="7226"/>
                  <a:pt x="12909" y="7371"/>
                  <a:pt x="12849" y="7491"/>
                </a:cubicBezTo>
                <a:cubicBezTo>
                  <a:pt x="12805" y="7579"/>
                  <a:pt x="12685" y="7838"/>
                  <a:pt x="12750" y="7764"/>
                </a:cubicBezTo>
                <a:cubicBezTo>
                  <a:pt x="12785" y="7725"/>
                  <a:pt x="12806" y="7594"/>
                  <a:pt x="12824" y="7541"/>
                </a:cubicBezTo>
                <a:cubicBezTo>
                  <a:pt x="12869" y="7407"/>
                  <a:pt x="12934" y="7278"/>
                  <a:pt x="12973" y="7144"/>
                </a:cubicBezTo>
                <a:cubicBezTo>
                  <a:pt x="13015" y="6999"/>
                  <a:pt x="13040" y="6844"/>
                  <a:pt x="13072" y="6697"/>
                </a:cubicBezTo>
                <a:cubicBezTo>
                  <a:pt x="13102" y="6556"/>
                  <a:pt x="13131" y="6414"/>
                  <a:pt x="13171" y="6276"/>
                </a:cubicBezTo>
                <a:cubicBezTo>
                  <a:pt x="13197" y="6185"/>
                  <a:pt x="13211" y="6087"/>
                  <a:pt x="13246" y="6003"/>
                </a:cubicBezTo>
                <a:cubicBezTo>
                  <a:pt x="13269" y="5980"/>
                  <a:pt x="13277" y="5976"/>
                  <a:pt x="13271" y="5953"/>
                </a:cubicBezTo>
                <a:cubicBezTo>
                  <a:pt x="13373" y="6004"/>
                  <a:pt x="13297" y="5855"/>
                  <a:pt x="13370" y="6052"/>
                </a:cubicBezTo>
                <a:cubicBezTo>
                  <a:pt x="13416" y="6177"/>
                  <a:pt x="13420" y="6294"/>
                  <a:pt x="13444" y="6424"/>
                </a:cubicBezTo>
                <a:cubicBezTo>
                  <a:pt x="13497" y="6714"/>
                  <a:pt x="13549" y="7004"/>
                  <a:pt x="13593" y="7293"/>
                </a:cubicBezTo>
                <a:cubicBezTo>
                  <a:pt x="13611" y="7409"/>
                  <a:pt x="13643" y="7495"/>
                  <a:pt x="13643" y="7615"/>
                </a:cubicBezTo>
                <a:cubicBezTo>
                  <a:pt x="13643" y="7661"/>
                  <a:pt x="13639" y="7763"/>
                  <a:pt x="13618" y="7665"/>
                </a:cubicBezTo>
                <a:cubicBezTo>
                  <a:pt x="13605" y="7606"/>
                  <a:pt x="13615" y="7575"/>
                  <a:pt x="13593" y="7516"/>
                </a:cubicBezTo>
              </a:path>
              <a:path w="4019" h="1812">
                <a:moveTo>
                  <a:pt x="12973" y="7144"/>
                </a:moveTo>
                <a:cubicBezTo>
                  <a:pt x="13061" y="7136"/>
                  <a:pt x="13134" y="7104"/>
                  <a:pt x="13221" y="7094"/>
                </a:cubicBezTo>
                <a:cubicBezTo>
                  <a:pt x="13329" y="7081"/>
                  <a:pt x="13434" y="7064"/>
                  <a:pt x="13543" y="7045"/>
                </a:cubicBezTo>
              </a:path>
              <a:path w="4019" h="1812">
                <a:moveTo>
                  <a:pt x="13841" y="7094"/>
                </a:moveTo>
                <a:cubicBezTo>
                  <a:pt x="13841" y="7276"/>
                  <a:pt x="13823" y="7468"/>
                  <a:pt x="13866" y="7640"/>
                </a:cubicBezTo>
                <a:cubicBezTo>
                  <a:pt x="13866" y="7648"/>
                  <a:pt x="13866" y="7657"/>
                  <a:pt x="13866" y="7665"/>
                </a:cubicBezTo>
                <a:cubicBezTo>
                  <a:pt x="13866" y="7539"/>
                  <a:pt x="13853" y="7410"/>
                  <a:pt x="13891" y="7293"/>
                </a:cubicBezTo>
                <a:cubicBezTo>
                  <a:pt x="13919" y="7208"/>
                  <a:pt x="13952" y="7125"/>
                  <a:pt x="13990" y="7045"/>
                </a:cubicBezTo>
                <a:cubicBezTo>
                  <a:pt x="14025" y="6972"/>
                  <a:pt x="14071" y="6934"/>
                  <a:pt x="14139" y="6896"/>
                </a:cubicBezTo>
              </a:path>
              <a:path w="4019" h="1812">
                <a:moveTo>
                  <a:pt x="14263" y="7392"/>
                </a:moveTo>
                <a:cubicBezTo>
                  <a:pt x="14285" y="7435"/>
                  <a:pt x="14289" y="7446"/>
                  <a:pt x="14312" y="7466"/>
                </a:cubicBezTo>
                <a:cubicBezTo>
                  <a:pt x="14359" y="7431"/>
                  <a:pt x="14388" y="7415"/>
                  <a:pt x="14436" y="7367"/>
                </a:cubicBezTo>
                <a:cubicBezTo>
                  <a:pt x="14475" y="7328"/>
                  <a:pt x="14524" y="7248"/>
                  <a:pt x="14536" y="7193"/>
                </a:cubicBezTo>
                <a:cubicBezTo>
                  <a:pt x="14546" y="7148"/>
                  <a:pt x="14536" y="7091"/>
                  <a:pt x="14536" y="7045"/>
                </a:cubicBezTo>
                <a:cubicBezTo>
                  <a:pt x="14484" y="7045"/>
                  <a:pt x="14455" y="7046"/>
                  <a:pt x="14412" y="7069"/>
                </a:cubicBezTo>
                <a:cubicBezTo>
                  <a:pt x="14353" y="7100"/>
                  <a:pt x="14272" y="7159"/>
                  <a:pt x="14238" y="7218"/>
                </a:cubicBezTo>
                <a:cubicBezTo>
                  <a:pt x="14204" y="7279"/>
                  <a:pt x="14167" y="7373"/>
                  <a:pt x="14163" y="7441"/>
                </a:cubicBezTo>
                <a:cubicBezTo>
                  <a:pt x="14160" y="7499"/>
                  <a:pt x="14184" y="7584"/>
                  <a:pt x="14238" y="7615"/>
                </a:cubicBezTo>
                <a:cubicBezTo>
                  <a:pt x="14301" y="7651"/>
                  <a:pt x="14422" y="7622"/>
                  <a:pt x="14486" y="7590"/>
                </a:cubicBezTo>
                <a:cubicBezTo>
                  <a:pt x="14511" y="7574"/>
                  <a:pt x="14535" y="7557"/>
                  <a:pt x="14560" y="7541"/>
                </a:cubicBezTo>
              </a:path>
              <a:path w="4019" h="1812">
                <a:moveTo>
                  <a:pt x="14957" y="6995"/>
                </a:moveTo>
                <a:cubicBezTo>
                  <a:pt x="14887" y="6967"/>
                  <a:pt x="14856" y="7028"/>
                  <a:pt x="14808" y="7094"/>
                </a:cubicBezTo>
                <a:cubicBezTo>
                  <a:pt x="14717" y="7219"/>
                  <a:pt x="14678" y="7363"/>
                  <a:pt x="14660" y="7516"/>
                </a:cubicBezTo>
                <a:cubicBezTo>
                  <a:pt x="14654" y="7568"/>
                  <a:pt x="14681" y="7611"/>
                  <a:pt x="14734" y="7615"/>
                </a:cubicBezTo>
                <a:cubicBezTo>
                  <a:pt x="14787" y="7619"/>
                  <a:pt x="14846" y="7608"/>
                  <a:pt x="14883" y="7565"/>
                </a:cubicBezTo>
                <a:cubicBezTo>
                  <a:pt x="14917" y="7526"/>
                  <a:pt x="14971" y="7417"/>
                  <a:pt x="14982" y="7367"/>
                </a:cubicBezTo>
                <a:cubicBezTo>
                  <a:pt x="14997" y="7300"/>
                  <a:pt x="14982" y="7213"/>
                  <a:pt x="14982" y="7144"/>
                </a:cubicBezTo>
                <a:cubicBezTo>
                  <a:pt x="14995" y="7197"/>
                  <a:pt x="15007" y="7229"/>
                  <a:pt x="15007" y="7293"/>
                </a:cubicBezTo>
                <a:cubicBezTo>
                  <a:pt x="15007" y="7359"/>
                  <a:pt x="15043" y="7435"/>
                  <a:pt x="15081" y="7491"/>
                </a:cubicBezTo>
                <a:cubicBezTo>
                  <a:pt x="15114" y="7538"/>
                  <a:pt x="15162" y="7558"/>
                  <a:pt x="15205" y="7590"/>
                </a:cubicBezTo>
                <a:cubicBezTo>
                  <a:pt x="15213" y="7598"/>
                  <a:pt x="15222" y="7607"/>
                  <a:pt x="15230" y="7615"/>
                </a:cubicBezTo>
                <a:cubicBezTo>
                  <a:pt x="15272" y="7573"/>
                  <a:pt x="15300" y="7543"/>
                  <a:pt x="15329" y="7491"/>
                </a:cubicBezTo>
              </a:path>
              <a:path w="4019" h="1812">
                <a:moveTo>
                  <a:pt x="15404" y="7094"/>
                </a:moveTo>
                <a:cubicBezTo>
                  <a:pt x="15504" y="7094"/>
                  <a:pt x="15591" y="7093"/>
                  <a:pt x="15677" y="7119"/>
                </a:cubicBezTo>
                <a:cubicBezTo>
                  <a:pt x="15685" y="7119"/>
                  <a:pt x="15693" y="7119"/>
                  <a:pt x="15701" y="7119"/>
                </a:cubicBezTo>
              </a:path>
              <a:path w="4019" h="1812">
                <a:moveTo>
                  <a:pt x="15404" y="7317"/>
                </a:moveTo>
                <a:cubicBezTo>
                  <a:pt x="15499" y="7335"/>
                  <a:pt x="15554" y="7323"/>
                  <a:pt x="15652" y="7293"/>
                </a:cubicBezTo>
                <a:cubicBezTo>
                  <a:pt x="15677" y="7285"/>
                  <a:pt x="15701" y="7276"/>
                  <a:pt x="15726" y="7268"/>
                </a:cubicBezTo>
              </a:path>
              <a:path w="4019" h="1812">
                <a:moveTo>
                  <a:pt x="16272" y="6127"/>
                </a:moveTo>
                <a:cubicBezTo>
                  <a:pt x="16249" y="6202"/>
                  <a:pt x="16247" y="6247"/>
                  <a:pt x="16247" y="6325"/>
                </a:cubicBezTo>
                <a:cubicBezTo>
                  <a:pt x="16247" y="6400"/>
                  <a:pt x="16260" y="6455"/>
                  <a:pt x="16272" y="6524"/>
                </a:cubicBezTo>
                <a:cubicBezTo>
                  <a:pt x="16281" y="6579"/>
                  <a:pt x="16268" y="6627"/>
                  <a:pt x="16297" y="6672"/>
                </a:cubicBezTo>
                <a:cubicBezTo>
                  <a:pt x="16305" y="6680"/>
                  <a:pt x="16313" y="6689"/>
                  <a:pt x="16321" y="6697"/>
                </a:cubicBezTo>
              </a:path>
              <a:path w="4019" h="1812">
                <a:moveTo>
                  <a:pt x="16669" y="6003"/>
                </a:moveTo>
                <a:cubicBezTo>
                  <a:pt x="16639" y="6131"/>
                  <a:pt x="16587" y="6227"/>
                  <a:pt x="16545" y="6350"/>
                </a:cubicBezTo>
                <a:cubicBezTo>
                  <a:pt x="16495" y="6495"/>
                  <a:pt x="16450" y="6629"/>
                  <a:pt x="16396" y="6772"/>
                </a:cubicBezTo>
                <a:cubicBezTo>
                  <a:pt x="16327" y="6953"/>
                  <a:pt x="16262" y="7136"/>
                  <a:pt x="16197" y="7317"/>
                </a:cubicBezTo>
                <a:cubicBezTo>
                  <a:pt x="16164" y="7409"/>
                  <a:pt x="16128" y="7531"/>
                  <a:pt x="16073" y="7615"/>
                </a:cubicBezTo>
                <a:cubicBezTo>
                  <a:pt x="16054" y="7644"/>
                  <a:pt x="16038" y="7662"/>
                  <a:pt x="16024" y="7689"/>
                </a:cubicBezTo>
                <a:cubicBezTo>
                  <a:pt x="16045" y="7640"/>
                  <a:pt x="16077" y="7592"/>
                  <a:pt x="16098" y="7541"/>
                </a:cubicBezTo>
                <a:cubicBezTo>
                  <a:pt x="16106" y="7516"/>
                  <a:pt x="16115" y="7491"/>
                  <a:pt x="16123" y="7466"/>
                </a:cubicBezTo>
              </a:path>
              <a:path w="4019" h="1812">
                <a:moveTo>
                  <a:pt x="16421" y="7045"/>
                </a:moveTo>
                <a:cubicBezTo>
                  <a:pt x="16515" y="7025"/>
                  <a:pt x="16546" y="7004"/>
                  <a:pt x="16619" y="7045"/>
                </a:cubicBezTo>
                <a:cubicBezTo>
                  <a:pt x="16700" y="7090"/>
                  <a:pt x="16694" y="7101"/>
                  <a:pt x="16694" y="7193"/>
                </a:cubicBezTo>
                <a:cubicBezTo>
                  <a:pt x="16694" y="7281"/>
                  <a:pt x="16619" y="7299"/>
                  <a:pt x="16570" y="7367"/>
                </a:cubicBezTo>
                <a:cubicBezTo>
                  <a:pt x="16523" y="7433"/>
                  <a:pt x="16471" y="7482"/>
                  <a:pt x="16421" y="7541"/>
                </a:cubicBezTo>
                <a:cubicBezTo>
                  <a:pt x="16396" y="7565"/>
                  <a:pt x="16387" y="7573"/>
                  <a:pt x="16371" y="7590"/>
                </a:cubicBezTo>
                <a:cubicBezTo>
                  <a:pt x="16398" y="7611"/>
                  <a:pt x="16488" y="7644"/>
                  <a:pt x="16520" y="7640"/>
                </a:cubicBezTo>
                <a:cubicBezTo>
                  <a:pt x="16593" y="7632"/>
                  <a:pt x="16662" y="7615"/>
                  <a:pt x="16743" y="7615"/>
                </a:cubicBezTo>
                <a:cubicBezTo>
                  <a:pt x="16768" y="7615"/>
                  <a:pt x="16776" y="7615"/>
                  <a:pt x="16768" y="7590"/>
                </a:cubicBezTo>
                <a:cubicBezTo>
                  <a:pt x="16737" y="7600"/>
                  <a:pt x="16732" y="7611"/>
                  <a:pt x="16743" y="7615"/>
                </a:cubicBezTo>
                <a:cubicBezTo>
                  <a:pt x="16783" y="7631"/>
                  <a:pt x="16768" y="7586"/>
                  <a:pt x="16768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05680" y="2232000"/>
            <a:ext cx="1268280" cy="536760"/>
          </a:xfrm>
          <a:custGeom>
            <a:avLst/>
            <a:gdLst/>
            <a:ahLst/>
            <a:rect l="l" t="t" r="r" b="b"/>
            <a:pathLst>
              <a:path w="3524" h="1489">
                <a:moveTo>
                  <a:pt x="17289" y="6400"/>
                </a:moveTo>
                <a:cubicBezTo>
                  <a:pt x="17289" y="6528"/>
                  <a:pt x="17275" y="6647"/>
                  <a:pt x="17264" y="6772"/>
                </a:cubicBezTo>
                <a:cubicBezTo>
                  <a:pt x="17253" y="6896"/>
                  <a:pt x="17250" y="7022"/>
                  <a:pt x="17239" y="7144"/>
                </a:cubicBezTo>
                <a:cubicBezTo>
                  <a:pt x="17227" y="7277"/>
                  <a:pt x="17206" y="7500"/>
                  <a:pt x="17264" y="7615"/>
                </a:cubicBezTo>
                <a:cubicBezTo>
                  <a:pt x="17278" y="7560"/>
                  <a:pt x="17286" y="7524"/>
                  <a:pt x="17289" y="7466"/>
                </a:cubicBezTo>
                <a:cubicBezTo>
                  <a:pt x="17294" y="7375"/>
                  <a:pt x="17327" y="7287"/>
                  <a:pt x="17338" y="7193"/>
                </a:cubicBezTo>
                <a:cubicBezTo>
                  <a:pt x="17346" y="7121"/>
                  <a:pt x="17362" y="7095"/>
                  <a:pt x="17413" y="7045"/>
                </a:cubicBezTo>
                <a:cubicBezTo>
                  <a:pt x="17467" y="6992"/>
                  <a:pt x="17518" y="7019"/>
                  <a:pt x="17562" y="7069"/>
                </a:cubicBezTo>
                <a:cubicBezTo>
                  <a:pt x="17639" y="7157"/>
                  <a:pt x="17661" y="7230"/>
                  <a:pt x="17661" y="7342"/>
                </a:cubicBezTo>
                <a:cubicBezTo>
                  <a:pt x="17661" y="7413"/>
                  <a:pt x="17671" y="7509"/>
                  <a:pt x="17611" y="7565"/>
                </a:cubicBezTo>
                <a:cubicBezTo>
                  <a:pt x="17549" y="7623"/>
                  <a:pt x="17487" y="7641"/>
                  <a:pt x="17413" y="7665"/>
                </a:cubicBezTo>
                <a:cubicBezTo>
                  <a:pt x="17352" y="7685"/>
                  <a:pt x="17318" y="7698"/>
                  <a:pt x="17264" y="7665"/>
                </a:cubicBezTo>
                <a:cubicBezTo>
                  <a:pt x="17207" y="7630"/>
                  <a:pt x="17267" y="7579"/>
                  <a:pt x="17289" y="7541"/>
                </a:cubicBezTo>
              </a:path>
              <a:path w="3524" h="1489">
                <a:moveTo>
                  <a:pt x="18231" y="7069"/>
                </a:moveTo>
                <a:cubicBezTo>
                  <a:pt x="18239" y="7086"/>
                  <a:pt x="18248" y="7102"/>
                  <a:pt x="18256" y="7119"/>
                </a:cubicBezTo>
                <a:cubicBezTo>
                  <a:pt x="18212" y="7108"/>
                  <a:pt x="18177" y="7055"/>
                  <a:pt x="18157" y="7045"/>
                </a:cubicBezTo>
                <a:cubicBezTo>
                  <a:pt x="18138" y="7036"/>
                  <a:pt x="18086" y="7005"/>
                  <a:pt x="18058" y="7020"/>
                </a:cubicBezTo>
                <a:cubicBezTo>
                  <a:pt x="18010" y="7047"/>
                  <a:pt x="17959" y="7099"/>
                  <a:pt x="17934" y="7144"/>
                </a:cubicBezTo>
                <a:cubicBezTo>
                  <a:pt x="17880" y="7242"/>
                  <a:pt x="17859" y="7309"/>
                  <a:pt x="17859" y="7417"/>
                </a:cubicBezTo>
                <a:cubicBezTo>
                  <a:pt x="17859" y="7505"/>
                  <a:pt x="17857" y="7545"/>
                  <a:pt x="17909" y="7615"/>
                </a:cubicBezTo>
                <a:cubicBezTo>
                  <a:pt x="17953" y="7673"/>
                  <a:pt x="17990" y="7665"/>
                  <a:pt x="18058" y="7665"/>
                </a:cubicBezTo>
                <a:cubicBezTo>
                  <a:pt x="18131" y="7665"/>
                  <a:pt x="18173" y="7663"/>
                  <a:pt x="18231" y="7615"/>
                </a:cubicBezTo>
                <a:cubicBezTo>
                  <a:pt x="18248" y="7598"/>
                  <a:pt x="18264" y="7582"/>
                  <a:pt x="18281" y="7565"/>
                </a:cubicBezTo>
              </a:path>
              <a:path w="3524" h="1489">
                <a:moveTo>
                  <a:pt x="18976" y="6970"/>
                </a:moveTo>
                <a:cubicBezTo>
                  <a:pt x="18992" y="6978"/>
                  <a:pt x="19009" y="6987"/>
                  <a:pt x="19025" y="6995"/>
                </a:cubicBezTo>
                <a:cubicBezTo>
                  <a:pt x="19025" y="6936"/>
                  <a:pt x="19017" y="6957"/>
                  <a:pt x="18976" y="6921"/>
                </a:cubicBezTo>
                <a:cubicBezTo>
                  <a:pt x="18926" y="6876"/>
                  <a:pt x="18921" y="6852"/>
                  <a:pt x="18852" y="6846"/>
                </a:cubicBezTo>
                <a:cubicBezTo>
                  <a:pt x="18797" y="6841"/>
                  <a:pt x="18728" y="6854"/>
                  <a:pt x="18678" y="6871"/>
                </a:cubicBezTo>
                <a:cubicBezTo>
                  <a:pt x="18648" y="6881"/>
                  <a:pt x="18533" y="6962"/>
                  <a:pt x="18529" y="6995"/>
                </a:cubicBezTo>
                <a:cubicBezTo>
                  <a:pt x="18523" y="7050"/>
                  <a:pt x="18592" y="7097"/>
                  <a:pt x="18628" y="7119"/>
                </a:cubicBezTo>
                <a:cubicBezTo>
                  <a:pt x="18707" y="7167"/>
                  <a:pt x="18785" y="7204"/>
                  <a:pt x="18852" y="7268"/>
                </a:cubicBezTo>
                <a:cubicBezTo>
                  <a:pt x="18903" y="7316"/>
                  <a:pt x="18977" y="7371"/>
                  <a:pt x="19000" y="7441"/>
                </a:cubicBezTo>
                <a:cubicBezTo>
                  <a:pt x="19026" y="7521"/>
                  <a:pt x="18976" y="7528"/>
                  <a:pt x="18926" y="7565"/>
                </a:cubicBezTo>
                <a:cubicBezTo>
                  <a:pt x="18880" y="7599"/>
                  <a:pt x="18812" y="7612"/>
                  <a:pt x="18752" y="7615"/>
                </a:cubicBezTo>
                <a:cubicBezTo>
                  <a:pt x="18715" y="7617"/>
                  <a:pt x="18624" y="7597"/>
                  <a:pt x="18604" y="7565"/>
                </a:cubicBezTo>
                <a:cubicBezTo>
                  <a:pt x="18604" y="7557"/>
                  <a:pt x="18604" y="7549"/>
                  <a:pt x="18604" y="7541"/>
                </a:cubicBezTo>
                <a:cubicBezTo>
                  <a:pt x="18645" y="7467"/>
                  <a:pt x="18693" y="7447"/>
                  <a:pt x="18752" y="7392"/>
                </a:cubicBezTo>
                <a:cubicBezTo>
                  <a:pt x="18802" y="7342"/>
                  <a:pt x="18851" y="7293"/>
                  <a:pt x="18901" y="7243"/>
                </a:cubicBezTo>
              </a:path>
              <a:path w="3524" h="1489">
                <a:moveTo>
                  <a:pt x="19174" y="7094"/>
                </a:moveTo>
                <a:cubicBezTo>
                  <a:pt x="19169" y="7191"/>
                  <a:pt x="19172" y="7321"/>
                  <a:pt x="19149" y="7417"/>
                </a:cubicBezTo>
                <a:cubicBezTo>
                  <a:pt x="19136" y="7473"/>
                  <a:pt x="19140" y="7564"/>
                  <a:pt x="19124" y="7541"/>
                </a:cubicBezTo>
                <a:cubicBezTo>
                  <a:pt x="19096" y="7512"/>
                  <a:pt x="19088" y="7499"/>
                  <a:pt x="19100" y="7466"/>
                </a:cubicBezTo>
              </a:path>
              <a:path w="3524" h="1489">
                <a:moveTo>
                  <a:pt x="19224" y="6722"/>
                </a:moveTo>
                <a:cubicBezTo>
                  <a:pt x="19240" y="6714"/>
                  <a:pt x="19257" y="6705"/>
                  <a:pt x="19273" y="6697"/>
                </a:cubicBezTo>
              </a:path>
              <a:path w="3524" h="1489">
                <a:moveTo>
                  <a:pt x="19447" y="7417"/>
                </a:moveTo>
                <a:cubicBezTo>
                  <a:pt x="19434" y="7485"/>
                  <a:pt x="19436" y="7563"/>
                  <a:pt x="19397" y="7615"/>
                </a:cubicBezTo>
                <a:cubicBezTo>
                  <a:pt x="19397" y="7534"/>
                  <a:pt x="19396" y="7468"/>
                  <a:pt x="19422" y="7392"/>
                </a:cubicBezTo>
                <a:cubicBezTo>
                  <a:pt x="19461" y="7279"/>
                  <a:pt x="19490" y="7181"/>
                  <a:pt x="19571" y="7094"/>
                </a:cubicBezTo>
                <a:cubicBezTo>
                  <a:pt x="19609" y="7053"/>
                  <a:pt x="19661" y="7052"/>
                  <a:pt x="19695" y="7069"/>
                </a:cubicBezTo>
                <a:cubicBezTo>
                  <a:pt x="19784" y="7113"/>
                  <a:pt x="19790" y="7248"/>
                  <a:pt x="19794" y="7342"/>
                </a:cubicBezTo>
                <a:cubicBezTo>
                  <a:pt x="19797" y="7423"/>
                  <a:pt x="19757" y="7497"/>
                  <a:pt x="19745" y="7565"/>
                </a:cubicBezTo>
                <a:cubicBezTo>
                  <a:pt x="19739" y="7598"/>
                  <a:pt x="19726" y="7692"/>
                  <a:pt x="19745" y="7615"/>
                </a:cubicBezTo>
                <a:cubicBezTo>
                  <a:pt x="19745" y="7580"/>
                  <a:pt x="19749" y="7563"/>
                  <a:pt x="19769" y="7541"/>
                </a:cubicBezTo>
              </a:path>
              <a:path w="3524" h="1489">
                <a:moveTo>
                  <a:pt x="20117" y="6896"/>
                </a:moveTo>
                <a:cubicBezTo>
                  <a:pt x="20109" y="6980"/>
                  <a:pt x="20088" y="7062"/>
                  <a:pt x="20067" y="7144"/>
                </a:cubicBezTo>
                <a:cubicBezTo>
                  <a:pt x="20046" y="7226"/>
                  <a:pt x="20010" y="7311"/>
                  <a:pt x="19993" y="7392"/>
                </a:cubicBezTo>
                <a:cubicBezTo>
                  <a:pt x="19982" y="7446"/>
                  <a:pt x="19930" y="7594"/>
                  <a:pt x="19943" y="7541"/>
                </a:cubicBezTo>
                <a:cubicBezTo>
                  <a:pt x="19957" y="7485"/>
                  <a:pt x="19974" y="7430"/>
                  <a:pt x="19993" y="7367"/>
                </a:cubicBezTo>
                <a:cubicBezTo>
                  <a:pt x="20030" y="7246"/>
                  <a:pt x="20034" y="7119"/>
                  <a:pt x="20067" y="6995"/>
                </a:cubicBezTo>
                <a:cubicBezTo>
                  <a:pt x="20110" y="6834"/>
                  <a:pt x="20164" y="6683"/>
                  <a:pt x="20216" y="6524"/>
                </a:cubicBezTo>
                <a:cubicBezTo>
                  <a:pt x="20249" y="6423"/>
                  <a:pt x="20291" y="6364"/>
                  <a:pt x="20340" y="6276"/>
                </a:cubicBezTo>
                <a:cubicBezTo>
                  <a:pt x="20380" y="6204"/>
                  <a:pt x="20367" y="6249"/>
                  <a:pt x="20414" y="6201"/>
                </a:cubicBezTo>
                <a:cubicBezTo>
                  <a:pt x="20430" y="6227"/>
                  <a:pt x="20457" y="6275"/>
                  <a:pt x="20464" y="6325"/>
                </a:cubicBezTo>
                <a:cubicBezTo>
                  <a:pt x="20479" y="6439"/>
                  <a:pt x="20504" y="6556"/>
                  <a:pt x="20513" y="6672"/>
                </a:cubicBezTo>
                <a:cubicBezTo>
                  <a:pt x="20529" y="6870"/>
                  <a:pt x="20574" y="7073"/>
                  <a:pt x="20613" y="7268"/>
                </a:cubicBezTo>
                <a:cubicBezTo>
                  <a:pt x="20632" y="7362"/>
                  <a:pt x="20659" y="7476"/>
                  <a:pt x="20687" y="7565"/>
                </a:cubicBezTo>
                <a:cubicBezTo>
                  <a:pt x="20698" y="7599"/>
                  <a:pt x="20769" y="7672"/>
                  <a:pt x="20737" y="7640"/>
                </a:cubicBezTo>
                <a:cubicBezTo>
                  <a:pt x="20712" y="7615"/>
                  <a:pt x="20704" y="7607"/>
                  <a:pt x="20687" y="7590"/>
                </a:cubicBezTo>
              </a:path>
              <a:path w="3524" h="1489">
                <a:moveTo>
                  <a:pt x="20017" y="7119"/>
                </a:moveTo>
                <a:cubicBezTo>
                  <a:pt x="20123" y="7084"/>
                  <a:pt x="20229" y="7054"/>
                  <a:pt x="20340" y="7045"/>
                </a:cubicBezTo>
                <a:cubicBezTo>
                  <a:pt x="20467" y="7034"/>
                  <a:pt x="20588" y="7037"/>
                  <a:pt x="20712" y="7020"/>
                </a:cubicBezTo>
                <a:cubicBezTo>
                  <a:pt x="20729" y="7020"/>
                  <a:pt x="20745" y="7020"/>
                  <a:pt x="20762" y="70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1880" y="3152880"/>
            <a:ext cx="2062080" cy="544320"/>
          </a:xfrm>
          <a:custGeom>
            <a:avLst/>
            <a:gdLst/>
            <a:ahLst/>
            <a:rect l="l" t="t" r="r" b="b"/>
            <a:pathLst>
              <a:path w="5731" h="1514">
                <a:moveTo>
                  <a:pt x="15032" y="9475"/>
                </a:moveTo>
                <a:cubicBezTo>
                  <a:pt x="15032" y="9446"/>
                  <a:pt x="15030" y="9475"/>
                  <a:pt x="15081" y="9475"/>
                </a:cubicBezTo>
                <a:cubicBezTo>
                  <a:pt x="15158" y="9475"/>
                  <a:pt x="15200" y="9451"/>
                  <a:pt x="15280" y="9451"/>
                </a:cubicBezTo>
                <a:cubicBezTo>
                  <a:pt x="15368" y="9451"/>
                  <a:pt x="15605" y="9451"/>
                  <a:pt x="15602" y="9451"/>
                </a:cubicBezTo>
                <a:cubicBezTo>
                  <a:pt x="15594" y="9451"/>
                  <a:pt x="15585" y="9451"/>
                  <a:pt x="15577" y="9451"/>
                </a:cubicBezTo>
              </a:path>
              <a:path w="5731" h="1514">
                <a:moveTo>
                  <a:pt x="15106" y="9748"/>
                </a:moveTo>
                <a:cubicBezTo>
                  <a:pt x="15081" y="9748"/>
                  <a:pt x="15073" y="9748"/>
                  <a:pt x="15081" y="9773"/>
                </a:cubicBezTo>
                <a:cubicBezTo>
                  <a:pt x="15217" y="9773"/>
                  <a:pt x="15349" y="9770"/>
                  <a:pt x="15478" y="9748"/>
                </a:cubicBezTo>
                <a:cubicBezTo>
                  <a:pt x="15527" y="9740"/>
                  <a:pt x="15527" y="9748"/>
                  <a:pt x="15577" y="9748"/>
                </a:cubicBezTo>
                <a:cubicBezTo>
                  <a:pt x="15585" y="9748"/>
                  <a:pt x="15594" y="9748"/>
                  <a:pt x="15602" y="9748"/>
                </a:cubicBezTo>
              </a:path>
              <a:path w="5731" h="1514">
                <a:moveTo>
                  <a:pt x="15925" y="9079"/>
                </a:moveTo>
                <a:cubicBezTo>
                  <a:pt x="15933" y="9018"/>
                  <a:pt x="15944" y="9003"/>
                  <a:pt x="15974" y="8954"/>
                </a:cubicBezTo>
                <a:cubicBezTo>
                  <a:pt x="16012" y="8891"/>
                  <a:pt x="16010" y="8912"/>
                  <a:pt x="16073" y="8880"/>
                </a:cubicBezTo>
                <a:cubicBezTo>
                  <a:pt x="16139" y="8847"/>
                  <a:pt x="16114" y="8835"/>
                  <a:pt x="16197" y="8830"/>
                </a:cubicBezTo>
                <a:cubicBezTo>
                  <a:pt x="16234" y="8828"/>
                  <a:pt x="16270" y="8838"/>
                  <a:pt x="16297" y="8855"/>
                </a:cubicBezTo>
                <a:cubicBezTo>
                  <a:pt x="16318" y="8868"/>
                  <a:pt x="16342" y="8958"/>
                  <a:pt x="16346" y="8979"/>
                </a:cubicBezTo>
                <a:cubicBezTo>
                  <a:pt x="16355" y="9032"/>
                  <a:pt x="16315" y="9102"/>
                  <a:pt x="16297" y="9153"/>
                </a:cubicBezTo>
                <a:cubicBezTo>
                  <a:pt x="16275" y="9217"/>
                  <a:pt x="16239" y="9294"/>
                  <a:pt x="16197" y="9351"/>
                </a:cubicBezTo>
                <a:cubicBezTo>
                  <a:pt x="16143" y="9425"/>
                  <a:pt x="16110" y="9467"/>
                  <a:pt x="16073" y="9550"/>
                </a:cubicBezTo>
                <a:cubicBezTo>
                  <a:pt x="16037" y="9631"/>
                  <a:pt x="15967" y="9692"/>
                  <a:pt x="15925" y="9773"/>
                </a:cubicBezTo>
                <a:cubicBezTo>
                  <a:pt x="15885" y="9849"/>
                  <a:pt x="15839" y="9919"/>
                  <a:pt x="15801" y="9996"/>
                </a:cubicBezTo>
                <a:cubicBezTo>
                  <a:pt x="15775" y="10047"/>
                  <a:pt x="15748" y="10096"/>
                  <a:pt x="15726" y="10145"/>
                </a:cubicBezTo>
                <a:cubicBezTo>
                  <a:pt x="15726" y="10173"/>
                  <a:pt x="15724" y="10184"/>
                  <a:pt x="15701" y="10195"/>
                </a:cubicBezTo>
                <a:cubicBezTo>
                  <a:pt x="15725" y="10183"/>
                  <a:pt x="15775" y="10152"/>
                  <a:pt x="15801" y="10145"/>
                </a:cubicBezTo>
                <a:cubicBezTo>
                  <a:pt x="15861" y="10129"/>
                  <a:pt x="15906" y="10120"/>
                  <a:pt x="15974" y="10120"/>
                </a:cubicBezTo>
                <a:cubicBezTo>
                  <a:pt x="16080" y="10120"/>
                  <a:pt x="16173" y="10128"/>
                  <a:pt x="16272" y="10145"/>
                </a:cubicBezTo>
                <a:cubicBezTo>
                  <a:pt x="16304" y="10150"/>
                  <a:pt x="16376" y="10170"/>
                  <a:pt x="16396" y="10195"/>
                </a:cubicBezTo>
                <a:cubicBezTo>
                  <a:pt x="16396" y="10203"/>
                  <a:pt x="16396" y="10212"/>
                  <a:pt x="16396" y="10220"/>
                </a:cubicBezTo>
                <a:cubicBezTo>
                  <a:pt x="16413" y="10203"/>
                  <a:pt x="16429" y="10187"/>
                  <a:pt x="16446" y="10170"/>
                </a:cubicBezTo>
              </a:path>
              <a:path w="5731" h="1514">
                <a:moveTo>
                  <a:pt x="16694" y="9178"/>
                </a:moveTo>
                <a:cubicBezTo>
                  <a:pt x="16720" y="9081"/>
                  <a:pt x="16710" y="9014"/>
                  <a:pt x="16768" y="8930"/>
                </a:cubicBezTo>
                <a:cubicBezTo>
                  <a:pt x="16810" y="8870"/>
                  <a:pt x="16878" y="8818"/>
                  <a:pt x="16942" y="8806"/>
                </a:cubicBezTo>
                <a:cubicBezTo>
                  <a:pt x="17004" y="8794"/>
                  <a:pt x="17092" y="8795"/>
                  <a:pt x="17140" y="8830"/>
                </a:cubicBezTo>
                <a:cubicBezTo>
                  <a:pt x="17177" y="8857"/>
                  <a:pt x="17230" y="8904"/>
                  <a:pt x="17214" y="8954"/>
                </a:cubicBezTo>
                <a:cubicBezTo>
                  <a:pt x="17197" y="9007"/>
                  <a:pt x="17173" y="9074"/>
                  <a:pt x="17140" y="9128"/>
                </a:cubicBezTo>
                <a:cubicBezTo>
                  <a:pt x="17093" y="9205"/>
                  <a:pt x="17071" y="9305"/>
                  <a:pt x="17016" y="9376"/>
                </a:cubicBezTo>
                <a:cubicBezTo>
                  <a:pt x="16956" y="9452"/>
                  <a:pt x="16907" y="9534"/>
                  <a:pt x="16867" y="9624"/>
                </a:cubicBezTo>
                <a:cubicBezTo>
                  <a:pt x="16828" y="9711"/>
                  <a:pt x="16785" y="9784"/>
                  <a:pt x="16743" y="9872"/>
                </a:cubicBezTo>
                <a:cubicBezTo>
                  <a:pt x="16712" y="9938"/>
                  <a:pt x="16675" y="9988"/>
                  <a:pt x="16644" y="10046"/>
                </a:cubicBezTo>
                <a:cubicBezTo>
                  <a:pt x="16610" y="10109"/>
                  <a:pt x="16612" y="10117"/>
                  <a:pt x="16644" y="10170"/>
                </a:cubicBezTo>
                <a:cubicBezTo>
                  <a:pt x="16684" y="10164"/>
                  <a:pt x="16734" y="10162"/>
                  <a:pt x="16768" y="10145"/>
                </a:cubicBezTo>
                <a:cubicBezTo>
                  <a:pt x="16825" y="10116"/>
                  <a:pt x="16872" y="10120"/>
                  <a:pt x="16942" y="10120"/>
                </a:cubicBezTo>
                <a:cubicBezTo>
                  <a:pt x="17031" y="10120"/>
                  <a:pt x="17141" y="10139"/>
                  <a:pt x="17214" y="10096"/>
                </a:cubicBezTo>
              </a:path>
              <a:path w="5731" h="1514">
                <a:moveTo>
                  <a:pt x="18058" y="9054"/>
                </a:moveTo>
                <a:cubicBezTo>
                  <a:pt x="18051" y="8988"/>
                  <a:pt x="18057" y="8927"/>
                  <a:pt x="17983" y="8905"/>
                </a:cubicBezTo>
                <a:cubicBezTo>
                  <a:pt x="17920" y="8886"/>
                  <a:pt x="17865" y="8921"/>
                  <a:pt x="17810" y="8930"/>
                </a:cubicBezTo>
                <a:cubicBezTo>
                  <a:pt x="17775" y="8936"/>
                  <a:pt x="17708" y="8953"/>
                  <a:pt x="17686" y="8979"/>
                </a:cubicBezTo>
                <a:cubicBezTo>
                  <a:pt x="17652" y="9019"/>
                  <a:pt x="17638" y="9055"/>
                  <a:pt x="17636" y="9103"/>
                </a:cubicBezTo>
                <a:cubicBezTo>
                  <a:pt x="17634" y="9154"/>
                  <a:pt x="17643" y="9187"/>
                  <a:pt x="17661" y="9227"/>
                </a:cubicBezTo>
                <a:cubicBezTo>
                  <a:pt x="17687" y="9286"/>
                  <a:pt x="17706" y="9342"/>
                  <a:pt x="17735" y="9401"/>
                </a:cubicBezTo>
                <a:cubicBezTo>
                  <a:pt x="17773" y="9479"/>
                  <a:pt x="17823" y="9543"/>
                  <a:pt x="17859" y="9624"/>
                </a:cubicBezTo>
                <a:cubicBezTo>
                  <a:pt x="17894" y="9701"/>
                  <a:pt x="17915" y="9767"/>
                  <a:pt x="17934" y="9847"/>
                </a:cubicBezTo>
                <a:cubicBezTo>
                  <a:pt x="17950" y="9913"/>
                  <a:pt x="17980" y="10045"/>
                  <a:pt x="17959" y="10120"/>
                </a:cubicBezTo>
                <a:cubicBezTo>
                  <a:pt x="17943" y="10176"/>
                  <a:pt x="17887" y="10216"/>
                  <a:pt x="17859" y="10244"/>
                </a:cubicBezTo>
                <a:cubicBezTo>
                  <a:pt x="17833" y="10270"/>
                  <a:pt x="17774" y="10284"/>
                  <a:pt x="17735" y="10269"/>
                </a:cubicBezTo>
                <a:cubicBezTo>
                  <a:pt x="17710" y="10259"/>
                  <a:pt x="17667" y="10192"/>
                  <a:pt x="17661" y="10170"/>
                </a:cubicBezTo>
                <a:cubicBezTo>
                  <a:pt x="17647" y="10119"/>
                  <a:pt x="17672" y="10016"/>
                  <a:pt x="17686" y="9971"/>
                </a:cubicBezTo>
                <a:cubicBezTo>
                  <a:pt x="17708" y="9899"/>
                  <a:pt x="17755" y="9817"/>
                  <a:pt x="17785" y="9748"/>
                </a:cubicBezTo>
                <a:cubicBezTo>
                  <a:pt x="17829" y="9648"/>
                  <a:pt x="17880" y="9583"/>
                  <a:pt x="17909" y="9475"/>
                </a:cubicBezTo>
                <a:cubicBezTo>
                  <a:pt x="17928" y="9405"/>
                  <a:pt x="17950" y="9364"/>
                  <a:pt x="17983" y="9302"/>
                </a:cubicBezTo>
                <a:cubicBezTo>
                  <a:pt x="18007" y="9256"/>
                  <a:pt x="18010" y="9195"/>
                  <a:pt x="18033" y="9153"/>
                </a:cubicBezTo>
                <a:cubicBezTo>
                  <a:pt x="18058" y="9128"/>
                  <a:pt x="18066" y="9120"/>
                  <a:pt x="18083" y="9103"/>
                </a:cubicBezTo>
              </a:path>
              <a:path w="5731" h="1514">
                <a:moveTo>
                  <a:pt x="18777" y="9079"/>
                </a:moveTo>
                <a:cubicBezTo>
                  <a:pt x="18770" y="9032"/>
                  <a:pt x="18771" y="9021"/>
                  <a:pt x="18752" y="8979"/>
                </a:cubicBezTo>
                <a:cubicBezTo>
                  <a:pt x="18740" y="8952"/>
                  <a:pt x="18677" y="8911"/>
                  <a:pt x="18653" y="8905"/>
                </a:cubicBezTo>
                <a:cubicBezTo>
                  <a:pt x="18620" y="8896"/>
                  <a:pt x="18577" y="8916"/>
                  <a:pt x="18554" y="8930"/>
                </a:cubicBezTo>
                <a:cubicBezTo>
                  <a:pt x="18487" y="8970"/>
                  <a:pt x="18419" y="9063"/>
                  <a:pt x="18380" y="9128"/>
                </a:cubicBezTo>
                <a:cubicBezTo>
                  <a:pt x="18354" y="9171"/>
                  <a:pt x="18339" y="9229"/>
                  <a:pt x="18331" y="9277"/>
                </a:cubicBezTo>
                <a:cubicBezTo>
                  <a:pt x="18321" y="9335"/>
                  <a:pt x="18352" y="9358"/>
                  <a:pt x="18380" y="9376"/>
                </a:cubicBezTo>
                <a:cubicBezTo>
                  <a:pt x="18415" y="9399"/>
                  <a:pt x="18461" y="9410"/>
                  <a:pt x="18504" y="9401"/>
                </a:cubicBezTo>
                <a:cubicBezTo>
                  <a:pt x="18569" y="9387"/>
                  <a:pt x="18603" y="9334"/>
                  <a:pt x="18653" y="9302"/>
                </a:cubicBezTo>
                <a:cubicBezTo>
                  <a:pt x="18708" y="9267"/>
                  <a:pt x="18730" y="9225"/>
                  <a:pt x="18777" y="9178"/>
                </a:cubicBezTo>
                <a:cubicBezTo>
                  <a:pt x="18810" y="9145"/>
                  <a:pt x="18842" y="9097"/>
                  <a:pt x="18852" y="9079"/>
                </a:cubicBezTo>
                <a:cubicBezTo>
                  <a:pt x="18825" y="9112"/>
                  <a:pt x="18820" y="9142"/>
                  <a:pt x="18802" y="9178"/>
                </a:cubicBezTo>
                <a:cubicBezTo>
                  <a:pt x="18768" y="9246"/>
                  <a:pt x="18742" y="9350"/>
                  <a:pt x="18728" y="9426"/>
                </a:cubicBezTo>
                <a:cubicBezTo>
                  <a:pt x="18704" y="9562"/>
                  <a:pt x="18707" y="9732"/>
                  <a:pt x="18703" y="9872"/>
                </a:cubicBezTo>
                <a:cubicBezTo>
                  <a:pt x="18700" y="9969"/>
                  <a:pt x="18711" y="10063"/>
                  <a:pt x="18728" y="10145"/>
                </a:cubicBezTo>
                <a:cubicBezTo>
                  <a:pt x="18728" y="10187"/>
                  <a:pt x="18728" y="10195"/>
                  <a:pt x="18728" y="10220"/>
                </a:cubicBezTo>
                <a:cubicBezTo>
                  <a:pt x="18746" y="10184"/>
                  <a:pt x="18750" y="10154"/>
                  <a:pt x="18777" y="10120"/>
                </a:cubicBezTo>
              </a:path>
              <a:path w="5731" h="1514">
                <a:moveTo>
                  <a:pt x="19199" y="9773"/>
                </a:moveTo>
                <a:cubicBezTo>
                  <a:pt x="19183" y="9826"/>
                  <a:pt x="19153" y="9893"/>
                  <a:pt x="19149" y="9947"/>
                </a:cubicBezTo>
                <a:cubicBezTo>
                  <a:pt x="19146" y="9992"/>
                  <a:pt x="19092" y="10106"/>
                  <a:pt x="19124" y="10145"/>
                </a:cubicBezTo>
                <a:cubicBezTo>
                  <a:pt x="19132" y="10145"/>
                  <a:pt x="19141" y="10145"/>
                  <a:pt x="19149" y="10145"/>
                </a:cubicBezTo>
                <a:cubicBezTo>
                  <a:pt x="19185" y="10133"/>
                  <a:pt x="19182" y="10110"/>
                  <a:pt x="19199" y="10071"/>
                </a:cubicBezTo>
                <a:cubicBezTo>
                  <a:pt x="19226" y="10008"/>
                  <a:pt x="19221" y="9930"/>
                  <a:pt x="19248" y="9872"/>
                </a:cubicBezTo>
                <a:cubicBezTo>
                  <a:pt x="19268" y="9828"/>
                  <a:pt x="19318" y="9763"/>
                  <a:pt x="19348" y="9723"/>
                </a:cubicBezTo>
                <a:cubicBezTo>
                  <a:pt x="19379" y="9682"/>
                  <a:pt x="19399" y="9674"/>
                  <a:pt x="19447" y="9674"/>
                </a:cubicBezTo>
                <a:cubicBezTo>
                  <a:pt x="19484" y="9723"/>
                  <a:pt x="19491" y="9782"/>
                  <a:pt x="19496" y="9847"/>
                </a:cubicBezTo>
                <a:cubicBezTo>
                  <a:pt x="19500" y="9907"/>
                  <a:pt x="19521" y="9955"/>
                  <a:pt x="19521" y="10021"/>
                </a:cubicBezTo>
                <a:cubicBezTo>
                  <a:pt x="19521" y="10077"/>
                  <a:pt x="19540" y="10104"/>
                  <a:pt x="19571" y="10145"/>
                </a:cubicBezTo>
                <a:cubicBezTo>
                  <a:pt x="19581" y="10107"/>
                  <a:pt x="19583" y="10061"/>
                  <a:pt x="19596" y="10021"/>
                </a:cubicBezTo>
                <a:cubicBezTo>
                  <a:pt x="19615" y="9964"/>
                  <a:pt x="19623" y="9901"/>
                  <a:pt x="19645" y="9847"/>
                </a:cubicBezTo>
                <a:cubicBezTo>
                  <a:pt x="19678" y="9766"/>
                  <a:pt x="19705" y="9747"/>
                  <a:pt x="19769" y="9699"/>
                </a:cubicBezTo>
                <a:cubicBezTo>
                  <a:pt x="19826" y="9656"/>
                  <a:pt x="19816" y="9649"/>
                  <a:pt x="19893" y="9649"/>
                </a:cubicBezTo>
                <a:cubicBezTo>
                  <a:pt x="19988" y="9649"/>
                  <a:pt x="19982" y="9681"/>
                  <a:pt x="20017" y="9748"/>
                </a:cubicBezTo>
                <a:cubicBezTo>
                  <a:pt x="20052" y="9814"/>
                  <a:pt x="20063" y="9923"/>
                  <a:pt x="20067" y="9996"/>
                </a:cubicBezTo>
                <a:cubicBezTo>
                  <a:pt x="20071" y="10062"/>
                  <a:pt x="20067" y="10129"/>
                  <a:pt x="20067" y="10195"/>
                </a:cubicBezTo>
                <a:cubicBezTo>
                  <a:pt x="20067" y="10241"/>
                  <a:pt x="20077" y="10171"/>
                  <a:pt x="20092" y="10145"/>
                </a:cubicBezTo>
                <a:cubicBezTo>
                  <a:pt x="20117" y="10096"/>
                  <a:pt x="20125" y="10079"/>
                  <a:pt x="20141" y="10046"/>
                </a:cubicBezTo>
              </a:path>
              <a:path w="5731" h="1514">
                <a:moveTo>
                  <a:pt x="20265" y="8905"/>
                </a:moveTo>
                <a:cubicBezTo>
                  <a:pt x="20275" y="8835"/>
                  <a:pt x="20278" y="8816"/>
                  <a:pt x="20340" y="8781"/>
                </a:cubicBezTo>
                <a:cubicBezTo>
                  <a:pt x="20385" y="8755"/>
                  <a:pt x="20486" y="8736"/>
                  <a:pt x="20538" y="8756"/>
                </a:cubicBezTo>
                <a:cubicBezTo>
                  <a:pt x="20552" y="8761"/>
                  <a:pt x="20659" y="8797"/>
                  <a:pt x="20662" y="8806"/>
                </a:cubicBezTo>
                <a:cubicBezTo>
                  <a:pt x="20676" y="8846"/>
                  <a:pt x="20663" y="8902"/>
                  <a:pt x="20638" y="8930"/>
                </a:cubicBezTo>
                <a:cubicBezTo>
                  <a:pt x="20601" y="8971"/>
                  <a:pt x="20596" y="9017"/>
                  <a:pt x="20563" y="9054"/>
                </a:cubicBezTo>
                <a:cubicBezTo>
                  <a:pt x="20527" y="9095"/>
                  <a:pt x="20513" y="9098"/>
                  <a:pt x="20513" y="9153"/>
                </a:cubicBezTo>
                <a:cubicBezTo>
                  <a:pt x="20513" y="9194"/>
                  <a:pt x="20559" y="9184"/>
                  <a:pt x="20588" y="9203"/>
                </a:cubicBezTo>
                <a:cubicBezTo>
                  <a:pt x="20632" y="9231"/>
                  <a:pt x="20655" y="9227"/>
                  <a:pt x="20712" y="9227"/>
                </a:cubicBezTo>
                <a:cubicBezTo>
                  <a:pt x="20755" y="9227"/>
                  <a:pt x="20750" y="9217"/>
                  <a:pt x="20762" y="92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2098800"/>
            <a:ext cx="3125880" cy="1527120"/>
          </a:xfrm>
          <a:custGeom>
            <a:avLst/>
            <a:gdLst/>
            <a:ahLst/>
            <a:rect l="l" t="t" r="r" b="b"/>
            <a:pathLst>
              <a:path w="8682" h="4243">
                <a:moveTo>
                  <a:pt x="3621" y="10021"/>
                </a:moveTo>
                <a:cubicBezTo>
                  <a:pt x="3628" y="10004"/>
                  <a:pt x="3606" y="9971"/>
                  <a:pt x="3621" y="9947"/>
                </a:cubicBezTo>
                <a:cubicBezTo>
                  <a:pt x="3638" y="9920"/>
                  <a:pt x="3650" y="9881"/>
                  <a:pt x="3671" y="9847"/>
                </a:cubicBezTo>
                <a:cubicBezTo>
                  <a:pt x="3750" y="9717"/>
                  <a:pt x="3893" y="9566"/>
                  <a:pt x="3994" y="9451"/>
                </a:cubicBezTo>
                <a:cubicBezTo>
                  <a:pt x="4091" y="9341"/>
                  <a:pt x="4194" y="9238"/>
                  <a:pt x="4291" y="9128"/>
                </a:cubicBezTo>
                <a:cubicBezTo>
                  <a:pt x="4505" y="8885"/>
                  <a:pt x="4698" y="8627"/>
                  <a:pt x="4911" y="8384"/>
                </a:cubicBezTo>
                <a:cubicBezTo>
                  <a:pt x="5110" y="8157"/>
                  <a:pt x="5309" y="7914"/>
                  <a:pt x="5482" y="7665"/>
                </a:cubicBezTo>
                <a:cubicBezTo>
                  <a:pt x="5602" y="7492"/>
                  <a:pt x="5728" y="7337"/>
                  <a:pt x="5854" y="7169"/>
                </a:cubicBezTo>
                <a:cubicBezTo>
                  <a:pt x="5968" y="7017"/>
                  <a:pt x="6066" y="6852"/>
                  <a:pt x="6176" y="6697"/>
                </a:cubicBezTo>
                <a:cubicBezTo>
                  <a:pt x="6282" y="6548"/>
                  <a:pt x="6400" y="6401"/>
                  <a:pt x="6499" y="6251"/>
                </a:cubicBezTo>
                <a:cubicBezTo>
                  <a:pt x="6557" y="6164"/>
                  <a:pt x="6609" y="6082"/>
                  <a:pt x="6672" y="6003"/>
                </a:cubicBezTo>
                <a:cubicBezTo>
                  <a:pt x="6707" y="5959"/>
                  <a:pt x="6777" y="5883"/>
                  <a:pt x="6796" y="5854"/>
                </a:cubicBezTo>
                <a:cubicBezTo>
                  <a:pt x="6796" y="5846"/>
                  <a:pt x="6796" y="5837"/>
                  <a:pt x="6796" y="5829"/>
                </a:cubicBezTo>
                <a:cubicBezTo>
                  <a:pt x="6807" y="5836"/>
                  <a:pt x="6848" y="5865"/>
                  <a:pt x="6871" y="5879"/>
                </a:cubicBezTo>
                <a:cubicBezTo>
                  <a:pt x="6907" y="5901"/>
                  <a:pt x="6932" y="5929"/>
                  <a:pt x="6970" y="5953"/>
                </a:cubicBezTo>
                <a:cubicBezTo>
                  <a:pt x="7119" y="6046"/>
                  <a:pt x="7268" y="6129"/>
                  <a:pt x="7417" y="6226"/>
                </a:cubicBezTo>
                <a:cubicBezTo>
                  <a:pt x="7577" y="6330"/>
                  <a:pt x="7732" y="6446"/>
                  <a:pt x="7888" y="6548"/>
                </a:cubicBezTo>
                <a:cubicBezTo>
                  <a:pt x="8062" y="6662"/>
                  <a:pt x="8240" y="6772"/>
                  <a:pt x="8409" y="6896"/>
                </a:cubicBezTo>
                <a:cubicBezTo>
                  <a:pt x="8561" y="7008"/>
                  <a:pt x="8705" y="7133"/>
                  <a:pt x="8855" y="7243"/>
                </a:cubicBezTo>
                <a:cubicBezTo>
                  <a:pt x="9102" y="7425"/>
                  <a:pt x="9355" y="7602"/>
                  <a:pt x="9599" y="7789"/>
                </a:cubicBezTo>
                <a:cubicBezTo>
                  <a:pt x="9773" y="7922"/>
                  <a:pt x="9943" y="8058"/>
                  <a:pt x="10120" y="8186"/>
                </a:cubicBezTo>
                <a:cubicBezTo>
                  <a:pt x="10293" y="8311"/>
                  <a:pt x="10471" y="8428"/>
                  <a:pt x="10641" y="8558"/>
                </a:cubicBezTo>
                <a:cubicBezTo>
                  <a:pt x="10842" y="8712"/>
                  <a:pt x="11039" y="8874"/>
                  <a:pt x="11237" y="9029"/>
                </a:cubicBezTo>
                <a:cubicBezTo>
                  <a:pt x="11380" y="9141"/>
                  <a:pt x="11510" y="9272"/>
                  <a:pt x="11658" y="9376"/>
                </a:cubicBezTo>
                <a:cubicBezTo>
                  <a:pt x="11767" y="9453"/>
                  <a:pt x="11880" y="9509"/>
                  <a:pt x="11981" y="9599"/>
                </a:cubicBezTo>
                <a:cubicBezTo>
                  <a:pt x="12048" y="9659"/>
                  <a:pt x="12112" y="9735"/>
                  <a:pt x="12179" y="9798"/>
                </a:cubicBezTo>
                <a:cubicBezTo>
                  <a:pt x="12213" y="9830"/>
                  <a:pt x="12245" y="9864"/>
                  <a:pt x="12278" y="9897"/>
                </a:cubicBezTo>
                <a:cubicBezTo>
                  <a:pt x="12240" y="9888"/>
                  <a:pt x="12215" y="9882"/>
                  <a:pt x="12179" y="9872"/>
                </a:cubicBezTo>
                <a:cubicBezTo>
                  <a:pt x="12130" y="9859"/>
                  <a:pt x="12080" y="9836"/>
                  <a:pt x="12030" y="9823"/>
                </a:cubicBezTo>
                <a:cubicBezTo>
                  <a:pt x="11888" y="9787"/>
                  <a:pt x="11729" y="9767"/>
                  <a:pt x="11584" y="9748"/>
                </a:cubicBezTo>
                <a:cubicBezTo>
                  <a:pt x="11429" y="9728"/>
                  <a:pt x="11268" y="9713"/>
                  <a:pt x="11112" y="9699"/>
                </a:cubicBezTo>
                <a:cubicBezTo>
                  <a:pt x="10914" y="9681"/>
                  <a:pt x="10716" y="9684"/>
                  <a:pt x="10517" y="9674"/>
                </a:cubicBezTo>
                <a:cubicBezTo>
                  <a:pt x="10220" y="9659"/>
                  <a:pt x="9924" y="9638"/>
                  <a:pt x="9624" y="9649"/>
                </a:cubicBezTo>
                <a:cubicBezTo>
                  <a:pt x="9367" y="9659"/>
                  <a:pt x="9113" y="9674"/>
                  <a:pt x="8855" y="9674"/>
                </a:cubicBezTo>
                <a:cubicBezTo>
                  <a:pt x="8581" y="9674"/>
                  <a:pt x="8311" y="9695"/>
                  <a:pt x="8037" y="9699"/>
                </a:cubicBezTo>
                <a:cubicBezTo>
                  <a:pt x="7680" y="9704"/>
                  <a:pt x="7326" y="9718"/>
                  <a:pt x="6970" y="9723"/>
                </a:cubicBezTo>
                <a:cubicBezTo>
                  <a:pt x="6700" y="9726"/>
                  <a:pt x="6421" y="9729"/>
                  <a:pt x="6152" y="9748"/>
                </a:cubicBezTo>
                <a:cubicBezTo>
                  <a:pt x="5904" y="9765"/>
                  <a:pt x="5655" y="9781"/>
                  <a:pt x="5407" y="9798"/>
                </a:cubicBezTo>
                <a:cubicBezTo>
                  <a:pt x="5142" y="9817"/>
                  <a:pt x="4876" y="9836"/>
                  <a:pt x="4614" y="9872"/>
                </a:cubicBezTo>
                <a:cubicBezTo>
                  <a:pt x="4427" y="9898"/>
                  <a:pt x="4226" y="9933"/>
                  <a:pt x="4043" y="9971"/>
                </a:cubicBezTo>
                <a:cubicBezTo>
                  <a:pt x="3962" y="9988"/>
                  <a:pt x="3875" y="10038"/>
                  <a:pt x="3795" y="10046"/>
                </a:cubicBezTo>
                <a:cubicBezTo>
                  <a:pt x="3759" y="10049"/>
                  <a:pt x="3758" y="10046"/>
                  <a:pt x="3721" y="10046"/>
                </a:cubicBezTo>
                <a:cubicBezTo>
                  <a:pt x="3721" y="10038"/>
                  <a:pt x="3721" y="10029"/>
                  <a:pt x="3721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A=5°15’, b=67, c=8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"/>
          <p:cNvSpPr/>
          <p:nvPr/>
        </p:nvSpPr>
        <p:spPr>
          <a:xfrm>
            <a:off x="1438200" y="1741320"/>
            <a:ext cx="3232080" cy="714600"/>
          </a:xfrm>
          <a:custGeom>
            <a:avLst/>
            <a:gdLst/>
            <a:ahLst/>
            <a:rect l="l" t="t" r="r" b="b"/>
            <a:pathLst>
              <a:path w="8980" h="1985">
                <a:moveTo>
                  <a:pt x="4217" y="5928"/>
                </a:moveTo>
                <a:cubicBezTo>
                  <a:pt x="4192" y="5994"/>
                  <a:pt x="4154" y="6083"/>
                  <a:pt x="4142" y="6152"/>
                </a:cubicBezTo>
                <a:cubicBezTo>
                  <a:pt x="4127" y="6243"/>
                  <a:pt x="4083" y="6336"/>
                  <a:pt x="4068" y="6424"/>
                </a:cubicBezTo>
                <a:cubicBezTo>
                  <a:pt x="4053" y="6512"/>
                  <a:pt x="4024" y="6566"/>
                  <a:pt x="3994" y="6648"/>
                </a:cubicBezTo>
                <a:cubicBezTo>
                  <a:pt x="3994" y="6656"/>
                  <a:pt x="3994" y="6664"/>
                  <a:pt x="3994" y="6672"/>
                </a:cubicBezTo>
                <a:cubicBezTo>
                  <a:pt x="4002" y="6599"/>
                  <a:pt x="4032" y="6547"/>
                  <a:pt x="4043" y="6474"/>
                </a:cubicBezTo>
                <a:cubicBezTo>
                  <a:pt x="4060" y="6363"/>
                  <a:pt x="4071" y="6233"/>
                  <a:pt x="4118" y="6127"/>
                </a:cubicBezTo>
                <a:cubicBezTo>
                  <a:pt x="4176" y="5997"/>
                  <a:pt x="4192" y="5864"/>
                  <a:pt x="4242" y="5730"/>
                </a:cubicBezTo>
                <a:cubicBezTo>
                  <a:pt x="4289" y="5605"/>
                  <a:pt x="4340" y="5482"/>
                  <a:pt x="4390" y="5358"/>
                </a:cubicBezTo>
                <a:cubicBezTo>
                  <a:pt x="4433" y="5251"/>
                  <a:pt x="4482" y="5159"/>
                  <a:pt x="4539" y="5060"/>
                </a:cubicBezTo>
                <a:cubicBezTo>
                  <a:pt x="4565" y="5015"/>
                  <a:pt x="4586" y="4936"/>
                  <a:pt x="4638" y="4911"/>
                </a:cubicBezTo>
                <a:cubicBezTo>
                  <a:pt x="4676" y="4893"/>
                  <a:pt x="4737" y="4912"/>
                  <a:pt x="4762" y="4936"/>
                </a:cubicBezTo>
                <a:cubicBezTo>
                  <a:pt x="4822" y="4992"/>
                  <a:pt x="4860" y="5130"/>
                  <a:pt x="4887" y="5209"/>
                </a:cubicBezTo>
                <a:cubicBezTo>
                  <a:pt x="4923" y="5315"/>
                  <a:pt x="4956" y="5423"/>
                  <a:pt x="4986" y="5531"/>
                </a:cubicBezTo>
                <a:cubicBezTo>
                  <a:pt x="5060" y="5801"/>
                  <a:pt x="5113" y="6077"/>
                  <a:pt x="5159" y="6350"/>
                </a:cubicBezTo>
                <a:cubicBezTo>
                  <a:pt x="5178" y="6463"/>
                  <a:pt x="5238" y="6562"/>
                  <a:pt x="5259" y="6672"/>
                </a:cubicBezTo>
                <a:cubicBezTo>
                  <a:pt x="5268" y="6718"/>
                  <a:pt x="5249" y="6787"/>
                  <a:pt x="5283" y="6821"/>
                </a:cubicBezTo>
                <a:cubicBezTo>
                  <a:pt x="5283" y="6813"/>
                  <a:pt x="5283" y="6804"/>
                  <a:pt x="5283" y="6796"/>
                </a:cubicBezTo>
                <a:cubicBezTo>
                  <a:pt x="5264" y="6773"/>
                  <a:pt x="5233" y="6744"/>
                  <a:pt x="5209" y="6697"/>
                </a:cubicBezTo>
              </a:path>
              <a:path w="8980" h="1985">
                <a:moveTo>
                  <a:pt x="4217" y="6077"/>
                </a:moveTo>
                <a:cubicBezTo>
                  <a:pt x="4314" y="6050"/>
                  <a:pt x="4412" y="6032"/>
                  <a:pt x="4514" y="6028"/>
                </a:cubicBezTo>
                <a:cubicBezTo>
                  <a:pt x="4610" y="6024"/>
                  <a:pt x="4698" y="6014"/>
                  <a:pt x="4787" y="6003"/>
                </a:cubicBezTo>
                <a:cubicBezTo>
                  <a:pt x="4851" y="5995"/>
                  <a:pt x="4921" y="6003"/>
                  <a:pt x="4986" y="6003"/>
                </a:cubicBezTo>
              </a:path>
              <a:path w="8980" h="1985">
                <a:moveTo>
                  <a:pt x="5755" y="5928"/>
                </a:moveTo>
                <a:cubicBezTo>
                  <a:pt x="5805" y="5899"/>
                  <a:pt x="5843" y="5904"/>
                  <a:pt x="5904" y="5904"/>
                </a:cubicBezTo>
                <a:cubicBezTo>
                  <a:pt x="5961" y="5904"/>
                  <a:pt x="6014" y="5879"/>
                  <a:pt x="6077" y="5879"/>
                </a:cubicBezTo>
                <a:cubicBezTo>
                  <a:pt x="6102" y="5879"/>
                  <a:pt x="6127" y="5879"/>
                  <a:pt x="6152" y="5879"/>
                </a:cubicBezTo>
              </a:path>
              <a:path w="8980" h="1985">
                <a:moveTo>
                  <a:pt x="5655" y="6201"/>
                </a:moveTo>
                <a:cubicBezTo>
                  <a:pt x="5754" y="6222"/>
                  <a:pt x="5828" y="6226"/>
                  <a:pt x="5928" y="6226"/>
                </a:cubicBezTo>
                <a:cubicBezTo>
                  <a:pt x="6020" y="6226"/>
                  <a:pt x="6088" y="6225"/>
                  <a:pt x="6176" y="6201"/>
                </a:cubicBezTo>
              </a:path>
              <a:path w="8980" h="1985">
                <a:moveTo>
                  <a:pt x="6796" y="4911"/>
                </a:moveTo>
                <a:cubicBezTo>
                  <a:pt x="6796" y="5013"/>
                  <a:pt x="6817" y="5087"/>
                  <a:pt x="6821" y="5184"/>
                </a:cubicBezTo>
                <a:cubicBezTo>
                  <a:pt x="6825" y="5275"/>
                  <a:pt x="6856" y="5425"/>
                  <a:pt x="6846" y="5507"/>
                </a:cubicBezTo>
                <a:cubicBezTo>
                  <a:pt x="6840" y="5552"/>
                  <a:pt x="6821" y="5676"/>
                  <a:pt x="6821" y="5631"/>
                </a:cubicBezTo>
                <a:cubicBezTo>
                  <a:pt x="6821" y="5623"/>
                  <a:pt x="6821" y="5614"/>
                  <a:pt x="6821" y="5606"/>
                </a:cubicBezTo>
              </a:path>
              <a:path w="8980" h="1985">
                <a:moveTo>
                  <a:pt x="7441" y="4837"/>
                </a:moveTo>
                <a:cubicBezTo>
                  <a:pt x="7416" y="4907"/>
                  <a:pt x="7395" y="4979"/>
                  <a:pt x="7367" y="5060"/>
                </a:cubicBezTo>
                <a:cubicBezTo>
                  <a:pt x="7329" y="5170"/>
                  <a:pt x="7281" y="5278"/>
                  <a:pt x="7243" y="5383"/>
                </a:cubicBezTo>
                <a:cubicBezTo>
                  <a:pt x="7194" y="5519"/>
                  <a:pt x="7190" y="5668"/>
                  <a:pt x="7144" y="5804"/>
                </a:cubicBezTo>
                <a:cubicBezTo>
                  <a:pt x="7096" y="5947"/>
                  <a:pt x="7035" y="6082"/>
                  <a:pt x="6995" y="6226"/>
                </a:cubicBezTo>
                <a:cubicBezTo>
                  <a:pt x="6961" y="6348"/>
                  <a:pt x="6933" y="6445"/>
                  <a:pt x="6871" y="6548"/>
                </a:cubicBezTo>
                <a:cubicBezTo>
                  <a:pt x="6864" y="6559"/>
                  <a:pt x="6787" y="6718"/>
                  <a:pt x="6796" y="6648"/>
                </a:cubicBezTo>
                <a:cubicBezTo>
                  <a:pt x="6804" y="6631"/>
                  <a:pt x="6813" y="6615"/>
                  <a:pt x="6821" y="6598"/>
                </a:cubicBezTo>
              </a:path>
              <a:path w="8980" h="1985">
                <a:moveTo>
                  <a:pt x="7243" y="6052"/>
                </a:moveTo>
                <a:cubicBezTo>
                  <a:pt x="7313" y="6006"/>
                  <a:pt x="7445" y="5900"/>
                  <a:pt x="7541" y="5879"/>
                </a:cubicBezTo>
                <a:cubicBezTo>
                  <a:pt x="7580" y="5870"/>
                  <a:pt x="7666" y="5868"/>
                  <a:pt x="7689" y="5904"/>
                </a:cubicBezTo>
                <a:cubicBezTo>
                  <a:pt x="7717" y="5948"/>
                  <a:pt x="7672" y="6014"/>
                  <a:pt x="7665" y="6052"/>
                </a:cubicBezTo>
                <a:cubicBezTo>
                  <a:pt x="7652" y="6130"/>
                  <a:pt x="7599" y="6190"/>
                  <a:pt x="7541" y="6251"/>
                </a:cubicBezTo>
                <a:cubicBezTo>
                  <a:pt x="7471" y="6325"/>
                  <a:pt x="7379" y="6402"/>
                  <a:pt x="7317" y="6474"/>
                </a:cubicBezTo>
                <a:cubicBezTo>
                  <a:pt x="7285" y="6512"/>
                  <a:pt x="7268" y="6551"/>
                  <a:pt x="7268" y="6598"/>
                </a:cubicBezTo>
                <a:cubicBezTo>
                  <a:pt x="7318" y="6628"/>
                  <a:pt x="7355" y="6623"/>
                  <a:pt x="7417" y="6623"/>
                </a:cubicBezTo>
                <a:cubicBezTo>
                  <a:pt x="7515" y="6623"/>
                  <a:pt x="7576" y="6616"/>
                  <a:pt x="7665" y="6573"/>
                </a:cubicBezTo>
                <a:cubicBezTo>
                  <a:pt x="7711" y="6551"/>
                  <a:pt x="7750" y="6530"/>
                  <a:pt x="7789" y="6499"/>
                </a:cubicBezTo>
              </a:path>
              <a:path w="8980" h="1985">
                <a:moveTo>
                  <a:pt x="8334" y="5209"/>
                </a:moveTo>
                <a:cubicBezTo>
                  <a:pt x="8309" y="5303"/>
                  <a:pt x="8288" y="5411"/>
                  <a:pt x="8285" y="5507"/>
                </a:cubicBezTo>
                <a:cubicBezTo>
                  <a:pt x="8279" y="5667"/>
                  <a:pt x="8239" y="5819"/>
                  <a:pt x="8235" y="5978"/>
                </a:cubicBezTo>
                <a:cubicBezTo>
                  <a:pt x="8232" y="6088"/>
                  <a:pt x="8229" y="6217"/>
                  <a:pt x="8210" y="6325"/>
                </a:cubicBezTo>
                <a:cubicBezTo>
                  <a:pt x="8197" y="6403"/>
                  <a:pt x="8186" y="6483"/>
                  <a:pt x="8161" y="6548"/>
                </a:cubicBezTo>
                <a:cubicBezTo>
                  <a:pt x="8174" y="6526"/>
                  <a:pt x="8172" y="6515"/>
                  <a:pt x="8186" y="6474"/>
                </a:cubicBezTo>
                <a:cubicBezTo>
                  <a:pt x="8208" y="6410"/>
                  <a:pt x="8215" y="6338"/>
                  <a:pt x="8235" y="6276"/>
                </a:cubicBezTo>
                <a:cubicBezTo>
                  <a:pt x="8256" y="6211"/>
                  <a:pt x="8295" y="6105"/>
                  <a:pt x="8334" y="6052"/>
                </a:cubicBezTo>
                <a:cubicBezTo>
                  <a:pt x="8379" y="5991"/>
                  <a:pt x="8428" y="5934"/>
                  <a:pt x="8483" y="5879"/>
                </a:cubicBezTo>
                <a:cubicBezTo>
                  <a:pt x="8515" y="5847"/>
                  <a:pt x="8587" y="5840"/>
                  <a:pt x="8632" y="5854"/>
                </a:cubicBezTo>
                <a:cubicBezTo>
                  <a:pt x="8693" y="5873"/>
                  <a:pt x="8712" y="5984"/>
                  <a:pt x="8731" y="6028"/>
                </a:cubicBezTo>
                <a:cubicBezTo>
                  <a:pt x="8764" y="6104"/>
                  <a:pt x="8772" y="6216"/>
                  <a:pt x="8756" y="6300"/>
                </a:cubicBezTo>
                <a:cubicBezTo>
                  <a:pt x="8736" y="6409"/>
                  <a:pt x="8664" y="6511"/>
                  <a:pt x="8582" y="6573"/>
                </a:cubicBezTo>
                <a:cubicBezTo>
                  <a:pt x="8515" y="6624"/>
                  <a:pt x="8439" y="6659"/>
                  <a:pt x="8359" y="6672"/>
                </a:cubicBezTo>
                <a:cubicBezTo>
                  <a:pt x="8339" y="6675"/>
                  <a:pt x="8241" y="6668"/>
                  <a:pt x="8235" y="6648"/>
                </a:cubicBezTo>
                <a:cubicBezTo>
                  <a:pt x="8227" y="6623"/>
                  <a:pt x="8274" y="6568"/>
                  <a:pt x="8285" y="6548"/>
                </a:cubicBezTo>
              </a:path>
              <a:path w="8980" h="1985">
                <a:moveTo>
                  <a:pt x="9401" y="5953"/>
                </a:moveTo>
                <a:cubicBezTo>
                  <a:pt x="9442" y="5953"/>
                  <a:pt x="9450" y="5953"/>
                  <a:pt x="9475" y="5953"/>
                </a:cubicBezTo>
                <a:cubicBezTo>
                  <a:pt x="9453" y="5923"/>
                  <a:pt x="9440" y="5871"/>
                  <a:pt x="9401" y="5854"/>
                </a:cubicBezTo>
                <a:cubicBezTo>
                  <a:pt x="9366" y="5838"/>
                  <a:pt x="9325" y="5858"/>
                  <a:pt x="9302" y="5879"/>
                </a:cubicBezTo>
                <a:cubicBezTo>
                  <a:pt x="9258" y="5918"/>
                  <a:pt x="9230" y="5951"/>
                  <a:pt x="9203" y="6003"/>
                </a:cubicBezTo>
                <a:cubicBezTo>
                  <a:pt x="9166" y="6072"/>
                  <a:pt x="9134" y="6127"/>
                  <a:pt x="9103" y="6201"/>
                </a:cubicBezTo>
                <a:cubicBezTo>
                  <a:pt x="9070" y="6278"/>
                  <a:pt x="9054" y="6315"/>
                  <a:pt x="9054" y="6400"/>
                </a:cubicBezTo>
                <a:cubicBezTo>
                  <a:pt x="9054" y="6440"/>
                  <a:pt x="9087" y="6506"/>
                  <a:pt x="9128" y="6524"/>
                </a:cubicBezTo>
                <a:cubicBezTo>
                  <a:pt x="9152" y="6535"/>
                  <a:pt x="9227" y="6578"/>
                  <a:pt x="9252" y="6573"/>
                </a:cubicBezTo>
                <a:cubicBezTo>
                  <a:pt x="9320" y="6559"/>
                  <a:pt x="9373" y="6541"/>
                  <a:pt x="9426" y="6499"/>
                </a:cubicBezTo>
              </a:path>
              <a:path w="8980" h="1985">
                <a:moveTo>
                  <a:pt x="10517" y="5308"/>
                </a:moveTo>
                <a:cubicBezTo>
                  <a:pt x="10517" y="5292"/>
                  <a:pt x="10517" y="5275"/>
                  <a:pt x="10517" y="5259"/>
                </a:cubicBezTo>
                <a:cubicBezTo>
                  <a:pt x="10441" y="5270"/>
                  <a:pt x="10404" y="5294"/>
                  <a:pt x="10319" y="5333"/>
                </a:cubicBezTo>
                <a:cubicBezTo>
                  <a:pt x="10245" y="5367"/>
                  <a:pt x="10203" y="5409"/>
                  <a:pt x="10145" y="5457"/>
                </a:cubicBezTo>
                <a:cubicBezTo>
                  <a:pt x="10101" y="5494"/>
                  <a:pt x="10075" y="5575"/>
                  <a:pt x="10096" y="5631"/>
                </a:cubicBezTo>
                <a:cubicBezTo>
                  <a:pt x="10120" y="5694"/>
                  <a:pt x="10186" y="5769"/>
                  <a:pt x="10220" y="5829"/>
                </a:cubicBezTo>
                <a:cubicBezTo>
                  <a:pt x="10264" y="5907"/>
                  <a:pt x="10325" y="5970"/>
                  <a:pt x="10368" y="6052"/>
                </a:cubicBezTo>
                <a:cubicBezTo>
                  <a:pt x="10414" y="6140"/>
                  <a:pt x="10427" y="6192"/>
                  <a:pt x="10418" y="6276"/>
                </a:cubicBezTo>
                <a:cubicBezTo>
                  <a:pt x="10409" y="6354"/>
                  <a:pt x="10353" y="6422"/>
                  <a:pt x="10269" y="6449"/>
                </a:cubicBezTo>
                <a:cubicBezTo>
                  <a:pt x="10236" y="6460"/>
                  <a:pt x="10101" y="6483"/>
                  <a:pt x="10071" y="6474"/>
                </a:cubicBezTo>
                <a:cubicBezTo>
                  <a:pt x="10050" y="6468"/>
                  <a:pt x="10014" y="6438"/>
                  <a:pt x="9996" y="6424"/>
                </a:cubicBezTo>
                <a:cubicBezTo>
                  <a:pt x="10013" y="6380"/>
                  <a:pt x="10021" y="6341"/>
                  <a:pt x="10046" y="6300"/>
                </a:cubicBezTo>
              </a:path>
              <a:path w="8980" h="1985">
                <a:moveTo>
                  <a:pt x="10542" y="6077"/>
                </a:moveTo>
                <a:cubicBezTo>
                  <a:pt x="10567" y="6237"/>
                  <a:pt x="10552" y="6221"/>
                  <a:pt x="10542" y="6350"/>
                </a:cubicBezTo>
                <a:cubicBezTo>
                  <a:pt x="10538" y="6396"/>
                  <a:pt x="10500" y="6407"/>
                  <a:pt x="10492" y="6424"/>
                </a:cubicBezTo>
                <a:cubicBezTo>
                  <a:pt x="10472" y="6463"/>
                  <a:pt x="10492" y="6361"/>
                  <a:pt x="10492" y="6325"/>
                </a:cubicBezTo>
              </a:path>
              <a:path w="8980" h="1985">
                <a:moveTo>
                  <a:pt x="10765" y="5804"/>
                </a:moveTo>
                <a:cubicBezTo>
                  <a:pt x="10773" y="5788"/>
                  <a:pt x="10782" y="5771"/>
                  <a:pt x="10790" y="5755"/>
                </a:cubicBezTo>
              </a:path>
              <a:path w="8980" h="1985">
                <a:moveTo>
                  <a:pt x="10889" y="6201"/>
                </a:moveTo>
                <a:cubicBezTo>
                  <a:pt x="10884" y="6324"/>
                  <a:pt x="10864" y="6412"/>
                  <a:pt x="10864" y="6524"/>
                </a:cubicBezTo>
                <a:cubicBezTo>
                  <a:pt x="10864" y="6548"/>
                  <a:pt x="10864" y="6556"/>
                  <a:pt x="10864" y="6524"/>
                </a:cubicBezTo>
                <a:cubicBezTo>
                  <a:pt x="10864" y="6472"/>
                  <a:pt x="10876" y="6442"/>
                  <a:pt x="10889" y="6400"/>
                </a:cubicBezTo>
                <a:cubicBezTo>
                  <a:pt x="10915" y="6320"/>
                  <a:pt x="10934" y="6221"/>
                  <a:pt x="10988" y="6152"/>
                </a:cubicBezTo>
                <a:cubicBezTo>
                  <a:pt x="11028" y="6101"/>
                  <a:pt x="11122" y="6042"/>
                  <a:pt x="11187" y="6028"/>
                </a:cubicBezTo>
                <a:cubicBezTo>
                  <a:pt x="11248" y="6015"/>
                  <a:pt x="11293" y="6038"/>
                  <a:pt x="11336" y="6077"/>
                </a:cubicBezTo>
                <a:cubicBezTo>
                  <a:pt x="11378" y="6114"/>
                  <a:pt x="11361" y="6173"/>
                  <a:pt x="11361" y="6226"/>
                </a:cubicBezTo>
                <a:cubicBezTo>
                  <a:pt x="11361" y="6322"/>
                  <a:pt x="11332" y="6346"/>
                  <a:pt x="11311" y="6424"/>
                </a:cubicBezTo>
                <a:cubicBezTo>
                  <a:pt x="11303" y="6454"/>
                  <a:pt x="11288" y="6530"/>
                  <a:pt x="11261" y="6548"/>
                </a:cubicBezTo>
                <a:cubicBezTo>
                  <a:pt x="11237" y="6548"/>
                  <a:pt x="11229" y="6548"/>
                  <a:pt x="11237" y="6573"/>
                </a:cubicBezTo>
              </a:path>
              <a:path w="8980" h="1985">
                <a:moveTo>
                  <a:pt x="11633" y="6449"/>
                </a:moveTo>
                <a:cubicBezTo>
                  <a:pt x="11692" y="6399"/>
                  <a:pt x="11677" y="6424"/>
                  <a:pt x="11708" y="6350"/>
                </a:cubicBezTo>
                <a:cubicBezTo>
                  <a:pt x="11741" y="6271"/>
                  <a:pt x="11757" y="6208"/>
                  <a:pt x="11782" y="6127"/>
                </a:cubicBezTo>
                <a:cubicBezTo>
                  <a:pt x="11821" y="5999"/>
                  <a:pt x="11832" y="5860"/>
                  <a:pt x="11857" y="5730"/>
                </a:cubicBezTo>
                <a:cubicBezTo>
                  <a:pt x="11880" y="5611"/>
                  <a:pt x="11893" y="5499"/>
                  <a:pt x="11931" y="5383"/>
                </a:cubicBezTo>
                <a:cubicBezTo>
                  <a:pt x="11959" y="5296"/>
                  <a:pt x="11989" y="5216"/>
                  <a:pt x="12030" y="5135"/>
                </a:cubicBezTo>
                <a:cubicBezTo>
                  <a:pt x="12057" y="5081"/>
                  <a:pt x="12076" y="5053"/>
                  <a:pt x="12129" y="5035"/>
                </a:cubicBezTo>
                <a:cubicBezTo>
                  <a:pt x="12169" y="5022"/>
                  <a:pt x="12193" y="5051"/>
                  <a:pt x="12204" y="5085"/>
                </a:cubicBezTo>
                <a:cubicBezTo>
                  <a:pt x="12227" y="5158"/>
                  <a:pt x="12214" y="5232"/>
                  <a:pt x="12229" y="5308"/>
                </a:cubicBezTo>
                <a:cubicBezTo>
                  <a:pt x="12249" y="5414"/>
                  <a:pt x="12297" y="5528"/>
                  <a:pt x="12328" y="5631"/>
                </a:cubicBezTo>
                <a:cubicBezTo>
                  <a:pt x="12370" y="5771"/>
                  <a:pt x="12417" y="5921"/>
                  <a:pt x="12477" y="6052"/>
                </a:cubicBezTo>
                <a:cubicBezTo>
                  <a:pt x="12520" y="6146"/>
                  <a:pt x="12553" y="6258"/>
                  <a:pt x="12601" y="6350"/>
                </a:cubicBezTo>
                <a:cubicBezTo>
                  <a:pt x="12621" y="6389"/>
                  <a:pt x="12677" y="6457"/>
                  <a:pt x="12700" y="6474"/>
                </a:cubicBezTo>
                <a:cubicBezTo>
                  <a:pt x="12723" y="6497"/>
                  <a:pt x="12727" y="6505"/>
                  <a:pt x="12750" y="6499"/>
                </a:cubicBezTo>
                <a:cubicBezTo>
                  <a:pt x="12730" y="6459"/>
                  <a:pt x="12716" y="6419"/>
                  <a:pt x="12700" y="6375"/>
                </a:cubicBezTo>
              </a:path>
              <a:path w="8980" h="1985">
                <a:moveTo>
                  <a:pt x="12030" y="5829"/>
                </a:moveTo>
                <a:cubicBezTo>
                  <a:pt x="11869" y="5848"/>
                  <a:pt x="11712" y="5880"/>
                  <a:pt x="11559" y="5904"/>
                </a:cubicBezTo>
                <a:cubicBezTo>
                  <a:pt x="11518" y="5904"/>
                  <a:pt x="11510" y="5904"/>
                  <a:pt x="11485" y="5904"/>
                </a:cubicBezTo>
                <a:cubicBezTo>
                  <a:pt x="11620" y="5904"/>
                  <a:pt x="11749" y="5890"/>
                  <a:pt x="11881" y="5879"/>
                </a:cubicBezTo>
                <a:cubicBezTo>
                  <a:pt x="12073" y="5863"/>
                  <a:pt x="12264" y="5890"/>
                  <a:pt x="12452" y="5904"/>
                </a:cubicBezTo>
                <a:cubicBezTo>
                  <a:pt x="12580" y="5913"/>
                  <a:pt x="12697" y="5947"/>
                  <a:pt x="12824" y="5953"/>
                </a:cubicBezTo>
                <a:cubicBezTo>
                  <a:pt x="12875" y="5955"/>
                  <a:pt x="12975" y="5934"/>
                  <a:pt x="12948" y="5953"/>
                </a:cubicBezTo>
                <a:cubicBezTo>
                  <a:pt x="12925" y="5976"/>
                  <a:pt x="12921" y="5984"/>
                  <a:pt x="12898" y="59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84240" y="3106800"/>
            <a:ext cx="169920" cy="108000"/>
          </a:xfrm>
          <a:custGeom>
            <a:avLst/>
            <a:gdLst/>
            <a:ahLst/>
            <a:rect l="l" t="t" r="r" b="b"/>
            <a:pathLst>
              <a:path w="472" h="299">
                <a:moveTo>
                  <a:pt x="5383" y="8682"/>
                </a:moveTo>
                <a:cubicBezTo>
                  <a:pt x="5391" y="8682"/>
                  <a:pt x="5399" y="8682"/>
                  <a:pt x="5407" y="8682"/>
                </a:cubicBezTo>
                <a:cubicBezTo>
                  <a:pt x="5420" y="8644"/>
                  <a:pt x="5437" y="8657"/>
                  <a:pt x="5482" y="8657"/>
                </a:cubicBezTo>
                <a:cubicBezTo>
                  <a:pt x="5545" y="8657"/>
                  <a:pt x="5572" y="8637"/>
                  <a:pt x="5631" y="8632"/>
                </a:cubicBezTo>
                <a:cubicBezTo>
                  <a:pt x="5655" y="8630"/>
                  <a:pt x="5681" y="8632"/>
                  <a:pt x="5705" y="8632"/>
                </a:cubicBezTo>
              </a:path>
              <a:path w="472" h="299">
                <a:moveTo>
                  <a:pt x="5234" y="8930"/>
                </a:moveTo>
                <a:cubicBezTo>
                  <a:pt x="5360" y="8930"/>
                  <a:pt x="5485" y="8941"/>
                  <a:pt x="5606" y="89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20920" y="2830680"/>
            <a:ext cx="4332240" cy="723600"/>
          </a:xfrm>
          <a:custGeom>
            <a:avLst/>
            <a:gdLst/>
            <a:ahLst/>
            <a:rect l="l" t="t" r="r" b="b"/>
            <a:pathLst>
              <a:path w="12031" h="2010">
                <a:moveTo>
                  <a:pt x="6524" y="8086"/>
                </a:moveTo>
                <a:cubicBezTo>
                  <a:pt x="6524" y="8249"/>
                  <a:pt x="6550" y="8488"/>
                  <a:pt x="6499" y="8607"/>
                </a:cubicBezTo>
                <a:cubicBezTo>
                  <a:pt x="6474" y="8664"/>
                  <a:pt x="6519" y="8588"/>
                  <a:pt x="6524" y="8582"/>
                </a:cubicBezTo>
              </a:path>
              <a:path w="12031" h="2010">
                <a:moveTo>
                  <a:pt x="7119" y="7863"/>
                </a:moveTo>
                <a:cubicBezTo>
                  <a:pt x="7111" y="7934"/>
                  <a:pt x="7109" y="7971"/>
                  <a:pt x="7069" y="8037"/>
                </a:cubicBezTo>
                <a:cubicBezTo>
                  <a:pt x="7003" y="8146"/>
                  <a:pt x="6954" y="8248"/>
                  <a:pt x="6896" y="8359"/>
                </a:cubicBezTo>
                <a:cubicBezTo>
                  <a:pt x="6817" y="8513"/>
                  <a:pt x="6783" y="8670"/>
                  <a:pt x="6722" y="8830"/>
                </a:cubicBezTo>
                <a:cubicBezTo>
                  <a:pt x="6666" y="8977"/>
                  <a:pt x="6615" y="9126"/>
                  <a:pt x="6573" y="9277"/>
                </a:cubicBezTo>
                <a:cubicBezTo>
                  <a:pt x="6539" y="9398"/>
                  <a:pt x="6511" y="9532"/>
                  <a:pt x="6474" y="9649"/>
                </a:cubicBezTo>
                <a:cubicBezTo>
                  <a:pt x="6450" y="9723"/>
                  <a:pt x="6468" y="9688"/>
                  <a:pt x="6474" y="9649"/>
                </a:cubicBezTo>
                <a:cubicBezTo>
                  <a:pt x="6474" y="9632"/>
                  <a:pt x="6474" y="9616"/>
                  <a:pt x="6474" y="9599"/>
                </a:cubicBezTo>
              </a:path>
              <a:path w="12031" h="2010">
                <a:moveTo>
                  <a:pt x="6871" y="9004"/>
                </a:moveTo>
                <a:cubicBezTo>
                  <a:pt x="6954" y="8952"/>
                  <a:pt x="7026" y="8896"/>
                  <a:pt x="7119" y="8880"/>
                </a:cubicBezTo>
                <a:cubicBezTo>
                  <a:pt x="7161" y="8873"/>
                  <a:pt x="7243" y="8894"/>
                  <a:pt x="7268" y="8930"/>
                </a:cubicBezTo>
                <a:cubicBezTo>
                  <a:pt x="7291" y="8963"/>
                  <a:pt x="7312" y="9062"/>
                  <a:pt x="7293" y="9103"/>
                </a:cubicBezTo>
                <a:cubicBezTo>
                  <a:pt x="7260" y="9176"/>
                  <a:pt x="7195" y="9267"/>
                  <a:pt x="7144" y="9327"/>
                </a:cubicBezTo>
                <a:cubicBezTo>
                  <a:pt x="7096" y="9385"/>
                  <a:pt x="7015" y="9423"/>
                  <a:pt x="6970" y="9475"/>
                </a:cubicBezTo>
                <a:cubicBezTo>
                  <a:pt x="6932" y="9519"/>
                  <a:pt x="6941" y="9585"/>
                  <a:pt x="6896" y="9599"/>
                </a:cubicBezTo>
                <a:cubicBezTo>
                  <a:pt x="6905" y="9625"/>
                  <a:pt x="6914" y="9645"/>
                  <a:pt x="6945" y="9649"/>
                </a:cubicBezTo>
                <a:cubicBezTo>
                  <a:pt x="7038" y="9661"/>
                  <a:pt x="7129" y="9659"/>
                  <a:pt x="7218" y="9674"/>
                </a:cubicBezTo>
                <a:cubicBezTo>
                  <a:pt x="7283" y="9685"/>
                  <a:pt x="7392" y="9736"/>
                  <a:pt x="7367" y="9674"/>
                </a:cubicBezTo>
                <a:cubicBezTo>
                  <a:pt x="7367" y="9666"/>
                  <a:pt x="7367" y="9657"/>
                  <a:pt x="7367" y="9649"/>
                </a:cubicBezTo>
              </a:path>
              <a:path w="12031" h="2010">
                <a:moveTo>
                  <a:pt x="8037" y="8260"/>
                </a:moveTo>
                <a:cubicBezTo>
                  <a:pt x="8030" y="8319"/>
                  <a:pt x="8010" y="8352"/>
                  <a:pt x="7987" y="8409"/>
                </a:cubicBezTo>
                <a:cubicBezTo>
                  <a:pt x="7944" y="8518"/>
                  <a:pt x="7895" y="8620"/>
                  <a:pt x="7863" y="8731"/>
                </a:cubicBezTo>
                <a:cubicBezTo>
                  <a:pt x="7831" y="8840"/>
                  <a:pt x="7778" y="8967"/>
                  <a:pt x="7764" y="9079"/>
                </a:cubicBezTo>
                <a:cubicBezTo>
                  <a:pt x="7749" y="9206"/>
                  <a:pt x="7747" y="9303"/>
                  <a:pt x="7764" y="9426"/>
                </a:cubicBezTo>
                <a:cubicBezTo>
                  <a:pt x="7773" y="9495"/>
                  <a:pt x="7760" y="9560"/>
                  <a:pt x="7789" y="9624"/>
                </a:cubicBezTo>
                <a:cubicBezTo>
                  <a:pt x="7830" y="9712"/>
                  <a:pt x="7864" y="9655"/>
                  <a:pt x="7913" y="9624"/>
                </a:cubicBezTo>
              </a:path>
              <a:path w="12031" h="2010">
                <a:moveTo>
                  <a:pt x="8384" y="8706"/>
                </a:moveTo>
                <a:cubicBezTo>
                  <a:pt x="8384" y="8780"/>
                  <a:pt x="8367" y="8813"/>
                  <a:pt x="8334" y="8880"/>
                </a:cubicBezTo>
                <a:cubicBezTo>
                  <a:pt x="8291" y="8967"/>
                  <a:pt x="8266" y="9061"/>
                  <a:pt x="8235" y="9153"/>
                </a:cubicBezTo>
                <a:cubicBezTo>
                  <a:pt x="8210" y="9227"/>
                  <a:pt x="8187" y="9348"/>
                  <a:pt x="8210" y="9426"/>
                </a:cubicBezTo>
                <a:cubicBezTo>
                  <a:pt x="8221" y="9465"/>
                  <a:pt x="8271" y="9559"/>
                  <a:pt x="8310" y="9575"/>
                </a:cubicBezTo>
                <a:cubicBezTo>
                  <a:pt x="8372" y="9600"/>
                  <a:pt x="8445" y="9592"/>
                  <a:pt x="8508" y="9575"/>
                </a:cubicBezTo>
                <a:cubicBezTo>
                  <a:pt x="8603" y="9550"/>
                  <a:pt x="8627" y="9474"/>
                  <a:pt x="8706" y="9426"/>
                </a:cubicBezTo>
                <a:cubicBezTo>
                  <a:pt x="8760" y="9394"/>
                  <a:pt x="8776" y="9345"/>
                  <a:pt x="8781" y="9277"/>
                </a:cubicBezTo>
                <a:cubicBezTo>
                  <a:pt x="8785" y="9218"/>
                  <a:pt x="8748" y="9176"/>
                  <a:pt x="8682" y="9203"/>
                </a:cubicBezTo>
                <a:cubicBezTo>
                  <a:pt x="8625" y="9226"/>
                  <a:pt x="8589" y="9334"/>
                  <a:pt x="8558" y="9376"/>
                </a:cubicBezTo>
                <a:cubicBezTo>
                  <a:pt x="8528" y="9416"/>
                  <a:pt x="8522" y="9444"/>
                  <a:pt x="8508" y="9475"/>
                </a:cubicBezTo>
                <a:cubicBezTo>
                  <a:pt x="8490" y="9515"/>
                  <a:pt x="8469" y="9595"/>
                  <a:pt x="8508" y="9575"/>
                </a:cubicBezTo>
                <a:cubicBezTo>
                  <a:pt x="8516" y="9567"/>
                  <a:pt x="8525" y="9558"/>
                  <a:pt x="8533" y="9550"/>
                </a:cubicBezTo>
              </a:path>
              <a:path w="12031" h="2010">
                <a:moveTo>
                  <a:pt x="8954" y="8607"/>
                </a:moveTo>
                <a:cubicBezTo>
                  <a:pt x="9026" y="8607"/>
                  <a:pt x="9064" y="8586"/>
                  <a:pt x="9128" y="8582"/>
                </a:cubicBezTo>
                <a:cubicBezTo>
                  <a:pt x="9227" y="8576"/>
                  <a:pt x="9327" y="8582"/>
                  <a:pt x="9426" y="8582"/>
                </a:cubicBezTo>
                <a:cubicBezTo>
                  <a:pt x="9401" y="8613"/>
                  <a:pt x="9359" y="8671"/>
                  <a:pt x="9351" y="8706"/>
                </a:cubicBezTo>
                <a:cubicBezTo>
                  <a:pt x="9338" y="8767"/>
                  <a:pt x="9337" y="8845"/>
                  <a:pt x="9327" y="8905"/>
                </a:cubicBezTo>
                <a:cubicBezTo>
                  <a:pt x="9315" y="8976"/>
                  <a:pt x="9310" y="9061"/>
                  <a:pt x="9302" y="9128"/>
                </a:cubicBezTo>
                <a:cubicBezTo>
                  <a:pt x="9291" y="9215"/>
                  <a:pt x="9291" y="9318"/>
                  <a:pt x="9252" y="9401"/>
                </a:cubicBezTo>
                <a:cubicBezTo>
                  <a:pt x="9229" y="9450"/>
                  <a:pt x="9215" y="9487"/>
                  <a:pt x="9203" y="9550"/>
                </a:cubicBezTo>
                <a:cubicBezTo>
                  <a:pt x="9193" y="9602"/>
                  <a:pt x="9200" y="9496"/>
                  <a:pt x="9227" y="9451"/>
                </a:cubicBezTo>
                <a:cubicBezTo>
                  <a:pt x="9235" y="9451"/>
                  <a:pt x="9244" y="9451"/>
                  <a:pt x="9252" y="9451"/>
                </a:cubicBezTo>
              </a:path>
              <a:path w="12031" h="2010">
                <a:moveTo>
                  <a:pt x="9599" y="8235"/>
                </a:moveTo>
                <a:cubicBezTo>
                  <a:pt x="9734" y="8323"/>
                  <a:pt x="9773" y="8354"/>
                  <a:pt x="9847" y="8483"/>
                </a:cubicBezTo>
                <a:cubicBezTo>
                  <a:pt x="9932" y="8631"/>
                  <a:pt x="9981" y="8759"/>
                  <a:pt x="9996" y="8930"/>
                </a:cubicBezTo>
                <a:cubicBezTo>
                  <a:pt x="10006" y="9041"/>
                  <a:pt x="9977" y="9283"/>
                  <a:pt x="9922" y="9376"/>
                </a:cubicBezTo>
                <a:cubicBezTo>
                  <a:pt x="9859" y="9483"/>
                  <a:pt x="9770" y="9571"/>
                  <a:pt x="9674" y="9649"/>
                </a:cubicBezTo>
                <a:cubicBezTo>
                  <a:pt x="9631" y="9684"/>
                  <a:pt x="9603" y="9714"/>
                  <a:pt x="9575" y="9748"/>
                </a:cubicBezTo>
                <a:cubicBezTo>
                  <a:pt x="9517" y="9817"/>
                  <a:pt x="9582" y="9695"/>
                  <a:pt x="9599" y="9674"/>
                </a:cubicBezTo>
              </a:path>
              <a:path w="12031" h="2010">
                <a:moveTo>
                  <a:pt x="10492" y="8310"/>
                </a:moveTo>
                <a:cubicBezTo>
                  <a:pt x="10468" y="8368"/>
                  <a:pt x="10441" y="8423"/>
                  <a:pt x="10418" y="8483"/>
                </a:cubicBezTo>
                <a:cubicBezTo>
                  <a:pt x="10383" y="8572"/>
                  <a:pt x="10341" y="8699"/>
                  <a:pt x="10294" y="8781"/>
                </a:cubicBezTo>
                <a:cubicBezTo>
                  <a:pt x="10235" y="8885"/>
                  <a:pt x="10221" y="8962"/>
                  <a:pt x="10195" y="9079"/>
                </a:cubicBezTo>
                <a:cubicBezTo>
                  <a:pt x="10172" y="9181"/>
                  <a:pt x="10170" y="9270"/>
                  <a:pt x="10170" y="9376"/>
                </a:cubicBezTo>
                <a:cubicBezTo>
                  <a:pt x="10170" y="9428"/>
                  <a:pt x="10183" y="9544"/>
                  <a:pt x="10220" y="9575"/>
                </a:cubicBezTo>
                <a:cubicBezTo>
                  <a:pt x="10246" y="9597"/>
                  <a:pt x="10311" y="9647"/>
                  <a:pt x="10344" y="9649"/>
                </a:cubicBezTo>
                <a:cubicBezTo>
                  <a:pt x="10368" y="9649"/>
                  <a:pt x="10377" y="9649"/>
                  <a:pt x="10393" y="9649"/>
                </a:cubicBezTo>
              </a:path>
              <a:path w="12031" h="2010">
                <a:moveTo>
                  <a:pt x="11112" y="8806"/>
                </a:moveTo>
                <a:cubicBezTo>
                  <a:pt x="11123" y="8742"/>
                  <a:pt x="11176" y="8623"/>
                  <a:pt x="11088" y="8582"/>
                </a:cubicBezTo>
                <a:cubicBezTo>
                  <a:pt x="11023" y="8552"/>
                  <a:pt x="10952" y="8544"/>
                  <a:pt x="10889" y="8582"/>
                </a:cubicBezTo>
                <a:cubicBezTo>
                  <a:pt x="10842" y="8611"/>
                  <a:pt x="10821" y="8666"/>
                  <a:pt x="10790" y="8706"/>
                </a:cubicBezTo>
                <a:cubicBezTo>
                  <a:pt x="10752" y="8756"/>
                  <a:pt x="10770" y="8821"/>
                  <a:pt x="10790" y="8880"/>
                </a:cubicBezTo>
                <a:cubicBezTo>
                  <a:pt x="10818" y="8965"/>
                  <a:pt x="10864" y="9081"/>
                  <a:pt x="10914" y="9153"/>
                </a:cubicBezTo>
                <a:cubicBezTo>
                  <a:pt x="10964" y="9226"/>
                  <a:pt x="11019" y="9309"/>
                  <a:pt x="11038" y="9401"/>
                </a:cubicBezTo>
                <a:cubicBezTo>
                  <a:pt x="11048" y="9449"/>
                  <a:pt x="11051" y="9546"/>
                  <a:pt x="11013" y="9575"/>
                </a:cubicBezTo>
                <a:cubicBezTo>
                  <a:pt x="10999" y="9586"/>
                  <a:pt x="10938" y="9612"/>
                  <a:pt x="10914" y="9599"/>
                </a:cubicBezTo>
                <a:cubicBezTo>
                  <a:pt x="10859" y="9570"/>
                  <a:pt x="10864" y="9529"/>
                  <a:pt x="10864" y="9475"/>
                </a:cubicBezTo>
                <a:cubicBezTo>
                  <a:pt x="10864" y="9365"/>
                  <a:pt x="10952" y="9356"/>
                  <a:pt x="10988" y="9277"/>
                </a:cubicBezTo>
                <a:cubicBezTo>
                  <a:pt x="11022" y="9203"/>
                  <a:pt x="11052" y="9128"/>
                  <a:pt x="11088" y="9054"/>
                </a:cubicBezTo>
                <a:cubicBezTo>
                  <a:pt x="11121" y="8988"/>
                  <a:pt x="11125" y="8914"/>
                  <a:pt x="11162" y="8855"/>
                </a:cubicBezTo>
                <a:cubicBezTo>
                  <a:pt x="11190" y="8827"/>
                  <a:pt x="11199" y="8814"/>
                  <a:pt x="11187" y="8781"/>
                </a:cubicBezTo>
              </a:path>
              <a:path w="12031" h="2010">
                <a:moveTo>
                  <a:pt x="11609" y="8682"/>
                </a:moveTo>
                <a:cubicBezTo>
                  <a:pt x="11700" y="8682"/>
                  <a:pt x="11780" y="8673"/>
                  <a:pt x="11857" y="8657"/>
                </a:cubicBezTo>
                <a:cubicBezTo>
                  <a:pt x="11915" y="8645"/>
                  <a:pt x="11915" y="8679"/>
                  <a:pt x="11931" y="8632"/>
                </a:cubicBezTo>
              </a:path>
              <a:path w="12031" h="2010">
                <a:moveTo>
                  <a:pt x="11534" y="8806"/>
                </a:moveTo>
                <a:cubicBezTo>
                  <a:pt x="11482" y="8847"/>
                  <a:pt x="11418" y="8884"/>
                  <a:pt x="11410" y="8954"/>
                </a:cubicBezTo>
                <a:cubicBezTo>
                  <a:pt x="11410" y="8962"/>
                  <a:pt x="11410" y="8971"/>
                  <a:pt x="11410" y="8979"/>
                </a:cubicBezTo>
                <a:cubicBezTo>
                  <a:pt x="11460" y="8979"/>
                  <a:pt x="11469" y="8968"/>
                  <a:pt x="11509" y="8954"/>
                </a:cubicBezTo>
                <a:cubicBezTo>
                  <a:pt x="11525" y="8949"/>
                  <a:pt x="11600" y="8926"/>
                  <a:pt x="11609" y="8930"/>
                </a:cubicBezTo>
                <a:cubicBezTo>
                  <a:pt x="11677" y="8960"/>
                  <a:pt x="11744" y="9017"/>
                  <a:pt x="11782" y="9079"/>
                </a:cubicBezTo>
                <a:cubicBezTo>
                  <a:pt x="11830" y="9156"/>
                  <a:pt x="11832" y="9213"/>
                  <a:pt x="11832" y="9302"/>
                </a:cubicBezTo>
                <a:cubicBezTo>
                  <a:pt x="11832" y="9365"/>
                  <a:pt x="11803" y="9423"/>
                  <a:pt x="11782" y="9451"/>
                </a:cubicBezTo>
                <a:cubicBezTo>
                  <a:pt x="11730" y="9520"/>
                  <a:pt x="11687" y="9559"/>
                  <a:pt x="11609" y="9575"/>
                </a:cubicBezTo>
                <a:cubicBezTo>
                  <a:pt x="11560" y="9585"/>
                  <a:pt x="11475" y="9570"/>
                  <a:pt x="11435" y="9550"/>
                </a:cubicBezTo>
                <a:cubicBezTo>
                  <a:pt x="11427" y="9542"/>
                  <a:pt x="11418" y="9533"/>
                  <a:pt x="11410" y="9525"/>
                </a:cubicBezTo>
              </a:path>
              <a:path w="12031" h="2010">
                <a:moveTo>
                  <a:pt x="11881" y="8186"/>
                </a:moveTo>
                <a:cubicBezTo>
                  <a:pt x="12004" y="8194"/>
                  <a:pt x="12049" y="8208"/>
                  <a:pt x="12129" y="8310"/>
                </a:cubicBezTo>
                <a:cubicBezTo>
                  <a:pt x="12214" y="8418"/>
                  <a:pt x="12224" y="8552"/>
                  <a:pt x="12254" y="8682"/>
                </a:cubicBezTo>
                <a:cubicBezTo>
                  <a:pt x="12289" y="8837"/>
                  <a:pt x="12303" y="8969"/>
                  <a:pt x="12303" y="9128"/>
                </a:cubicBezTo>
                <a:cubicBezTo>
                  <a:pt x="12303" y="9264"/>
                  <a:pt x="12268" y="9403"/>
                  <a:pt x="12204" y="9525"/>
                </a:cubicBezTo>
                <a:cubicBezTo>
                  <a:pt x="12172" y="9587"/>
                  <a:pt x="12101" y="9679"/>
                  <a:pt x="12030" y="9699"/>
                </a:cubicBezTo>
                <a:cubicBezTo>
                  <a:pt x="12002" y="9707"/>
                  <a:pt x="11960" y="9699"/>
                  <a:pt x="11931" y="9699"/>
                </a:cubicBezTo>
              </a:path>
              <a:path w="12031" h="2010">
                <a:moveTo>
                  <a:pt x="13022" y="8880"/>
                </a:moveTo>
                <a:cubicBezTo>
                  <a:pt x="12937" y="8902"/>
                  <a:pt x="12849" y="8902"/>
                  <a:pt x="12774" y="8954"/>
                </a:cubicBezTo>
                <a:cubicBezTo>
                  <a:pt x="12750" y="8971"/>
                  <a:pt x="12661" y="9048"/>
                  <a:pt x="12675" y="9079"/>
                </a:cubicBezTo>
                <a:cubicBezTo>
                  <a:pt x="12699" y="9133"/>
                  <a:pt x="12757" y="9185"/>
                  <a:pt x="12799" y="9227"/>
                </a:cubicBezTo>
                <a:cubicBezTo>
                  <a:pt x="12907" y="9335"/>
                  <a:pt x="13024" y="9391"/>
                  <a:pt x="12973" y="9550"/>
                </a:cubicBezTo>
                <a:cubicBezTo>
                  <a:pt x="12950" y="9622"/>
                  <a:pt x="12902" y="9682"/>
                  <a:pt x="12824" y="9699"/>
                </a:cubicBezTo>
                <a:cubicBezTo>
                  <a:pt x="12792" y="9706"/>
                  <a:pt x="12592" y="9724"/>
                  <a:pt x="12576" y="9674"/>
                </a:cubicBezTo>
                <a:cubicBezTo>
                  <a:pt x="12557" y="9614"/>
                  <a:pt x="12586" y="9529"/>
                  <a:pt x="12601" y="9475"/>
                </a:cubicBezTo>
              </a:path>
              <a:path w="12031" h="2010">
                <a:moveTo>
                  <a:pt x="13295" y="9178"/>
                </a:moveTo>
                <a:cubicBezTo>
                  <a:pt x="13316" y="9301"/>
                  <a:pt x="13310" y="9370"/>
                  <a:pt x="13295" y="9475"/>
                </a:cubicBezTo>
                <a:cubicBezTo>
                  <a:pt x="13283" y="9556"/>
                  <a:pt x="13292" y="9628"/>
                  <a:pt x="13271" y="9699"/>
                </a:cubicBezTo>
                <a:cubicBezTo>
                  <a:pt x="13253" y="9759"/>
                  <a:pt x="13295" y="9746"/>
                  <a:pt x="13295" y="9674"/>
                </a:cubicBezTo>
              </a:path>
              <a:path w="12031" h="2010">
                <a:moveTo>
                  <a:pt x="13419" y="8781"/>
                </a:moveTo>
                <a:cubicBezTo>
                  <a:pt x="13436" y="8773"/>
                  <a:pt x="13452" y="8764"/>
                  <a:pt x="13469" y="8756"/>
                </a:cubicBezTo>
              </a:path>
              <a:path w="12031" h="2010">
                <a:moveTo>
                  <a:pt x="13618" y="9426"/>
                </a:moveTo>
                <a:cubicBezTo>
                  <a:pt x="13613" y="9518"/>
                  <a:pt x="13593" y="9586"/>
                  <a:pt x="13593" y="9674"/>
                </a:cubicBezTo>
                <a:cubicBezTo>
                  <a:pt x="13593" y="9699"/>
                  <a:pt x="13593" y="9707"/>
                  <a:pt x="13593" y="9674"/>
                </a:cubicBezTo>
                <a:cubicBezTo>
                  <a:pt x="13631" y="9611"/>
                  <a:pt x="13610" y="9551"/>
                  <a:pt x="13643" y="9475"/>
                </a:cubicBezTo>
                <a:cubicBezTo>
                  <a:pt x="13672" y="9410"/>
                  <a:pt x="13699" y="9366"/>
                  <a:pt x="13742" y="9302"/>
                </a:cubicBezTo>
                <a:cubicBezTo>
                  <a:pt x="13786" y="9237"/>
                  <a:pt x="13799" y="9148"/>
                  <a:pt x="13891" y="9128"/>
                </a:cubicBezTo>
                <a:cubicBezTo>
                  <a:pt x="13922" y="9121"/>
                  <a:pt x="14064" y="9112"/>
                  <a:pt x="14089" y="9153"/>
                </a:cubicBezTo>
                <a:cubicBezTo>
                  <a:pt x="14167" y="9280"/>
                  <a:pt x="14151" y="9327"/>
                  <a:pt x="14139" y="9451"/>
                </a:cubicBezTo>
                <a:cubicBezTo>
                  <a:pt x="14129" y="9548"/>
                  <a:pt x="14104" y="9632"/>
                  <a:pt x="14089" y="9723"/>
                </a:cubicBezTo>
                <a:cubicBezTo>
                  <a:pt x="14078" y="9787"/>
                  <a:pt x="14101" y="9822"/>
                  <a:pt x="14114" y="9847"/>
                </a:cubicBezTo>
                <a:cubicBezTo>
                  <a:pt x="14134" y="9887"/>
                  <a:pt x="14130" y="9857"/>
                  <a:pt x="14139" y="9823"/>
                </a:cubicBezTo>
              </a:path>
              <a:path w="12031" h="2010">
                <a:moveTo>
                  <a:pt x="15081" y="8285"/>
                </a:moveTo>
                <a:cubicBezTo>
                  <a:pt x="15005" y="8345"/>
                  <a:pt x="14966" y="8401"/>
                  <a:pt x="14908" y="8483"/>
                </a:cubicBezTo>
                <a:cubicBezTo>
                  <a:pt x="14793" y="8647"/>
                  <a:pt x="14717" y="8775"/>
                  <a:pt x="14635" y="8954"/>
                </a:cubicBezTo>
                <a:cubicBezTo>
                  <a:pt x="14573" y="9088"/>
                  <a:pt x="14530" y="9252"/>
                  <a:pt x="14511" y="9401"/>
                </a:cubicBezTo>
                <a:cubicBezTo>
                  <a:pt x="14496" y="9513"/>
                  <a:pt x="14522" y="9597"/>
                  <a:pt x="14560" y="9699"/>
                </a:cubicBezTo>
                <a:cubicBezTo>
                  <a:pt x="14585" y="9767"/>
                  <a:pt x="14643" y="9860"/>
                  <a:pt x="14734" y="9823"/>
                </a:cubicBezTo>
                <a:cubicBezTo>
                  <a:pt x="14772" y="9808"/>
                  <a:pt x="14800" y="9762"/>
                  <a:pt x="14833" y="9723"/>
                </a:cubicBezTo>
              </a:path>
              <a:path w="12031" h="2010">
                <a:moveTo>
                  <a:pt x="15280" y="8607"/>
                </a:moveTo>
                <a:cubicBezTo>
                  <a:pt x="15381" y="8601"/>
                  <a:pt x="15432" y="8582"/>
                  <a:pt x="15528" y="8582"/>
                </a:cubicBezTo>
                <a:cubicBezTo>
                  <a:pt x="15587" y="8582"/>
                  <a:pt x="15602" y="8570"/>
                  <a:pt x="15652" y="8558"/>
                </a:cubicBezTo>
              </a:path>
              <a:path w="12031" h="2010">
                <a:moveTo>
                  <a:pt x="15230" y="8607"/>
                </a:moveTo>
                <a:cubicBezTo>
                  <a:pt x="15192" y="8671"/>
                  <a:pt x="15174" y="8718"/>
                  <a:pt x="15156" y="8781"/>
                </a:cubicBezTo>
                <a:cubicBezTo>
                  <a:pt x="15144" y="8824"/>
                  <a:pt x="15176" y="8842"/>
                  <a:pt x="15180" y="8880"/>
                </a:cubicBezTo>
                <a:cubicBezTo>
                  <a:pt x="15184" y="8918"/>
                  <a:pt x="15186" y="8944"/>
                  <a:pt x="15205" y="8905"/>
                </a:cubicBezTo>
                <a:cubicBezTo>
                  <a:pt x="15214" y="8886"/>
                  <a:pt x="15240" y="8846"/>
                  <a:pt x="15280" y="8855"/>
                </a:cubicBezTo>
                <a:cubicBezTo>
                  <a:pt x="15366" y="8873"/>
                  <a:pt x="15414" y="8894"/>
                  <a:pt x="15478" y="8954"/>
                </a:cubicBezTo>
                <a:cubicBezTo>
                  <a:pt x="15556" y="9028"/>
                  <a:pt x="15562" y="9107"/>
                  <a:pt x="15602" y="9203"/>
                </a:cubicBezTo>
                <a:cubicBezTo>
                  <a:pt x="15625" y="9258"/>
                  <a:pt x="15651" y="9364"/>
                  <a:pt x="15627" y="9426"/>
                </a:cubicBezTo>
                <a:cubicBezTo>
                  <a:pt x="15607" y="9479"/>
                  <a:pt x="15561" y="9570"/>
                  <a:pt x="15503" y="9599"/>
                </a:cubicBezTo>
                <a:cubicBezTo>
                  <a:pt x="15432" y="9634"/>
                  <a:pt x="15356" y="9624"/>
                  <a:pt x="15280" y="9624"/>
                </a:cubicBezTo>
                <a:cubicBezTo>
                  <a:pt x="15208" y="9624"/>
                  <a:pt x="15179" y="9598"/>
                  <a:pt x="15131" y="9550"/>
                </a:cubicBezTo>
                <a:cubicBezTo>
                  <a:pt x="15097" y="9516"/>
                  <a:pt x="15089" y="9495"/>
                  <a:pt x="15106" y="9451"/>
                </a:cubicBezTo>
              </a:path>
              <a:path w="12031" h="2010">
                <a:moveTo>
                  <a:pt x="16123" y="8384"/>
                </a:moveTo>
                <a:cubicBezTo>
                  <a:pt x="16109" y="8438"/>
                  <a:pt x="16078" y="8445"/>
                  <a:pt x="16073" y="8508"/>
                </a:cubicBezTo>
                <a:cubicBezTo>
                  <a:pt x="16071" y="8532"/>
                  <a:pt x="16073" y="8558"/>
                  <a:pt x="16073" y="8582"/>
                </a:cubicBezTo>
                <a:cubicBezTo>
                  <a:pt x="16113" y="8602"/>
                  <a:pt x="16161" y="8591"/>
                  <a:pt x="16197" y="8533"/>
                </a:cubicBezTo>
                <a:cubicBezTo>
                  <a:pt x="16213" y="8508"/>
                  <a:pt x="16239" y="8443"/>
                  <a:pt x="16222" y="8409"/>
                </a:cubicBezTo>
                <a:cubicBezTo>
                  <a:pt x="16198" y="8361"/>
                  <a:pt x="16167" y="8365"/>
                  <a:pt x="16123" y="8359"/>
                </a:cubicBezTo>
              </a:path>
              <a:path w="12031" h="2010">
                <a:moveTo>
                  <a:pt x="16669" y="8558"/>
                </a:moveTo>
                <a:cubicBezTo>
                  <a:pt x="16647" y="8703"/>
                  <a:pt x="16605" y="8860"/>
                  <a:pt x="16594" y="9004"/>
                </a:cubicBezTo>
                <a:cubicBezTo>
                  <a:pt x="16582" y="9153"/>
                  <a:pt x="16570" y="9301"/>
                  <a:pt x="16570" y="9451"/>
                </a:cubicBezTo>
                <a:cubicBezTo>
                  <a:pt x="16570" y="9552"/>
                  <a:pt x="16565" y="9629"/>
                  <a:pt x="16545" y="9723"/>
                </a:cubicBezTo>
                <a:cubicBezTo>
                  <a:pt x="16525" y="9815"/>
                  <a:pt x="16545" y="9721"/>
                  <a:pt x="16545" y="9674"/>
                </a:cubicBezTo>
              </a:path>
              <a:path w="12031" h="2010">
                <a:moveTo>
                  <a:pt x="17066" y="8756"/>
                </a:moveTo>
                <a:cubicBezTo>
                  <a:pt x="17169" y="8726"/>
                  <a:pt x="17255" y="8687"/>
                  <a:pt x="17363" y="8682"/>
                </a:cubicBezTo>
                <a:cubicBezTo>
                  <a:pt x="17434" y="8679"/>
                  <a:pt x="17524" y="8687"/>
                  <a:pt x="17587" y="8657"/>
                </a:cubicBezTo>
                <a:cubicBezTo>
                  <a:pt x="17609" y="8634"/>
                  <a:pt x="17614" y="8626"/>
                  <a:pt x="17636" y="8632"/>
                </a:cubicBezTo>
              </a:path>
              <a:path w="12031" h="2010">
                <a:moveTo>
                  <a:pt x="17140" y="8731"/>
                </a:moveTo>
                <a:cubicBezTo>
                  <a:pt x="17092" y="8788"/>
                  <a:pt x="16999" y="8854"/>
                  <a:pt x="16991" y="8930"/>
                </a:cubicBezTo>
                <a:cubicBezTo>
                  <a:pt x="16989" y="8954"/>
                  <a:pt x="16991" y="8980"/>
                  <a:pt x="16991" y="9004"/>
                </a:cubicBezTo>
                <a:cubicBezTo>
                  <a:pt x="17023" y="9004"/>
                  <a:pt x="17070" y="9038"/>
                  <a:pt x="17090" y="9029"/>
                </a:cubicBezTo>
                <a:cubicBezTo>
                  <a:pt x="17141" y="9006"/>
                  <a:pt x="17149" y="9004"/>
                  <a:pt x="17214" y="9004"/>
                </a:cubicBezTo>
                <a:cubicBezTo>
                  <a:pt x="17267" y="9004"/>
                  <a:pt x="17324" y="9009"/>
                  <a:pt x="17363" y="9054"/>
                </a:cubicBezTo>
                <a:cubicBezTo>
                  <a:pt x="17406" y="9104"/>
                  <a:pt x="17472" y="9210"/>
                  <a:pt x="17487" y="9277"/>
                </a:cubicBezTo>
                <a:cubicBezTo>
                  <a:pt x="17502" y="9344"/>
                  <a:pt x="17482" y="9402"/>
                  <a:pt x="17438" y="9451"/>
                </a:cubicBezTo>
                <a:cubicBezTo>
                  <a:pt x="17377" y="9518"/>
                  <a:pt x="17356" y="9560"/>
                  <a:pt x="17264" y="9575"/>
                </a:cubicBezTo>
                <a:cubicBezTo>
                  <a:pt x="17196" y="9586"/>
                  <a:pt x="17144" y="9566"/>
                  <a:pt x="17090" y="9550"/>
                </a:cubicBezTo>
                <a:cubicBezTo>
                  <a:pt x="17023" y="9530"/>
                  <a:pt x="17041" y="9496"/>
                  <a:pt x="17041" y="9426"/>
                </a:cubicBezTo>
              </a:path>
              <a:path w="12031" h="2010">
                <a:moveTo>
                  <a:pt x="17934" y="8434"/>
                </a:moveTo>
                <a:cubicBezTo>
                  <a:pt x="17912" y="8507"/>
                  <a:pt x="17882" y="8540"/>
                  <a:pt x="17859" y="8607"/>
                </a:cubicBezTo>
                <a:cubicBezTo>
                  <a:pt x="17849" y="8638"/>
                  <a:pt x="17841" y="8674"/>
                  <a:pt x="17835" y="8706"/>
                </a:cubicBezTo>
              </a:path>
              <a:path w="12031" h="2010">
                <a:moveTo>
                  <a:pt x="18231" y="8086"/>
                </a:moveTo>
                <a:cubicBezTo>
                  <a:pt x="18308" y="8173"/>
                  <a:pt x="18326" y="8245"/>
                  <a:pt x="18355" y="8359"/>
                </a:cubicBezTo>
                <a:cubicBezTo>
                  <a:pt x="18400" y="8536"/>
                  <a:pt x="18431" y="8702"/>
                  <a:pt x="18455" y="8880"/>
                </a:cubicBezTo>
                <a:cubicBezTo>
                  <a:pt x="18475" y="9027"/>
                  <a:pt x="18482" y="9156"/>
                  <a:pt x="18455" y="9302"/>
                </a:cubicBezTo>
                <a:cubicBezTo>
                  <a:pt x="18438" y="9398"/>
                  <a:pt x="18390" y="9521"/>
                  <a:pt x="18331" y="9599"/>
                </a:cubicBezTo>
                <a:cubicBezTo>
                  <a:pt x="18273" y="9676"/>
                  <a:pt x="18197" y="9720"/>
                  <a:pt x="18107" y="9748"/>
                </a:cubicBezTo>
                <a:cubicBezTo>
                  <a:pt x="18017" y="9776"/>
                  <a:pt x="17926" y="9790"/>
                  <a:pt x="17835" y="97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7960" y="3875040"/>
            <a:ext cx="795240" cy="403200"/>
          </a:xfrm>
          <a:custGeom>
            <a:avLst/>
            <a:gdLst/>
            <a:ahLst/>
            <a:rect l="l" t="t" r="r" b="b"/>
            <a:pathLst>
              <a:path w="2209" h="1117">
                <a:moveTo>
                  <a:pt x="4713" y="11112"/>
                </a:moveTo>
                <a:cubicBezTo>
                  <a:pt x="4878" y="11112"/>
                  <a:pt x="5044" y="11112"/>
                  <a:pt x="5209" y="11112"/>
                </a:cubicBezTo>
              </a:path>
              <a:path w="2209" h="1117">
                <a:moveTo>
                  <a:pt x="4688" y="11435"/>
                </a:moveTo>
                <a:cubicBezTo>
                  <a:pt x="4668" y="11475"/>
                  <a:pt x="4659" y="11482"/>
                  <a:pt x="4663" y="11509"/>
                </a:cubicBezTo>
                <a:cubicBezTo>
                  <a:pt x="4721" y="11509"/>
                  <a:pt x="4766" y="11494"/>
                  <a:pt x="4812" y="11485"/>
                </a:cubicBezTo>
                <a:cubicBezTo>
                  <a:pt x="4882" y="11471"/>
                  <a:pt x="4943" y="11460"/>
                  <a:pt x="5011" y="11435"/>
                </a:cubicBezTo>
              </a:path>
              <a:path w="2209" h="1117">
                <a:moveTo>
                  <a:pt x="5606" y="10914"/>
                </a:moveTo>
                <a:cubicBezTo>
                  <a:pt x="5654" y="10865"/>
                  <a:pt x="5708" y="10806"/>
                  <a:pt x="5779" y="10790"/>
                </a:cubicBezTo>
                <a:cubicBezTo>
                  <a:pt x="5839" y="10777"/>
                  <a:pt x="5899" y="10763"/>
                  <a:pt x="5953" y="10790"/>
                </a:cubicBezTo>
                <a:cubicBezTo>
                  <a:pt x="5979" y="10803"/>
                  <a:pt x="6035" y="10859"/>
                  <a:pt x="6028" y="10889"/>
                </a:cubicBezTo>
                <a:cubicBezTo>
                  <a:pt x="5994" y="11039"/>
                  <a:pt x="5876" y="11202"/>
                  <a:pt x="5779" y="11311"/>
                </a:cubicBezTo>
                <a:cubicBezTo>
                  <a:pt x="5705" y="11393"/>
                  <a:pt x="5618" y="11468"/>
                  <a:pt x="5556" y="11559"/>
                </a:cubicBezTo>
                <a:cubicBezTo>
                  <a:pt x="5543" y="11578"/>
                  <a:pt x="5456" y="11694"/>
                  <a:pt x="5457" y="11708"/>
                </a:cubicBezTo>
                <a:cubicBezTo>
                  <a:pt x="5461" y="11747"/>
                  <a:pt x="5507" y="11768"/>
                  <a:pt x="5531" y="11782"/>
                </a:cubicBezTo>
                <a:cubicBezTo>
                  <a:pt x="5616" y="11832"/>
                  <a:pt x="5667" y="11792"/>
                  <a:pt x="5755" y="11782"/>
                </a:cubicBezTo>
                <a:cubicBezTo>
                  <a:pt x="5842" y="11772"/>
                  <a:pt x="5924" y="11756"/>
                  <a:pt x="6003" y="11708"/>
                </a:cubicBezTo>
                <a:cubicBezTo>
                  <a:pt x="6053" y="11675"/>
                  <a:pt x="6102" y="11642"/>
                  <a:pt x="6152" y="11609"/>
                </a:cubicBezTo>
              </a:path>
              <a:path w="2209" h="1117">
                <a:moveTo>
                  <a:pt x="6548" y="10939"/>
                </a:moveTo>
                <a:cubicBezTo>
                  <a:pt x="6513" y="11011"/>
                  <a:pt x="6486" y="11093"/>
                  <a:pt x="6449" y="11162"/>
                </a:cubicBezTo>
                <a:cubicBezTo>
                  <a:pt x="6393" y="11266"/>
                  <a:pt x="6344" y="11365"/>
                  <a:pt x="6325" y="11485"/>
                </a:cubicBezTo>
                <a:cubicBezTo>
                  <a:pt x="6309" y="11584"/>
                  <a:pt x="6317" y="11677"/>
                  <a:pt x="6375" y="11757"/>
                </a:cubicBezTo>
                <a:cubicBezTo>
                  <a:pt x="6431" y="11834"/>
                  <a:pt x="6488" y="11832"/>
                  <a:pt x="6573" y="11832"/>
                </a:cubicBezTo>
                <a:cubicBezTo>
                  <a:pt x="6660" y="11832"/>
                  <a:pt x="6740" y="11806"/>
                  <a:pt x="6796" y="11733"/>
                </a:cubicBezTo>
                <a:cubicBezTo>
                  <a:pt x="6843" y="11671"/>
                  <a:pt x="6871" y="11664"/>
                  <a:pt x="6871" y="11584"/>
                </a:cubicBezTo>
                <a:cubicBezTo>
                  <a:pt x="6871" y="11506"/>
                  <a:pt x="6878" y="11492"/>
                  <a:pt x="6796" y="11485"/>
                </a:cubicBezTo>
                <a:cubicBezTo>
                  <a:pt x="6743" y="11481"/>
                  <a:pt x="6710" y="11498"/>
                  <a:pt x="6672" y="11534"/>
                </a:cubicBezTo>
                <a:cubicBezTo>
                  <a:pt x="6609" y="11593"/>
                  <a:pt x="6598" y="11626"/>
                  <a:pt x="6598" y="11708"/>
                </a:cubicBezTo>
                <a:cubicBezTo>
                  <a:pt x="6598" y="11778"/>
                  <a:pt x="6624" y="11810"/>
                  <a:pt x="6672" y="11857"/>
                </a:cubicBezTo>
                <a:cubicBezTo>
                  <a:pt x="6709" y="11894"/>
                  <a:pt x="6746" y="11881"/>
                  <a:pt x="6796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5040" y="3875040"/>
            <a:ext cx="9720" cy="455760"/>
          </a:xfrm>
          <a:custGeom>
            <a:avLst/>
            <a:gdLst/>
            <a:ahLst/>
            <a:rect l="l" t="t" r="r" b="b"/>
            <a:pathLst>
              <a:path w="26" h="1266">
                <a:moveTo>
                  <a:pt x="7516" y="10765"/>
                </a:moveTo>
                <a:cubicBezTo>
                  <a:pt x="7537" y="10942"/>
                  <a:pt x="7521" y="11065"/>
                  <a:pt x="7516" y="11237"/>
                </a:cubicBezTo>
                <a:cubicBezTo>
                  <a:pt x="7508" y="11501"/>
                  <a:pt x="7516" y="11766"/>
                  <a:pt x="7516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Applications of the Law of Sin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You are standing 40 meters from the base of a tree that is leaning 8° from vertical away from you.  The angle of elevation from your feet to the top of the tree is 20°50’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*Draw a triangle that represents the problem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*Write an equation involving the unknown slant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eight of the tre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*Find the slant height of the tree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1633680" y="2608200"/>
            <a:ext cx="7091280" cy="2803680"/>
          </a:xfrm>
          <a:custGeom>
            <a:avLst/>
            <a:gdLst/>
            <a:ahLst/>
            <a:rect l="l" t="t" r="r" b="b"/>
            <a:pathLst>
              <a:path w="19696" h="7790">
                <a:moveTo>
                  <a:pt x="4738" y="14635"/>
                </a:moveTo>
                <a:cubicBezTo>
                  <a:pt x="4780" y="14642"/>
                  <a:pt x="4820" y="14657"/>
                  <a:pt x="4862" y="14660"/>
                </a:cubicBezTo>
                <a:cubicBezTo>
                  <a:pt x="5054" y="14675"/>
                  <a:pt x="5246" y="14646"/>
                  <a:pt x="5432" y="14635"/>
                </a:cubicBezTo>
                <a:cubicBezTo>
                  <a:pt x="5597" y="14625"/>
                  <a:pt x="5763" y="14616"/>
                  <a:pt x="5928" y="14610"/>
                </a:cubicBezTo>
                <a:cubicBezTo>
                  <a:pt x="6036" y="14606"/>
                  <a:pt x="6147" y="14590"/>
                  <a:pt x="6251" y="14585"/>
                </a:cubicBezTo>
                <a:cubicBezTo>
                  <a:pt x="6679" y="14562"/>
                  <a:pt x="7118" y="14588"/>
                  <a:pt x="7541" y="14610"/>
                </a:cubicBezTo>
                <a:cubicBezTo>
                  <a:pt x="7799" y="14624"/>
                  <a:pt x="8056" y="14601"/>
                  <a:pt x="8310" y="14585"/>
                </a:cubicBezTo>
                <a:cubicBezTo>
                  <a:pt x="8468" y="14575"/>
                  <a:pt x="8624" y="14575"/>
                  <a:pt x="8781" y="14560"/>
                </a:cubicBezTo>
                <a:cubicBezTo>
                  <a:pt x="8989" y="14540"/>
                  <a:pt x="9195" y="14530"/>
                  <a:pt x="9401" y="14511"/>
                </a:cubicBezTo>
                <a:cubicBezTo>
                  <a:pt x="9556" y="14497"/>
                  <a:pt x="9718" y="14505"/>
                  <a:pt x="9872" y="14486"/>
                </a:cubicBezTo>
                <a:cubicBezTo>
                  <a:pt x="10023" y="14467"/>
                  <a:pt x="10165" y="14461"/>
                  <a:pt x="10319" y="14461"/>
                </a:cubicBezTo>
                <a:cubicBezTo>
                  <a:pt x="10455" y="14461"/>
                  <a:pt x="10581" y="14443"/>
                  <a:pt x="10716" y="14436"/>
                </a:cubicBezTo>
                <a:cubicBezTo>
                  <a:pt x="10829" y="14430"/>
                  <a:pt x="10931" y="14432"/>
                  <a:pt x="11038" y="14412"/>
                </a:cubicBezTo>
                <a:cubicBezTo>
                  <a:pt x="11102" y="14400"/>
                  <a:pt x="11109" y="14421"/>
                  <a:pt x="11162" y="14387"/>
                </a:cubicBezTo>
                <a:cubicBezTo>
                  <a:pt x="11154" y="14379"/>
                  <a:pt x="11145" y="14370"/>
                  <a:pt x="11137" y="14362"/>
                </a:cubicBezTo>
              </a:path>
              <a:path w="19696" h="7790">
                <a:moveTo>
                  <a:pt x="11137" y="14238"/>
                </a:moveTo>
                <a:cubicBezTo>
                  <a:pt x="11137" y="14255"/>
                  <a:pt x="11137" y="14271"/>
                  <a:pt x="11137" y="14288"/>
                </a:cubicBezTo>
                <a:cubicBezTo>
                  <a:pt x="11152" y="14259"/>
                  <a:pt x="11169" y="14254"/>
                  <a:pt x="11187" y="14213"/>
                </a:cubicBezTo>
                <a:cubicBezTo>
                  <a:pt x="11205" y="14172"/>
                  <a:pt x="11211" y="14157"/>
                  <a:pt x="11237" y="14114"/>
                </a:cubicBezTo>
                <a:cubicBezTo>
                  <a:pt x="11273" y="14055"/>
                  <a:pt x="11320" y="13978"/>
                  <a:pt x="11361" y="13915"/>
                </a:cubicBezTo>
                <a:cubicBezTo>
                  <a:pt x="11463" y="13758"/>
                  <a:pt x="11583" y="13607"/>
                  <a:pt x="11683" y="13444"/>
                </a:cubicBezTo>
                <a:cubicBezTo>
                  <a:pt x="11777" y="13289"/>
                  <a:pt x="11881" y="13150"/>
                  <a:pt x="11981" y="12998"/>
                </a:cubicBezTo>
                <a:cubicBezTo>
                  <a:pt x="12102" y="12813"/>
                  <a:pt x="12229" y="12635"/>
                  <a:pt x="12353" y="12452"/>
                </a:cubicBezTo>
                <a:cubicBezTo>
                  <a:pt x="12531" y="12190"/>
                  <a:pt x="12687" y="11912"/>
                  <a:pt x="12874" y="11658"/>
                </a:cubicBezTo>
                <a:cubicBezTo>
                  <a:pt x="13022" y="11457"/>
                  <a:pt x="13164" y="11252"/>
                  <a:pt x="13295" y="11038"/>
                </a:cubicBezTo>
                <a:cubicBezTo>
                  <a:pt x="13418" y="10837"/>
                  <a:pt x="13549" y="10645"/>
                  <a:pt x="13667" y="10443"/>
                </a:cubicBezTo>
                <a:cubicBezTo>
                  <a:pt x="13757" y="10289"/>
                  <a:pt x="13864" y="10143"/>
                  <a:pt x="13965" y="9996"/>
                </a:cubicBezTo>
                <a:cubicBezTo>
                  <a:pt x="14055" y="9865"/>
                  <a:pt x="14164" y="9734"/>
                  <a:pt x="14238" y="9599"/>
                </a:cubicBezTo>
                <a:cubicBezTo>
                  <a:pt x="14276" y="9530"/>
                  <a:pt x="14330" y="9480"/>
                  <a:pt x="14362" y="9426"/>
                </a:cubicBezTo>
                <a:cubicBezTo>
                  <a:pt x="14380" y="9396"/>
                  <a:pt x="14392" y="9360"/>
                  <a:pt x="14412" y="9327"/>
                </a:cubicBezTo>
                <a:cubicBezTo>
                  <a:pt x="14412" y="9302"/>
                  <a:pt x="14412" y="9294"/>
                  <a:pt x="14412" y="9327"/>
                </a:cubicBezTo>
                <a:cubicBezTo>
                  <a:pt x="14386" y="9346"/>
                  <a:pt x="14421" y="9383"/>
                  <a:pt x="14362" y="9401"/>
                </a:cubicBezTo>
                <a:cubicBezTo>
                  <a:pt x="14345" y="9401"/>
                  <a:pt x="14329" y="9401"/>
                  <a:pt x="14312" y="9401"/>
                </a:cubicBezTo>
              </a:path>
              <a:path w="19696" h="7790">
                <a:moveTo>
                  <a:pt x="4539" y="14536"/>
                </a:moveTo>
                <a:cubicBezTo>
                  <a:pt x="4562" y="14519"/>
                  <a:pt x="4579" y="14489"/>
                  <a:pt x="4614" y="14461"/>
                </a:cubicBezTo>
                <a:cubicBezTo>
                  <a:pt x="4644" y="14437"/>
                  <a:pt x="4686" y="14432"/>
                  <a:pt x="4713" y="14412"/>
                </a:cubicBezTo>
                <a:cubicBezTo>
                  <a:pt x="4779" y="14362"/>
                  <a:pt x="4820" y="14331"/>
                  <a:pt x="4887" y="14288"/>
                </a:cubicBezTo>
                <a:cubicBezTo>
                  <a:pt x="4975" y="14231"/>
                  <a:pt x="5065" y="14171"/>
                  <a:pt x="5159" y="14114"/>
                </a:cubicBezTo>
                <a:cubicBezTo>
                  <a:pt x="5343" y="14003"/>
                  <a:pt x="5527" y="13886"/>
                  <a:pt x="5705" y="13767"/>
                </a:cubicBezTo>
                <a:cubicBezTo>
                  <a:pt x="5877" y="13651"/>
                  <a:pt x="6046" y="13545"/>
                  <a:pt x="6226" y="13444"/>
                </a:cubicBezTo>
                <a:cubicBezTo>
                  <a:pt x="6420" y="13335"/>
                  <a:pt x="6623" y="13247"/>
                  <a:pt x="6821" y="13146"/>
                </a:cubicBezTo>
                <a:cubicBezTo>
                  <a:pt x="7304" y="12900"/>
                  <a:pt x="7797" y="12684"/>
                  <a:pt x="8285" y="12452"/>
                </a:cubicBezTo>
                <a:cubicBezTo>
                  <a:pt x="8810" y="12203"/>
                  <a:pt x="9325" y="11936"/>
                  <a:pt x="9847" y="11683"/>
                </a:cubicBezTo>
                <a:cubicBezTo>
                  <a:pt x="10092" y="11564"/>
                  <a:pt x="10326" y="11436"/>
                  <a:pt x="10567" y="11311"/>
                </a:cubicBezTo>
                <a:cubicBezTo>
                  <a:pt x="10795" y="11192"/>
                  <a:pt x="11015" y="11069"/>
                  <a:pt x="11237" y="10939"/>
                </a:cubicBezTo>
                <a:cubicBezTo>
                  <a:pt x="11439" y="10821"/>
                  <a:pt x="11634" y="10694"/>
                  <a:pt x="11832" y="10567"/>
                </a:cubicBezTo>
                <a:cubicBezTo>
                  <a:pt x="12089" y="10402"/>
                  <a:pt x="12367" y="10255"/>
                  <a:pt x="12626" y="10096"/>
                </a:cubicBezTo>
                <a:cubicBezTo>
                  <a:pt x="12948" y="9898"/>
                  <a:pt x="13279" y="9628"/>
                  <a:pt x="13618" y="9475"/>
                </a:cubicBezTo>
                <a:cubicBezTo>
                  <a:pt x="13792" y="9396"/>
                  <a:pt x="14110" y="9347"/>
                  <a:pt x="14238" y="9203"/>
                </a:cubicBezTo>
                <a:cubicBezTo>
                  <a:pt x="14262" y="9175"/>
                  <a:pt x="14244" y="9184"/>
                  <a:pt x="14263" y="9153"/>
                </a:cubicBezTo>
                <a:cubicBezTo>
                  <a:pt x="14230" y="9153"/>
                  <a:pt x="14213" y="9153"/>
                  <a:pt x="14188" y="9153"/>
                </a:cubicBezTo>
              </a:path>
              <a:path w="19696" h="7790">
                <a:moveTo>
                  <a:pt x="19100" y="7243"/>
                </a:moveTo>
                <a:cubicBezTo>
                  <a:pt x="19100" y="7318"/>
                  <a:pt x="19087" y="7372"/>
                  <a:pt x="19075" y="7441"/>
                </a:cubicBezTo>
                <a:cubicBezTo>
                  <a:pt x="19058" y="7543"/>
                  <a:pt x="19061" y="7663"/>
                  <a:pt x="19050" y="7764"/>
                </a:cubicBezTo>
                <a:cubicBezTo>
                  <a:pt x="19034" y="7905"/>
                  <a:pt x="19044" y="8046"/>
                  <a:pt x="19025" y="8186"/>
                </a:cubicBezTo>
                <a:cubicBezTo>
                  <a:pt x="19019" y="8227"/>
                  <a:pt x="19025" y="8301"/>
                  <a:pt x="19025" y="8260"/>
                </a:cubicBezTo>
                <a:cubicBezTo>
                  <a:pt x="19025" y="8252"/>
                  <a:pt x="19025" y="8243"/>
                  <a:pt x="19025" y="8235"/>
                </a:cubicBezTo>
              </a:path>
              <a:path w="19696" h="7790">
                <a:moveTo>
                  <a:pt x="19670" y="7367"/>
                </a:moveTo>
                <a:cubicBezTo>
                  <a:pt x="19643" y="7346"/>
                  <a:pt x="19610" y="7328"/>
                  <a:pt x="19571" y="7342"/>
                </a:cubicBezTo>
                <a:cubicBezTo>
                  <a:pt x="19526" y="7358"/>
                  <a:pt x="19454" y="7390"/>
                  <a:pt x="19422" y="7417"/>
                </a:cubicBezTo>
                <a:cubicBezTo>
                  <a:pt x="19378" y="7454"/>
                  <a:pt x="19317" y="7509"/>
                  <a:pt x="19298" y="7565"/>
                </a:cubicBezTo>
                <a:cubicBezTo>
                  <a:pt x="19268" y="7654"/>
                  <a:pt x="19355" y="7703"/>
                  <a:pt x="19397" y="7764"/>
                </a:cubicBezTo>
                <a:cubicBezTo>
                  <a:pt x="19441" y="7827"/>
                  <a:pt x="19511" y="7895"/>
                  <a:pt x="19546" y="7962"/>
                </a:cubicBezTo>
                <a:cubicBezTo>
                  <a:pt x="19580" y="8026"/>
                  <a:pt x="19617" y="8115"/>
                  <a:pt x="19621" y="8186"/>
                </a:cubicBezTo>
                <a:cubicBezTo>
                  <a:pt x="19626" y="8274"/>
                  <a:pt x="19574" y="8280"/>
                  <a:pt x="19521" y="8310"/>
                </a:cubicBezTo>
                <a:cubicBezTo>
                  <a:pt x="19447" y="8352"/>
                  <a:pt x="19463" y="8348"/>
                  <a:pt x="19397" y="8334"/>
                </a:cubicBezTo>
                <a:cubicBezTo>
                  <a:pt x="19348" y="8323"/>
                  <a:pt x="19310" y="8317"/>
                  <a:pt x="19298" y="8260"/>
                </a:cubicBezTo>
                <a:cubicBezTo>
                  <a:pt x="19278" y="8169"/>
                  <a:pt x="19341" y="8069"/>
                  <a:pt x="19372" y="7987"/>
                </a:cubicBezTo>
                <a:cubicBezTo>
                  <a:pt x="19406" y="7897"/>
                  <a:pt x="19460" y="7826"/>
                  <a:pt x="19496" y="7739"/>
                </a:cubicBezTo>
                <a:cubicBezTo>
                  <a:pt x="19528" y="7663"/>
                  <a:pt x="19559" y="7590"/>
                  <a:pt x="19596" y="7516"/>
                </a:cubicBezTo>
                <a:cubicBezTo>
                  <a:pt x="19618" y="7472"/>
                  <a:pt x="19621" y="7461"/>
                  <a:pt x="19645" y="7441"/>
                </a:cubicBezTo>
              </a:path>
              <a:path w="19696" h="7790">
                <a:moveTo>
                  <a:pt x="19893" y="7516"/>
                </a:moveTo>
                <a:cubicBezTo>
                  <a:pt x="19854" y="7634"/>
                  <a:pt x="19809" y="7746"/>
                  <a:pt x="19769" y="7863"/>
                </a:cubicBezTo>
                <a:cubicBezTo>
                  <a:pt x="19728" y="7985"/>
                  <a:pt x="19679" y="8089"/>
                  <a:pt x="19720" y="8210"/>
                </a:cubicBezTo>
                <a:cubicBezTo>
                  <a:pt x="19741" y="8272"/>
                  <a:pt x="19791" y="8299"/>
                  <a:pt x="19844" y="8310"/>
                </a:cubicBezTo>
                <a:cubicBezTo>
                  <a:pt x="19893" y="8320"/>
                  <a:pt x="20008" y="8272"/>
                  <a:pt x="20042" y="8235"/>
                </a:cubicBezTo>
                <a:cubicBezTo>
                  <a:pt x="20091" y="8183"/>
                  <a:pt x="20139" y="8105"/>
                  <a:pt x="20166" y="8037"/>
                </a:cubicBezTo>
                <a:cubicBezTo>
                  <a:pt x="20192" y="7970"/>
                  <a:pt x="20208" y="7861"/>
                  <a:pt x="20191" y="7789"/>
                </a:cubicBezTo>
                <a:cubicBezTo>
                  <a:pt x="20176" y="7725"/>
                  <a:pt x="20156" y="7647"/>
                  <a:pt x="20117" y="7590"/>
                </a:cubicBezTo>
                <a:cubicBezTo>
                  <a:pt x="20084" y="7542"/>
                  <a:pt x="19980" y="7442"/>
                  <a:pt x="19968" y="7466"/>
                </a:cubicBezTo>
              </a:path>
              <a:path w="19696" h="7790">
                <a:moveTo>
                  <a:pt x="17934" y="9029"/>
                </a:moveTo>
                <a:cubicBezTo>
                  <a:pt x="17934" y="9037"/>
                  <a:pt x="17934" y="9046"/>
                  <a:pt x="17934" y="9054"/>
                </a:cubicBezTo>
                <a:cubicBezTo>
                  <a:pt x="17973" y="9044"/>
                  <a:pt x="17988" y="9029"/>
                  <a:pt x="18033" y="9029"/>
                </a:cubicBezTo>
                <a:cubicBezTo>
                  <a:pt x="18096" y="9029"/>
                  <a:pt x="18136" y="9004"/>
                  <a:pt x="18207" y="9004"/>
                </a:cubicBezTo>
                <a:cubicBezTo>
                  <a:pt x="18266" y="9004"/>
                  <a:pt x="18300" y="8985"/>
                  <a:pt x="18355" y="8979"/>
                </a:cubicBezTo>
                <a:cubicBezTo>
                  <a:pt x="18441" y="8970"/>
                  <a:pt x="18341" y="9007"/>
                  <a:pt x="18430" y="8954"/>
                </a:cubicBezTo>
              </a:path>
              <a:path w="19696" h="7790">
                <a:moveTo>
                  <a:pt x="19794" y="14957"/>
                </a:moveTo>
                <a:cubicBezTo>
                  <a:pt x="19909" y="14935"/>
                  <a:pt x="19941" y="14951"/>
                  <a:pt x="20042" y="14957"/>
                </a:cubicBezTo>
                <a:cubicBezTo>
                  <a:pt x="20210" y="14967"/>
                  <a:pt x="20376" y="14950"/>
                  <a:pt x="20538" y="14932"/>
                </a:cubicBezTo>
                <a:cubicBezTo>
                  <a:pt x="20913" y="14890"/>
                  <a:pt x="21306" y="14941"/>
                  <a:pt x="21679" y="14908"/>
                </a:cubicBezTo>
                <a:cubicBezTo>
                  <a:pt x="21917" y="14887"/>
                  <a:pt x="22166" y="14914"/>
                  <a:pt x="22399" y="14932"/>
                </a:cubicBezTo>
                <a:cubicBezTo>
                  <a:pt x="22492" y="14939"/>
                  <a:pt x="22581" y="14947"/>
                  <a:pt x="22671" y="14957"/>
                </a:cubicBezTo>
                <a:cubicBezTo>
                  <a:pt x="22810" y="14973"/>
                  <a:pt x="22956" y="14968"/>
                  <a:pt x="23093" y="14982"/>
                </a:cubicBezTo>
                <a:cubicBezTo>
                  <a:pt x="23274" y="15001"/>
                  <a:pt x="23461" y="14988"/>
                  <a:pt x="23639" y="15007"/>
                </a:cubicBezTo>
                <a:cubicBezTo>
                  <a:pt x="23784" y="15022"/>
                  <a:pt x="23946" y="15022"/>
                  <a:pt x="24085" y="15032"/>
                </a:cubicBezTo>
                <a:cubicBezTo>
                  <a:pt x="24134" y="15036"/>
                  <a:pt x="24185" y="15029"/>
                  <a:pt x="24234" y="150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57800" y="3517920"/>
            <a:ext cx="581040" cy="509400"/>
          </a:xfrm>
          <a:custGeom>
            <a:avLst/>
            <a:gdLst/>
            <a:ahLst/>
            <a:rect l="l" t="t" r="r" b="b"/>
            <a:pathLst>
              <a:path w="1613" h="1415">
                <a:moveTo>
                  <a:pt x="12179" y="10716"/>
                </a:moveTo>
                <a:cubicBezTo>
                  <a:pt x="12152" y="10769"/>
                  <a:pt x="12115" y="10838"/>
                  <a:pt x="12105" y="10889"/>
                </a:cubicBezTo>
                <a:cubicBezTo>
                  <a:pt x="12095" y="10942"/>
                  <a:pt x="12108" y="11043"/>
                  <a:pt x="12129" y="11088"/>
                </a:cubicBezTo>
                <a:cubicBezTo>
                  <a:pt x="12154" y="11142"/>
                  <a:pt x="12227" y="11184"/>
                  <a:pt x="12278" y="11187"/>
                </a:cubicBezTo>
                <a:cubicBezTo>
                  <a:pt x="12327" y="11190"/>
                  <a:pt x="12391" y="11166"/>
                  <a:pt x="12427" y="11137"/>
                </a:cubicBezTo>
                <a:cubicBezTo>
                  <a:pt x="12457" y="11113"/>
                  <a:pt x="12491" y="11071"/>
                  <a:pt x="12502" y="11038"/>
                </a:cubicBezTo>
                <a:cubicBezTo>
                  <a:pt x="12520" y="10985"/>
                  <a:pt x="12478" y="10959"/>
                  <a:pt x="12452" y="10939"/>
                </a:cubicBezTo>
                <a:cubicBezTo>
                  <a:pt x="12415" y="10910"/>
                  <a:pt x="12390" y="10932"/>
                  <a:pt x="12353" y="10964"/>
                </a:cubicBezTo>
                <a:cubicBezTo>
                  <a:pt x="12320" y="10993"/>
                  <a:pt x="12283" y="11047"/>
                  <a:pt x="12278" y="11088"/>
                </a:cubicBezTo>
                <a:cubicBezTo>
                  <a:pt x="12273" y="11134"/>
                  <a:pt x="12281" y="11157"/>
                  <a:pt x="12328" y="11162"/>
                </a:cubicBezTo>
                <a:cubicBezTo>
                  <a:pt x="12336" y="11162"/>
                  <a:pt x="12345" y="11162"/>
                  <a:pt x="12353" y="11162"/>
                </a:cubicBezTo>
              </a:path>
              <a:path w="1613" h="1415">
                <a:moveTo>
                  <a:pt x="12601" y="10468"/>
                </a:moveTo>
                <a:cubicBezTo>
                  <a:pt x="12624" y="10543"/>
                  <a:pt x="12645" y="10613"/>
                  <a:pt x="12650" y="10691"/>
                </a:cubicBezTo>
                <a:cubicBezTo>
                  <a:pt x="12656" y="10776"/>
                  <a:pt x="12669" y="10840"/>
                  <a:pt x="12675" y="10914"/>
                </a:cubicBezTo>
                <a:cubicBezTo>
                  <a:pt x="12678" y="10950"/>
                  <a:pt x="12695" y="10984"/>
                  <a:pt x="12725" y="10988"/>
                </a:cubicBezTo>
                <a:cubicBezTo>
                  <a:pt x="12733" y="10988"/>
                  <a:pt x="12742" y="10988"/>
                  <a:pt x="12750" y="10988"/>
                </a:cubicBezTo>
              </a:path>
              <a:path w="1613" h="1415">
                <a:moveTo>
                  <a:pt x="12948" y="10815"/>
                </a:moveTo>
                <a:cubicBezTo>
                  <a:pt x="12948" y="10807"/>
                  <a:pt x="12948" y="10798"/>
                  <a:pt x="12948" y="10790"/>
                </a:cubicBezTo>
              </a:path>
              <a:path w="1613" h="1415">
                <a:moveTo>
                  <a:pt x="13047" y="10220"/>
                </a:moveTo>
                <a:cubicBezTo>
                  <a:pt x="13086" y="10310"/>
                  <a:pt x="13072" y="10355"/>
                  <a:pt x="13072" y="10468"/>
                </a:cubicBezTo>
                <a:cubicBezTo>
                  <a:pt x="13072" y="10518"/>
                  <a:pt x="13100" y="10554"/>
                  <a:pt x="13122" y="10592"/>
                </a:cubicBezTo>
                <a:cubicBezTo>
                  <a:pt x="13142" y="10632"/>
                  <a:pt x="13140" y="10648"/>
                  <a:pt x="13171" y="10641"/>
                </a:cubicBezTo>
              </a:path>
              <a:path w="1613" h="1415">
                <a:moveTo>
                  <a:pt x="13196" y="10145"/>
                </a:moveTo>
                <a:cubicBezTo>
                  <a:pt x="13234" y="10107"/>
                  <a:pt x="13266" y="10085"/>
                  <a:pt x="13320" y="10071"/>
                </a:cubicBezTo>
                <a:cubicBezTo>
                  <a:pt x="13359" y="10061"/>
                  <a:pt x="13375" y="10046"/>
                  <a:pt x="13419" y="10046"/>
                </a:cubicBezTo>
                <a:cubicBezTo>
                  <a:pt x="13444" y="10046"/>
                  <a:pt x="13469" y="10046"/>
                  <a:pt x="13494" y="10046"/>
                </a:cubicBezTo>
                <a:cubicBezTo>
                  <a:pt x="13494" y="10092"/>
                  <a:pt x="13474" y="10104"/>
                  <a:pt x="13469" y="10145"/>
                </a:cubicBezTo>
                <a:cubicBezTo>
                  <a:pt x="13460" y="10224"/>
                  <a:pt x="13455" y="10346"/>
                  <a:pt x="13494" y="10418"/>
                </a:cubicBezTo>
                <a:cubicBezTo>
                  <a:pt x="13512" y="10452"/>
                  <a:pt x="13537" y="10443"/>
                  <a:pt x="13568" y="10443"/>
                </a:cubicBezTo>
              </a:path>
              <a:path w="1613" h="1415">
                <a:moveTo>
                  <a:pt x="13593" y="9798"/>
                </a:moveTo>
                <a:cubicBezTo>
                  <a:pt x="13593" y="9823"/>
                  <a:pt x="13593" y="9831"/>
                  <a:pt x="13593" y="9847"/>
                </a:cubicBezTo>
                <a:cubicBezTo>
                  <a:pt x="13638" y="9847"/>
                  <a:pt x="13657" y="9853"/>
                  <a:pt x="13692" y="9823"/>
                </a:cubicBezTo>
                <a:cubicBezTo>
                  <a:pt x="13742" y="9779"/>
                  <a:pt x="13713" y="9773"/>
                  <a:pt x="13667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4760" y="3143160"/>
            <a:ext cx="1455480" cy="1044720"/>
          </a:xfrm>
          <a:custGeom>
            <a:avLst/>
            <a:gdLst/>
            <a:ahLst/>
            <a:rect l="l" t="t" r="r" b="b"/>
            <a:pathLst>
              <a:path w="4044" h="2903">
                <a:moveTo>
                  <a:pt x="19075" y="8954"/>
                </a:moveTo>
                <a:cubicBezTo>
                  <a:pt x="19117" y="8899"/>
                  <a:pt x="19093" y="8908"/>
                  <a:pt x="19075" y="8855"/>
                </a:cubicBezTo>
                <a:cubicBezTo>
                  <a:pt x="19066" y="8828"/>
                  <a:pt x="19036" y="8766"/>
                  <a:pt x="19000" y="8756"/>
                </a:cubicBezTo>
                <a:cubicBezTo>
                  <a:pt x="18944" y="8740"/>
                  <a:pt x="18924" y="8735"/>
                  <a:pt x="18876" y="8756"/>
                </a:cubicBezTo>
                <a:cubicBezTo>
                  <a:pt x="18811" y="8784"/>
                  <a:pt x="18744" y="8849"/>
                  <a:pt x="18703" y="8905"/>
                </a:cubicBezTo>
                <a:cubicBezTo>
                  <a:pt x="18677" y="8941"/>
                  <a:pt x="18622" y="9061"/>
                  <a:pt x="18628" y="9103"/>
                </a:cubicBezTo>
                <a:cubicBezTo>
                  <a:pt x="18631" y="9125"/>
                  <a:pt x="18679" y="9192"/>
                  <a:pt x="18703" y="9203"/>
                </a:cubicBezTo>
                <a:cubicBezTo>
                  <a:pt x="18748" y="9223"/>
                  <a:pt x="18836" y="9205"/>
                  <a:pt x="18876" y="9178"/>
                </a:cubicBezTo>
                <a:cubicBezTo>
                  <a:pt x="18932" y="9140"/>
                  <a:pt x="18962" y="9080"/>
                  <a:pt x="19000" y="9029"/>
                </a:cubicBezTo>
                <a:cubicBezTo>
                  <a:pt x="19027" y="8992"/>
                  <a:pt x="19025" y="8977"/>
                  <a:pt x="19025" y="8930"/>
                </a:cubicBezTo>
                <a:cubicBezTo>
                  <a:pt x="19014" y="8983"/>
                  <a:pt x="19000" y="9022"/>
                  <a:pt x="19000" y="9079"/>
                </a:cubicBezTo>
                <a:cubicBezTo>
                  <a:pt x="19000" y="9277"/>
                  <a:pt x="19000" y="9822"/>
                  <a:pt x="19000" y="9624"/>
                </a:cubicBezTo>
              </a:path>
              <a:path w="4044" h="2903">
                <a:moveTo>
                  <a:pt x="19769" y="8905"/>
                </a:moveTo>
                <a:cubicBezTo>
                  <a:pt x="19726" y="8871"/>
                  <a:pt x="19698" y="8869"/>
                  <a:pt x="19645" y="8905"/>
                </a:cubicBezTo>
                <a:cubicBezTo>
                  <a:pt x="19577" y="8951"/>
                  <a:pt x="19567" y="8988"/>
                  <a:pt x="19521" y="9054"/>
                </a:cubicBezTo>
                <a:cubicBezTo>
                  <a:pt x="19489" y="9101"/>
                  <a:pt x="19444" y="9163"/>
                  <a:pt x="19472" y="9227"/>
                </a:cubicBezTo>
                <a:cubicBezTo>
                  <a:pt x="19499" y="9291"/>
                  <a:pt x="19555" y="9392"/>
                  <a:pt x="19596" y="9451"/>
                </a:cubicBezTo>
                <a:cubicBezTo>
                  <a:pt x="19640" y="9514"/>
                  <a:pt x="19641" y="9586"/>
                  <a:pt x="19670" y="9649"/>
                </a:cubicBezTo>
                <a:cubicBezTo>
                  <a:pt x="19693" y="9672"/>
                  <a:pt x="19701" y="9676"/>
                  <a:pt x="19695" y="9699"/>
                </a:cubicBezTo>
                <a:cubicBezTo>
                  <a:pt x="19674" y="9706"/>
                  <a:pt x="19657" y="9742"/>
                  <a:pt x="19621" y="9723"/>
                </a:cubicBezTo>
                <a:cubicBezTo>
                  <a:pt x="19592" y="9707"/>
                  <a:pt x="19537" y="9684"/>
                  <a:pt x="19521" y="9649"/>
                </a:cubicBezTo>
                <a:cubicBezTo>
                  <a:pt x="19503" y="9608"/>
                  <a:pt x="19496" y="9576"/>
                  <a:pt x="19496" y="9525"/>
                </a:cubicBezTo>
                <a:cubicBezTo>
                  <a:pt x="19496" y="9459"/>
                  <a:pt x="19539" y="9408"/>
                  <a:pt x="19571" y="9351"/>
                </a:cubicBezTo>
                <a:cubicBezTo>
                  <a:pt x="19593" y="9312"/>
                  <a:pt x="19623" y="9259"/>
                  <a:pt x="19645" y="9227"/>
                </a:cubicBezTo>
                <a:cubicBezTo>
                  <a:pt x="19670" y="9190"/>
                  <a:pt x="19689" y="9193"/>
                  <a:pt x="19645" y="9178"/>
                </a:cubicBezTo>
              </a:path>
              <a:path w="4044" h="2903">
                <a:moveTo>
                  <a:pt x="17289" y="10740"/>
                </a:moveTo>
                <a:cubicBezTo>
                  <a:pt x="17370" y="10740"/>
                  <a:pt x="17443" y="10729"/>
                  <a:pt x="17512" y="10716"/>
                </a:cubicBezTo>
                <a:cubicBezTo>
                  <a:pt x="17571" y="10705"/>
                  <a:pt x="17630" y="10694"/>
                  <a:pt x="17686" y="10691"/>
                </a:cubicBezTo>
                <a:cubicBezTo>
                  <a:pt x="17737" y="10691"/>
                  <a:pt x="17756" y="10690"/>
                  <a:pt x="17785" y="10666"/>
                </a:cubicBezTo>
              </a:path>
              <a:path w="4044" h="2903">
                <a:moveTo>
                  <a:pt x="18281" y="10443"/>
                </a:moveTo>
                <a:cubicBezTo>
                  <a:pt x="18346" y="10415"/>
                  <a:pt x="18426" y="10367"/>
                  <a:pt x="18504" y="10393"/>
                </a:cubicBezTo>
                <a:cubicBezTo>
                  <a:pt x="18545" y="10407"/>
                  <a:pt x="18637" y="10415"/>
                  <a:pt x="18653" y="10468"/>
                </a:cubicBezTo>
                <a:cubicBezTo>
                  <a:pt x="18685" y="10571"/>
                  <a:pt x="18670" y="10654"/>
                  <a:pt x="18604" y="10740"/>
                </a:cubicBezTo>
                <a:cubicBezTo>
                  <a:pt x="18554" y="10805"/>
                  <a:pt x="18507" y="10878"/>
                  <a:pt x="18455" y="10939"/>
                </a:cubicBezTo>
                <a:cubicBezTo>
                  <a:pt x="18407" y="10996"/>
                  <a:pt x="18375" y="11054"/>
                  <a:pt x="18331" y="11112"/>
                </a:cubicBezTo>
                <a:cubicBezTo>
                  <a:pt x="18314" y="11134"/>
                  <a:pt x="18277" y="11208"/>
                  <a:pt x="18306" y="11237"/>
                </a:cubicBezTo>
                <a:cubicBezTo>
                  <a:pt x="18331" y="11262"/>
                  <a:pt x="18393" y="11261"/>
                  <a:pt x="18430" y="11261"/>
                </a:cubicBezTo>
                <a:cubicBezTo>
                  <a:pt x="18478" y="11261"/>
                  <a:pt x="18536" y="11251"/>
                  <a:pt x="18579" y="11237"/>
                </a:cubicBezTo>
                <a:cubicBezTo>
                  <a:pt x="18638" y="11207"/>
                  <a:pt x="18665" y="11192"/>
                  <a:pt x="18703" y="11162"/>
                </a:cubicBezTo>
              </a:path>
              <a:path w="4044" h="2903">
                <a:moveTo>
                  <a:pt x="19075" y="10542"/>
                </a:moveTo>
                <a:cubicBezTo>
                  <a:pt x="19041" y="10626"/>
                  <a:pt x="19006" y="10701"/>
                  <a:pt x="18976" y="10790"/>
                </a:cubicBezTo>
                <a:cubicBezTo>
                  <a:pt x="18936" y="10911"/>
                  <a:pt x="18906" y="10979"/>
                  <a:pt x="18901" y="11112"/>
                </a:cubicBezTo>
                <a:cubicBezTo>
                  <a:pt x="18898" y="11185"/>
                  <a:pt x="18928" y="11238"/>
                  <a:pt x="19000" y="11261"/>
                </a:cubicBezTo>
                <a:cubicBezTo>
                  <a:pt x="19051" y="11278"/>
                  <a:pt x="19111" y="11244"/>
                  <a:pt x="19149" y="11212"/>
                </a:cubicBezTo>
                <a:cubicBezTo>
                  <a:pt x="19197" y="11172"/>
                  <a:pt x="19262" y="11077"/>
                  <a:pt x="19273" y="11013"/>
                </a:cubicBezTo>
                <a:cubicBezTo>
                  <a:pt x="19288" y="10928"/>
                  <a:pt x="19278" y="10820"/>
                  <a:pt x="19248" y="10740"/>
                </a:cubicBezTo>
                <a:cubicBezTo>
                  <a:pt x="19226" y="10681"/>
                  <a:pt x="19181" y="10616"/>
                  <a:pt x="19124" y="10592"/>
                </a:cubicBezTo>
                <a:cubicBezTo>
                  <a:pt x="19102" y="10583"/>
                  <a:pt x="19031" y="10561"/>
                  <a:pt x="19050" y="10517"/>
                </a:cubicBezTo>
                <a:cubicBezTo>
                  <a:pt x="19058" y="10509"/>
                  <a:pt x="19067" y="10500"/>
                  <a:pt x="19075" y="10492"/>
                </a:cubicBezTo>
              </a:path>
              <a:path w="4044" h="2903">
                <a:moveTo>
                  <a:pt x="19571" y="10294"/>
                </a:moveTo>
                <a:cubicBezTo>
                  <a:pt x="19547" y="10325"/>
                  <a:pt x="19453" y="10418"/>
                  <a:pt x="19447" y="10468"/>
                </a:cubicBezTo>
                <a:cubicBezTo>
                  <a:pt x="19444" y="10492"/>
                  <a:pt x="19447" y="10518"/>
                  <a:pt x="19447" y="10542"/>
                </a:cubicBezTo>
                <a:cubicBezTo>
                  <a:pt x="19493" y="10542"/>
                  <a:pt x="19511" y="10548"/>
                  <a:pt x="19546" y="10517"/>
                </a:cubicBezTo>
                <a:cubicBezTo>
                  <a:pt x="19571" y="10494"/>
                  <a:pt x="19629" y="10456"/>
                  <a:pt x="19621" y="10418"/>
                </a:cubicBezTo>
                <a:cubicBezTo>
                  <a:pt x="19611" y="10372"/>
                  <a:pt x="19571" y="10291"/>
                  <a:pt x="19521" y="10269"/>
                </a:cubicBezTo>
                <a:cubicBezTo>
                  <a:pt x="19478" y="10250"/>
                  <a:pt x="19488" y="10293"/>
                  <a:pt x="19472" y="10244"/>
                </a:cubicBezTo>
              </a:path>
              <a:path w="4044" h="2903">
                <a:moveTo>
                  <a:pt x="20042" y="10492"/>
                </a:moveTo>
                <a:cubicBezTo>
                  <a:pt x="20106" y="10479"/>
                  <a:pt x="20184" y="10447"/>
                  <a:pt x="20241" y="10443"/>
                </a:cubicBezTo>
                <a:cubicBezTo>
                  <a:pt x="20301" y="10439"/>
                  <a:pt x="20299" y="10434"/>
                  <a:pt x="20340" y="10393"/>
                </a:cubicBezTo>
              </a:path>
              <a:path w="4044" h="2903">
                <a:moveTo>
                  <a:pt x="20042" y="10492"/>
                </a:moveTo>
                <a:cubicBezTo>
                  <a:pt x="19981" y="10553"/>
                  <a:pt x="19936" y="10641"/>
                  <a:pt x="19893" y="10691"/>
                </a:cubicBezTo>
                <a:cubicBezTo>
                  <a:pt x="19881" y="10705"/>
                  <a:pt x="19865" y="10713"/>
                  <a:pt x="19844" y="10740"/>
                </a:cubicBezTo>
                <a:cubicBezTo>
                  <a:pt x="19881" y="10740"/>
                  <a:pt x="19939" y="10730"/>
                  <a:pt x="19968" y="10716"/>
                </a:cubicBezTo>
                <a:cubicBezTo>
                  <a:pt x="20014" y="10693"/>
                  <a:pt x="20032" y="10691"/>
                  <a:pt x="20092" y="10691"/>
                </a:cubicBezTo>
                <a:cubicBezTo>
                  <a:pt x="20157" y="10691"/>
                  <a:pt x="20215" y="10727"/>
                  <a:pt x="20241" y="10790"/>
                </a:cubicBezTo>
                <a:cubicBezTo>
                  <a:pt x="20264" y="10845"/>
                  <a:pt x="20265" y="10902"/>
                  <a:pt x="20265" y="10964"/>
                </a:cubicBezTo>
                <a:cubicBezTo>
                  <a:pt x="20265" y="11030"/>
                  <a:pt x="20261" y="11062"/>
                  <a:pt x="20216" y="11112"/>
                </a:cubicBezTo>
                <a:cubicBezTo>
                  <a:pt x="20164" y="11169"/>
                  <a:pt x="20119" y="11182"/>
                  <a:pt x="20042" y="11187"/>
                </a:cubicBezTo>
                <a:cubicBezTo>
                  <a:pt x="20002" y="11190"/>
                  <a:pt x="19962" y="11179"/>
                  <a:pt x="19943" y="11137"/>
                </a:cubicBezTo>
                <a:cubicBezTo>
                  <a:pt x="19929" y="11104"/>
                  <a:pt x="19952" y="11084"/>
                  <a:pt x="19968" y="11063"/>
                </a:cubicBezTo>
              </a:path>
              <a:path w="4044" h="2903">
                <a:moveTo>
                  <a:pt x="20737" y="10592"/>
                </a:moveTo>
                <a:cubicBezTo>
                  <a:pt x="20694" y="10718"/>
                  <a:pt x="20622" y="10798"/>
                  <a:pt x="20563" y="10914"/>
                </a:cubicBezTo>
                <a:cubicBezTo>
                  <a:pt x="20526" y="10988"/>
                  <a:pt x="20478" y="11056"/>
                  <a:pt x="20464" y="11137"/>
                </a:cubicBezTo>
                <a:cubicBezTo>
                  <a:pt x="20464" y="11154"/>
                  <a:pt x="20464" y="11170"/>
                  <a:pt x="20464" y="11187"/>
                </a:cubicBezTo>
                <a:cubicBezTo>
                  <a:pt x="20497" y="11212"/>
                  <a:pt x="20541" y="11226"/>
                  <a:pt x="20588" y="11212"/>
                </a:cubicBezTo>
                <a:cubicBezTo>
                  <a:pt x="20658" y="11191"/>
                  <a:pt x="20704" y="11122"/>
                  <a:pt x="20737" y="11063"/>
                </a:cubicBezTo>
                <a:cubicBezTo>
                  <a:pt x="20768" y="11007"/>
                  <a:pt x="20810" y="10931"/>
                  <a:pt x="20786" y="10864"/>
                </a:cubicBezTo>
                <a:cubicBezTo>
                  <a:pt x="20756" y="10779"/>
                  <a:pt x="20694" y="10737"/>
                  <a:pt x="20662" y="10666"/>
                </a:cubicBezTo>
                <a:cubicBezTo>
                  <a:pt x="20630" y="10596"/>
                  <a:pt x="20633" y="10612"/>
                  <a:pt x="20662" y="10542"/>
                </a:cubicBezTo>
              </a:path>
              <a:path w="4044" h="2903">
                <a:moveTo>
                  <a:pt x="21183" y="10046"/>
                </a:moveTo>
                <a:cubicBezTo>
                  <a:pt x="21183" y="10138"/>
                  <a:pt x="21164" y="10206"/>
                  <a:pt x="21158" y="10294"/>
                </a:cubicBezTo>
                <a:cubicBezTo>
                  <a:pt x="21155" y="10335"/>
                  <a:pt x="21158" y="10377"/>
                  <a:pt x="21158" y="10418"/>
                </a:cubicBezTo>
              </a:path>
              <a:path w="4044" h="2903">
                <a:moveTo>
                  <a:pt x="17636" y="11633"/>
                </a:moveTo>
                <a:cubicBezTo>
                  <a:pt x="17870" y="11633"/>
                  <a:pt x="18101" y="11623"/>
                  <a:pt x="18331" y="11609"/>
                </a:cubicBezTo>
                <a:cubicBezTo>
                  <a:pt x="18700" y="11586"/>
                  <a:pt x="19078" y="11599"/>
                  <a:pt x="19447" y="11584"/>
                </a:cubicBezTo>
                <a:cubicBezTo>
                  <a:pt x="19844" y="11568"/>
                  <a:pt x="20243" y="11590"/>
                  <a:pt x="20638" y="11609"/>
                </a:cubicBezTo>
                <a:cubicBezTo>
                  <a:pt x="20788" y="11616"/>
                  <a:pt x="21205" y="11667"/>
                  <a:pt x="21307" y="11584"/>
                </a:cubicBezTo>
                <a:cubicBezTo>
                  <a:pt x="21323" y="11571"/>
                  <a:pt x="21322" y="11579"/>
                  <a:pt x="21282" y="11559"/>
                </a:cubicBezTo>
                <a:cubicBezTo>
                  <a:pt x="21274" y="11559"/>
                  <a:pt x="21266" y="11559"/>
                  <a:pt x="21258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4367160"/>
            <a:ext cx="392400" cy="928800"/>
          </a:xfrm>
          <a:custGeom>
            <a:avLst/>
            <a:gdLst/>
            <a:ahLst/>
            <a:rect l="l" t="t" r="r" b="b"/>
            <a:pathLst>
              <a:path w="1092" h="2581">
                <a:moveTo>
                  <a:pt x="4068" y="12229"/>
                </a:moveTo>
                <a:cubicBezTo>
                  <a:pt x="4024" y="12196"/>
                  <a:pt x="4012" y="12194"/>
                  <a:pt x="3969" y="12229"/>
                </a:cubicBezTo>
                <a:cubicBezTo>
                  <a:pt x="3908" y="12278"/>
                  <a:pt x="3870" y="12318"/>
                  <a:pt x="3820" y="12378"/>
                </a:cubicBezTo>
                <a:cubicBezTo>
                  <a:pt x="3764" y="12445"/>
                  <a:pt x="3688" y="12512"/>
                  <a:pt x="3671" y="12601"/>
                </a:cubicBezTo>
                <a:cubicBezTo>
                  <a:pt x="3650" y="12708"/>
                  <a:pt x="3643" y="12780"/>
                  <a:pt x="3721" y="12874"/>
                </a:cubicBezTo>
                <a:cubicBezTo>
                  <a:pt x="3783" y="12948"/>
                  <a:pt x="3852" y="12969"/>
                  <a:pt x="3944" y="12973"/>
                </a:cubicBezTo>
                <a:cubicBezTo>
                  <a:pt x="4061" y="12979"/>
                  <a:pt x="4093" y="12954"/>
                  <a:pt x="4192" y="12898"/>
                </a:cubicBezTo>
                <a:cubicBezTo>
                  <a:pt x="4294" y="12840"/>
                  <a:pt x="4348" y="12810"/>
                  <a:pt x="4390" y="12700"/>
                </a:cubicBezTo>
                <a:cubicBezTo>
                  <a:pt x="4428" y="12601"/>
                  <a:pt x="4425" y="12501"/>
                  <a:pt x="4390" y="12402"/>
                </a:cubicBezTo>
                <a:cubicBezTo>
                  <a:pt x="4345" y="12277"/>
                  <a:pt x="4314" y="12273"/>
                  <a:pt x="4217" y="12204"/>
                </a:cubicBezTo>
                <a:cubicBezTo>
                  <a:pt x="4140" y="12149"/>
                  <a:pt x="4095" y="12135"/>
                  <a:pt x="3994" y="12129"/>
                </a:cubicBezTo>
                <a:cubicBezTo>
                  <a:pt x="3947" y="12126"/>
                  <a:pt x="3881" y="12176"/>
                  <a:pt x="3845" y="12204"/>
                </a:cubicBezTo>
                <a:cubicBezTo>
                  <a:pt x="3817" y="12232"/>
                  <a:pt x="3808" y="12245"/>
                  <a:pt x="3820" y="12278"/>
                </a:cubicBezTo>
              </a:path>
              <a:path w="1092" h="2581">
                <a:moveTo>
                  <a:pt x="4043" y="13122"/>
                </a:moveTo>
                <a:cubicBezTo>
                  <a:pt x="4043" y="13415"/>
                  <a:pt x="4099" y="13795"/>
                  <a:pt x="4018" y="14064"/>
                </a:cubicBezTo>
                <a:cubicBezTo>
                  <a:pt x="4010" y="14091"/>
                  <a:pt x="4018" y="14134"/>
                  <a:pt x="4018" y="14163"/>
                </a:cubicBezTo>
              </a:path>
              <a:path w="1092" h="2581">
                <a:moveTo>
                  <a:pt x="3994" y="14039"/>
                </a:moveTo>
                <a:cubicBezTo>
                  <a:pt x="3987" y="14088"/>
                  <a:pt x="3976" y="14144"/>
                  <a:pt x="3944" y="14188"/>
                </a:cubicBezTo>
                <a:cubicBezTo>
                  <a:pt x="3871" y="14289"/>
                  <a:pt x="3804" y="14376"/>
                  <a:pt x="3746" y="14486"/>
                </a:cubicBezTo>
                <a:cubicBezTo>
                  <a:pt x="3711" y="14553"/>
                  <a:pt x="3676" y="14610"/>
                  <a:pt x="3646" y="14660"/>
                </a:cubicBezTo>
                <a:cubicBezTo>
                  <a:pt x="3622" y="14700"/>
                  <a:pt x="3603" y="14740"/>
                  <a:pt x="3621" y="14684"/>
                </a:cubicBezTo>
              </a:path>
              <a:path w="1092" h="2581">
                <a:moveTo>
                  <a:pt x="4093" y="14163"/>
                </a:moveTo>
                <a:cubicBezTo>
                  <a:pt x="4126" y="14254"/>
                  <a:pt x="4150" y="14317"/>
                  <a:pt x="4217" y="14387"/>
                </a:cubicBezTo>
                <a:cubicBezTo>
                  <a:pt x="4276" y="14450"/>
                  <a:pt x="4344" y="14513"/>
                  <a:pt x="4415" y="14560"/>
                </a:cubicBezTo>
                <a:cubicBezTo>
                  <a:pt x="4477" y="14601"/>
                  <a:pt x="4542" y="14610"/>
                  <a:pt x="4614" y="14610"/>
                </a:cubicBezTo>
                <a:cubicBezTo>
                  <a:pt x="4679" y="14610"/>
                  <a:pt x="4661" y="14598"/>
                  <a:pt x="4688" y="14536"/>
                </a:cubicBezTo>
              </a:path>
              <a:path w="1092" h="2581">
                <a:moveTo>
                  <a:pt x="3746" y="13519"/>
                </a:moveTo>
                <a:cubicBezTo>
                  <a:pt x="3915" y="13519"/>
                  <a:pt x="4077" y="13525"/>
                  <a:pt x="4242" y="13543"/>
                </a:cubicBezTo>
                <a:cubicBezTo>
                  <a:pt x="4310" y="13543"/>
                  <a:pt x="4329" y="13546"/>
                  <a:pt x="4366" y="135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60840" y="4670280"/>
            <a:ext cx="393480" cy="428760"/>
          </a:xfrm>
          <a:custGeom>
            <a:avLst/>
            <a:gdLst/>
            <a:ahLst/>
            <a:rect l="l" t="t" r="r" b="b"/>
            <a:pathLst>
              <a:path w="1092" h="1191">
                <a:moveTo>
                  <a:pt x="10393" y="13543"/>
                </a:moveTo>
                <a:cubicBezTo>
                  <a:pt x="10422" y="13534"/>
                  <a:pt x="10438" y="13510"/>
                  <a:pt x="10443" y="13469"/>
                </a:cubicBezTo>
                <a:cubicBezTo>
                  <a:pt x="10443" y="13466"/>
                  <a:pt x="10418" y="13370"/>
                  <a:pt x="10418" y="13370"/>
                </a:cubicBezTo>
                <a:cubicBezTo>
                  <a:pt x="10372" y="13334"/>
                  <a:pt x="10339" y="13356"/>
                  <a:pt x="10294" y="13370"/>
                </a:cubicBezTo>
                <a:cubicBezTo>
                  <a:pt x="10253" y="13382"/>
                  <a:pt x="10191" y="13396"/>
                  <a:pt x="10170" y="13444"/>
                </a:cubicBezTo>
                <a:cubicBezTo>
                  <a:pt x="10151" y="13486"/>
                  <a:pt x="10171" y="13582"/>
                  <a:pt x="10195" y="13618"/>
                </a:cubicBezTo>
                <a:cubicBezTo>
                  <a:pt x="10223" y="13660"/>
                  <a:pt x="10276" y="13643"/>
                  <a:pt x="10319" y="13643"/>
                </a:cubicBezTo>
                <a:cubicBezTo>
                  <a:pt x="10372" y="13643"/>
                  <a:pt x="10380" y="13631"/>
                  <a:pt x="10418" y="13593"/>
                </a:cubicBezTo>
                <a:cubicBezTo>
                  <a:pt x="10453" y="13558"/>
                  <a:pt x="10465" y="13531"/>
                  <a:pt x="10492" y="13494"/>
                </a:cubicBezTo>
                <a:cubicBezTo>
                  <a:pt x="10492" y="13549"/>
                  <a:pt x="10474" y="13600"/>
                  <a:pt x="10468" y="13643"/>
                </a:cubicBezTo>
                <a:cubicBezTo>
                  <a:pt x="10445" y="13801"/>
                  <a:pt x="10487" y="13969"/>
                  <a:pt x="10443" y="14114"/>
                </a:cubicBezTo>
                <a:cubicBezTo>
                  <a:pt x="10412" y="14217"/>
                  <a:pt x="10482" y="14090"/>
                  <a:pt x="10492" y="14064"/>
                </a:cubicBezTo>
              </a:path>
              <a:path w="1092" h="1191">
                <a:moveTo>
                  <a:pt x="10691" y="13419"/>
                </a:moveTo>
                <a:cubicBezTo>
                  <a:pt x="10655" y="13455"/>
                  <a:pt x="10625" y="13499"/>
                  <a:pt x="10616" y="13543"/>
                </a:cubicBezTo>
                <a:cubicBezTo>
                  <a:pt x="10604" y="13603"/>
                  <a:pt x="10615" y="13647"/>
                  <a:pt x="10641" y="13692"/>
                </a:cubicBezTo>
                <a:cubicBezTo>
                  <a:pt x="10663" y="13731"/>
                  <a:pt x="10706" y="13787"/>
                  <a:pt x="10765" y="13767"/>
                </a:cubicBezTo>
                <a:cubicBezTo>
                  <a:pt x="10807" y="13753"/>
                  <a:pt x="10862" y="13707"/>
                  <a:pt x="10889" y="13667"/>
                </a:cubicBezTo>
                <a:cubicBezTo>
                  <a:pt x="10924" y="13614"/>
                  <a:pt x="10960" y="13553"/>
                  <a:pt x="10964" y="13494"/>
                </a:cubicBezTo>
                <a:cubicBezTo>
                  <a:pt x="10968" y="13423"/>
                  <a:pt x="10935" y="13391"/>
                  <a:pt x="10889" y="13345"/>
                </a:cubicBezTo>
                <a:cubicBezTo>
                  <a:pt x="10842" y="13298"/>
                  <a:pt x="10809" y="13319"/>
                  <a:pt x="10765" y="13345"/>
                </a:cubicBezTo>
                <a:cubicBezTo>
                  <a:pt x="10716" y="13374"/>
                  <a:pt x="10704" y="13369"/>
                  <a:pt x="10691" y="13419"/>
                </a:cubicBezTo>
              </a:path>
              <a:path w="1092" h="1191">
                <a:moveTo>
                  <a:pt x="10765" y="13717"/>
                </a:moveTo>
                <a:cubicBezTo>
                  <a:pt x="10743" y="13790"/>
                  <a:pt x="10718" y="13848"/>
                  <a:pt x="10691" y="13915"/>
                </a:cubicBezTo>
                <a:cubicBezTo>
                  <a:pt x="10663" y="13984"/>
                  <a:pt x="10657" y="14000"/>
                  <a:pt x="10691" y="14064"/>
                </a:cubicBezTo>
                <a:cubicBezTo>
                  <a:pt x="10727" y="14132"/>
                  <a:pt x="10739" y="14157"/>
                  <a:pt x="10815" y="14163"/>
                </a:cubicBezTo>
                <a:cubicBezTo>
                  <a:pt x="10864" y="14167"/>
                  <a:pt x="10914" y="14165"/>
                  <a:pt x="10939" y="14114"/>
                </a:cubicBezTo>
                <a:cubicBezTo>
                  <a:pt x="10974" y="14041"/>
                  <a:pt x="11011" y="13928"/>
                  <a:pt x="10988" y="13841"/>
                </a:cubicBezTo>
                <a:cubicBezTo>
                  <a:pt x="10974" y="13788"/>
                  <a:pt x="10938" y="13733"/>
                  <a:pt x="10889" y="13717"/>
                </a:cubicBezTo>
                <a:cubicBezTo>
                  <a:pt x="10864" y="13717"/>
                  <a:pt x="10856" y="13717"/>
                  <a:pt x="10864" y="13692"/>
                </a:cubicBezTo>
              </a:path>
              <a:path w="1092" h="1191">
                <a:moveTo>
                  <a:pt x="11088" y="13196"/>
                </a:moveTo>
                <a:cubicBezTo>
                  <a:pt x="11044" y="13218"/>
                  <a:pt x="11032" y="13221"/>
                  <a:pt x="11013" y="13246"/>
                </a:cubicBezTo>
                <a:cubicBezTo>
                  <a:pt x="11024" y="13279"/>
                  <a:pt x="11064" y="13292"/>
                  <a:pt x="11112" y="13295"/>
                </a:cubicBezTo>
                <a:cubicBezTo>
                  <a:pt x="11145" y="13297"/>
                  <a:pt x="11220" y="13280"/>
                  <a:pt x="11237" y="13246"/>
                </a:cubicBezTo>
                <a:cubicBezTo>
                  <a:pt x="11262" y="13196"/>
                  <a:pt x="11264" y="13172"/>
                  <a:pt x="11237" y="13122"/>
                </a:cubicBezTo>
                <a:cubicBezTo>
                  <a:pt x="11185" y="13024"/>
                  <a:pt x="11162" y="13048"/>
                  <a:pt x="11063" y="13022"/>
                </a:cubicBezTo>
                <a:cubicBezTo>
                  <a:pt x="11013" y="13006"/>
                  <a:pt x="10964" y="12989"/>
                  <a:pt x="10914" y="129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99000" y="4483080"/>
            <a:ext cx="258840" cy="231840"/>
          </a:xfrm>
          <a:custGeom>
            <a:avLst/>
            <a:gdLst/>
            <a:ahLst/>
            <a:rect l="l" t="t" r="r" b="b"/>
            <a:pathLst>
              <a:path w="721" h="646">
                <a:moveTo>
                  <a:pt x="12874" y="12502"/>
                </a:moveTo>
                <a:cubicBezTo>
                  <a:pt x="12912" y="12515"/>
                  <a:pt x="12900" y="12542"/>
                  <a:pt x="12923" y="12576"/>
                </a:cubicBezTo>
                <a:cubicBezTo>
                  <a:pt x="12994" y="12682"/>
                  <a:pt x="13067" y="12799"/>
                  <a:pt x="13146" y="12898"/>
                </a:cubicBezTo>
                <a:cubicBezTo>
                  <a:pt x="13204" y="12971"/>
                  <a:pt x="13290" y="13006"/>
                  <a:pt x="13370" y="13047"/>
                </a:cubicBezTo>
                <a:cubicBezTo>
                  <a:pt x="13423" y="13074"/>
                  <a:pt x="13437" y="13097"/>
                  <a:pt x="13494" y="13097"/>
                </a:cubicBezTo>
              </a:path>
              <a:path w="721" h="646">
                <a:moveTo>
                  <a:pt x="13370" y="12452"/>
                </a:moveTo>
                <a:cubicBezTo>
                  <a:pt x="13294" y="12520"/>
                  <a:pt x="13218" y="12577"/>
                  <a:pt x="13146" y="12650"/>
                </a:cubicBezTo>
                <a:cubicBezTo>
                  <a:pt x="13058" y="12738"/>
                  <a:pt x="13002" y="12799"/>
                  <a:pt x="12923" y="12898"/>
                </a:cubicBezTo>
                <a:cubicBezTo>
                  <a:pt x="12900" y="12928"/>
                  <a:pt x="12822" y="13032"/>
                  <a:pt x="12799" y="13047"/>
                </a:cubicBezTo>
                <a:cubicBezTo>
                  <a:pt x="12791" y="13047"/>
                  <a:pt x="12782" y="13047"/>
                  <a:pt x="12774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86240" y="4456080"/>
            <a:ext cx="2563920" cy="598680"/>
          </a:xfrm>
          <a:custGeom>
            <a:avLst/>
            <a:gdLst/>
            <a:ahLst/>
            <a:rect l="l" t="t" r="r" b="b"/>
            <a:pathLst>
              <a:path w="7120" h="1662">
                <a:moveTo>
                  <a:pt x="15304" y="12502"/>
                </a:moveTo>
                <a:cubicBezTo>
                  <a:pt x="15304" y="12558"/>
                  <a:pt x="15295" y="12580"/>
                  <a:pt x="15280" y="12626"/>
                </a:cubicBezTo>
                <a:cubicBezTo>
                  <a:pt x="15262" y="12681"/>
                  <a:pt x="15245" y="12750"/>
                  <a:pt x="15230" y="12799"/>
                </a:cubicBezTo>
                <a:cubicBezTo>
                  <a:pt x="15224" y="12821"/>
                  <a:pt x="15244" y="12894"/>
                  <a:pt x="15255" y="12898"/>
                </a:cubicBezTo>
                <a:cubicBezTo>
                  <a:pt x="15339" y="12928"/>
                  <a:pt x="15436" y="12902"/>
                  <a:pt x="15528" y="12923"/>
                </a:cubicBezTo>
                <a:cubicBezTo>
                  <a:pt x="15587" y="12936"/>
                  <a:pt x="15612" y="12948"/>
                  <a:pt x="15677" y="12948"/>
                </a:cubicBezTo>
                <a:cubicBezTo>
                  <a:pt x="15685" y="12948"/>
                  <a:pt x="15693" y="12948"/>
                  <a:pt x="15701" y="12948"/>
                </a:cubicBezTo>
              </a:path>
              <a:path w="7120" h="1662">
                <a:moveTo>
                  <a:pt x="15726" y="12427"/>
                </a:moveTo>
                <a:cubicBezTo>
                  <a:pt x="15726" y="12620"/>
                  <a:pt x="15721" y="12809"/>
                  <a:pt x="15701" y="12998"/>
                </a:cubicBezTo>
                <a:cubicBezTo>
                  <a:pt x="15692" y="13083"/>
                  <a:pt x="15722" y="13141"/>
                  <a:pt x="15726" y="13221"/>
                </a:cubicBezTo>
                <a:cubicBezTo>
                  <a:pt x="15729" y="13283"/>
                  <a:pt x="15717" y="13275"/>
                  <a:pt x="15751" y="13320"/>
                </a:cubicBezTo>
              </a:path>
              <a:path w="7120" h="1662">
                <a:moveTo>
                  <a:pt x="16346" y="12502"/>
                </a:moveTo>
                <a:cubicBezTo>
                  <a:pt x="16265" y="12502"/>
                  <a:pt x="16240" y="12511"/>
                  <a:pt x="16173" y="12551"/>
                </a:cubicBezTo>
                <a:cubicBezTo>
                  <a:pt x="16091" y="12600"/>
                  <a:pt x="16058" y="12683"/>
                  <a:pt x="16024" y="12774"/>
                </a:cubicBezTo>
                <a:cubicBezTo>
                  <a:pt x="15989" y="12868"/>
                  <a:pt x="15958" y="12930"/>
                  <a:pt x="15999" y="13022"/>
                </a:cubicBezTo>
                <a:cubicBezTo>
                  <a:pt x="16025" y="13080"/>
                  <a:pt x="16056" y="13119"/>
                  <a:pt x="16123" y="13122"/>
                </a:cubicBezTo>
                <a:cubicBezTo>
                  <a:pt x="16218" y="13127"/>
                  <a:pt x="16263" y="13114"/>
                  <a:pt x="16346" y="13072"/>
                </a:cubicBezTo>
                <a:cubicBezTo>
                  <a:pt x="16418" y="13036"/>
                  <a:pt x="16458" y="12992"/>
                  <a:pt x="16495" y="12923"/>
                </a:cubicBezTo>
                <a:cubicBezTo>
                  <a:pt x="16537" y="12844"/>
                  <a:pt x="16538" y="12729"/>
                  <a:pt x="16495" y="12650"/>
                </a:cubicBezTo>
                <a:cubicBezTo>
                  <a:pt x="16474" y="12611"/>
                  <a:pt x="16437" y="12565"/>
                  <a:pt x="16396" y="12551"/>
                </a:cubicBezTo>
                <a:cubicBezTo>
                  <a:pt x="16388" y="12551"/>
                  <a:pt x="16379" y="12551"/>
                  <a:pt x="16371" y="12551"/>
                </a:cubicBezTo>
              </a:path>
              <a:path w="7120" h="1662">
                <a:moveTo>
                  <a:pt x="15106" y="13370"/>
                </a:moveTo>
                <a:cubicBezTo>
                  <a:pt x="15160" y="13337"/>
                  <a:pt x="15168" y="13362"/>
                  <a:pt x="15230" y="13345"/>
                </a:cubicBezTo>
                <a:cubicBezTo>
                  <a:pt x="15301" y="13325"/>
                  <a:pt x="15352" y="13320"/>
                  <a:pt x="15429" y="13320"/>
                </a:cubicBezTo>
                <a:cubicBezTo>
                  <a:pt x="15549" y="13320"/>
                  <a:pt x="15660" y="13308"/>
                  <a:pt x="15776" y="13295"/>
                </a:cubicBezTo>
                <a:cubicBezTo>
                  <a:pt x="15916" y="13280"/>
                  <a:pt x="16060" y="13261"/>
                  <a:pt x="16197" y="13246"/>
                </a:cubicBezTo>
                <a:cubicBezTo>
                  <a:pt x="16337" y="13231"/>
                  <a:pt x="16544" y="13241"/>
                  <a:pt x="16644" y="13271"/>
                </a:cubicBezTo>
                <a:cubicBezTo>
                  <a:pt x="16652" y="13271"/>
                  <a:pt x="16661" y="13271"/>
                  <a:pt x="16669" y="13271"/>
                </a:cubicBezTo>
              </a:path>
              <a:path w="7120" h="1662">
                <a:moveTo>
                  <a:pt x="14982" y="13593"/>
                </a:moveTo>
                <a:cubicBezTo>
                  <a:pt x="14938" y="13528"/>
                  <a:pt x="14938" y="13543"/>
                  <a:pt x="14858" y="13543"/>
                </a:cubicBezTo>
                <a:cubicBezTo>
                  <a:pt x="14817" y="13543"/>
                  <a:pt x="14773" y="13576"/>
                  <a:pt x="14759" y="13593"/>
                </a:cubicBezTo>
                <a:cubicBezTo>
                  <a:pt x="14728" y="13628"/>
                  <a:pt x="14755" y="13679"/>
                  <a:pt x="14808" y="13692"/>
                </a:cubicBezTo>
                <a:cubicBezTo>
                  <a:pt x="14889" y="13712"/>
                  <a:pt x="14959" y="13739"/>
                  <a:pt x="15032" y="13791"/>
                </a:cubicBezTo>
                <a:cubicBezTo>
                  <a:pt x="15058" y="13809"/>
                  <a:pt x="15102" y="13854"/>
                  <a:pt x="15081" y="13891"/>
                </a:cubicBezTo>
                <a:cubicBezTo>
                  <a:pt x="15069" y="13912"/>
                  <a:pt x="14979" y="13960"/>
                  <a:pt x="14957" y="13965"/>
                </a:cubicBezTo>
                <a:cubicBezTo>
                  <a:pt x="14881" y="13983"/>
                  <a:pt x="14796" y="13959"/>
                  <a:pt x="14734" y="13940"/>
                </a:cubicBezTo>
                <a:cubicBezTo>
                  <a:pt x="14690" y="13927"/>
                  <a:pt x="14699" y="13960"/>
                  <a:pt x="14684" y="13915"/>
                </a:cubicBezTo>
              </a:path>
              <a:path w="7120" h="1662">
                <a:moveTo>
                  <a:pt x="15205" y="13667"/>
                </a:moveTo>
                <a:cubicBezTo>
                  <a:pt x="15229" y="13731"/>
                  <a:pt x="15230" y="13772"/>
                  <a:pt x="15230" y="13841"/>
                </a:cubicBezTo>
                <a:cubicBezTo>
                  <a:pt x="15230" y="13882"/>
                  <a:pt x="15230" y="13924"/>
                  <a:pt x="15230" y="13965"/>
                </a:cubicBezTo>
              </a:path>
              <a:path w="7120" h="1662">
                <a:moveTo>
                  <a:pt x="15379" y="13643"/>
                </a:moveTo>
                <a:cubicBezTo>
                  <a:pt x="15379" y="13731"/>
                  <a:pt x="15352" y="13871"/>
                  <a:pt x="15404" y="13940"/>
                </a:cubicBezTo>
                <a:cubicBezTo>
                  <a:pt x="15391" y="13887"/>
                  <a:pt x="15379" y="13855"/>
                  <a:pt x="15379" y="13791"/>
                </a:cubicBezTo>
                <a:cubicBezTo>
                  <a:pt x="15379" y="13730"/>
                  <a:pt x="15387" y="13692"/>
                  <a:pt x="15404" y="13643"/>
                </a:cubicBezTo>
                <a:cubicBezTo>
                  <a:pt x="15428" y="13571"/>
                  <a:pt x="15423" y="13550"/>
                  <a:pt x="15503" y="13543"/>
                </a:cubicBezTo>
                <a:cubicBezTo>
                  <a:pt x="15529" y="13541"/>
                  <a:pt x="15591" y="13552"/>
                  <a:pt x="15602" y="13568"/>
                </a:cubicBezTo>
                <a:cubicBezTo>
                  <a:pt x="15621" y="13597"/>
                  <a:pt x="15648" y="13652"/>
                  <a:pt x="15652" y="13692"/>
                </a:cubicBezTo>
                <a:cubicBezTo>
                  <a:pt x="15658" y="13748"/>
                  <a:pt x="15677" y="13782"/>
                  <a:pt x="15677" y="13841"/>
                </a:cubicBezTo>
                <a:cubicBezTo>
                  <a:pt x="15677" y="13897"/>
                  <a:pt x="15686" y="13919"/>
                  <a:pt x="15701" y="13965"/>
                </a:cubicBezTo>
                <a:cubicBezTo>
                  <a:pt x="15701" y="13990"/>
                  <a:pt x="15701" y="13998"/>
                  <a:pt x="15701" y="14015"/>
                </a:cubicBezTo>
              </a:path>
              <a:path w="7120" h="1662">
                <a:moveTo>
                  <a:pt x="16148" y="13320"/>
                </a:moveTo>
                <a:cubicBezTo>
                  <a:pt x="16099" y="13336"/>
                  <a:pt x="16088" y="13416"/>
                  <a:pt x="16049" y="13469"/>
                </a:cubicBezTo>
                <a:cubicBezTo>
                  <a:pt x="15978" y="13566"/>
                  <a:pt x="15954" y="13642"/>
                  <a:pt x="15949" y="13767"/>
                </a:cubicBezTo>
                <a:cubicBezTo>
                  <a:pt x="15947" y="13824"/>
                  <a:pt x="15952" y="13954"/>
                  <a:pt x="15999" y="13990"/>
                </a:cubicBezTo>
                <a:cubicBezTo>
                  <a:pt x="16044" y="14025"/>
                  <a:pt x="16113" y="14061"/>
                  <a:pt x="16173" y="14039"/>
                </a:cubicBezTo>
                <a:cubicBezTo>
                  <a:pt x="16235" y="14016"/>
                  <a:pt x="16261" y="13964"/>
                  <a:pt x="16297" y="13915"/>
                </a:cubicBezTo>
                <a:cubicBezTo>
                  <a:pt x="16328" y="13873"/>
                  <a:pt x="16321" y="13846"/>
                  <a:pt x="16321" y="13791"/>
                </a:cubicBezTo>
                <a:cubicBezTo>
                  <a:pt x="16280" y="13791"/>
                  <a:pt x="16229" y="13781"/>
                  <a:pt x="16197" y="13816"/>
                </a:cubicBezTo>
                <a:cubicBezTo>
                  <a:pt x="16159" y="13858"/>
                  <a:pt x="16112" y="13963"/>
                  <a:pt x="16098" y="14015"/>
                </a:cubicBezTo>
                <a:cubicBezTo>
                  <a:pt x="16087" y="14054"/>
                  <a:pt x="16124" y="14039"/>
                  <a:pt x="16148" y="14039"/>
                </a:cubicBezTo>
              </a:path>
              <a:path w="7120" h="1662">
                <a:moveTo>
                  <a:pt x="16446" y="13395"/>
                </a:moveTo>
                <a:cubicBezTo>
                  <a:pt x="16463" y="13477"/>
                  <a:pt x="16482" y="13564"/>
                  <a:pt x="16495" y="13643"/>
                </a:cubicBezTo>
                <a:cubicBezTo>
                  <a:pt x="16513" y="13752"/>
                  <a:pt x="16495" y="13879"/>
                  <a:pt x="16495" y="13990"/>
                </a:cubicBezTo>
              </a:path>
              <a:path w="7120" h="1662">
                <a:moveTo>
                  <a:pt x="16644" y="13791"/>
                </a:moveTo>
                <a:cubicBezTo>
                  <a:pt x="16644" y="13816"/>
                  <a:pt x="16644" y="13841"/>
                  <a:pt x="16644" y="13866"/>
                </a:cubicBezTo>
              </a:path>
              <a:path w="7120" h="1662">
                <a:moveTo>
                  <a:pt x="16743" y="13345"/>
                </a:moveTo>
                <a:cubicBezTo>
                  <a:pt x="16750" y="13424"/>
                  <a:pt x="16768" y="13487"/>
                  <a:pt x="16768" y="13568"/>
                </a:cubicBezTo>
                <a:cubicBezTo>
                  <a:pt x="16768" y="13657"/>
                  <a:pt x="16800" y="13732"/>
                  <a:pt x="16818" y="13816"/>
                </a:cubicBezTo>
                <a:cubicBezTo>
                  <a:pt x="16827" y="13859"/>
                  <a:pt x="16838" y="13902"/>
                  <a:pt x="16842" y="13940"/>
                </a:cubicBezTo>
                <a:cubicBezTo>
                  <a:pt x="16842" y="13948"/>
                  <a:pt x="16842" y="13957"/>
                  <a:pt x="16842" y="13965"/>
                </a:cubicBezTo>
              </a:path>
              <a:path w="7120" h="1662">
                <a:moveTo>
                  <a:pt x="16966" y="13519"/>
                </a:moveTo>
                <a:cubicBezTo>
                  <a:pt x="16966" y="13420"/>
                  <a:pt x="16966" y="13320"/>
                  <a:pt x="16966" y="13221"/>
                </a:cubicBezTo>
                <a:cubicBezTo>
                  <a:pt x="16998" y="13245"/>
                  <a:pt x="17036" y="13251"/>
                  <a:pt x="17066" y="13271"/>
                </a:cubicBezTo>
                <a:cubicBezTo>
                  <a:pt x="17106" y="13297"/>
                  <a:pt x="17149" y="13313"/>
                  <a:pt x="17190" y="13345"/>
                </a:cubicBezTo>
                <a:cubicBezTo>
                  <a:pt x="17220" y="13368"/>
                  <a:pt x="17298" y="13388"/>
                  <a:pt x="17314" y="13419"/>
                </a:cubicBezTo>
                <a:cubicBezTo>
                  <a:pt x="17330" y="13451"/>
                  <a:pt x="17351" y="13502"/>
                  <a:pt x="17338" y="13543"/>
                </a:cubicBezTo>
                <a:cubicBezTo>
                  <a:pt x="17316" y="13612"/>
                  <a:pt x="17287" y="13672"/>
                  <a:pt x="17264" y="13742"/>
                </a:cubicBezTo>
                <a:cubicBezTo>
                  <a:pt x="17243" y="13805"/>
                  <a:pt x="17214" y="13874"/>
                  <a:pt x="17214" y="13940"/>
                </a:cubicBezTo>
                <a:cubicBezTo>
                  <a:pt x="17214" y="13948"/>
                  <a:pt x="17214" y="13957"/>
                  <a:pt x="17214" y="13965"/>
                </a:cubicBezTo>
              </a:path>
              <a:path w="7120" h="1662">
                <a:moveTo>
                  <a:pt x="17090" y="13543"/>
                </a:moveTo>
                <a:cubicBezTo>
                  <a:pt x="17156" y="13543"/>
                  <a:pt x="17204" y="13564"/>
                  <a:pt x="17264" y="13568"/>
                </a:cubicBezTo>
                <a:cubicBezTo>
                  <a:pt x="17338" y="13573"/>
                  <a:pt x="17413" y="13568"/>
                  <a:pt x="17487" y="13568"/>
                </a:cubicBezTo>
              </a:path>
              <a:path w="7120" h="1662">
                <a:moveTo>
                  <a:pt x="17760" y="12973"/>
                </a:moveTo>
                <a:cubicBezTo>
                  <a:pt x="17869" y="12940"/>
                  <a:pt x="17866" y="12966"/>
                  <a:pt x="17983" y="12973"/>
                </a:cubicBezTo>
                <a:cubicBezTo>
                  <a:pt x="18018" y="12973"/>
                  <a:pt x="18036" y="12978"/>
                  <a:pt x="18058" y="12998"/>
                </a:cubicBezTo>
              </a:path>
              <a:path w="7120" h="1662">
                <a:moveTo>
                  <a:pt x="17810" y="13146"/>
                </a:moveTo>
                <a:cubicBezTo>
                  <a:pt x="17877" y="13146"/>
                  <a:pt x="17922" y="13160"/>
                  <a:pt x="17983" y="13171"/>
                </a:cubicBezTo>
                <a:cubicBezTo>
                  <a:pt x="18029" y="13179"/>
                  <a:pt x="18067" y="13192"/>
                  <a:pt x="18107" y="13196"/>
                </a:cubicBezTo>
                <a:cubicBezTo>
                  <a:pt x="18115" y="13196"/>
                  <a:pt x="18124" y="13196"/>
                  <a:pt x="18132" y="13196"/>
                </a:cubicBezTo>
              </a:path>
              <a:path w="7120" h="1662">
                <a:moveTo>
                  <a:pt x="19100" y="12378"/>
                </a:moveTo>
                <a:cubicBezTo>
                  <a:pt x="19121" y="12444"/>
                  <a:pt x="19100" y="12525"/>
                  <a:pt x="19075" y="12601"/>
                </a:cubicBezTo>
                <a:cubicBezTo>
                  <a:pt x="19043" y="12695"/>
                  <a:pt x="19005" y="12782"/>
                  <a:pt x="18976" y="12874"/>
                </a:cubicBezTo>
                <a:cubicBezTo>
                  <a:pt x="18973" y="12883"/>
                  <a:pt x="18912" y="12999"/>
                  <a:pt x="18901" y="12998"/>
                </a:cubicBezTo>
                <a:cubicBezTo>
                  <a:pt x="18893" y="12990"/>
                  <a:pt x="18884" y="12981"/>
                  <a:pt x="18876" y="12973"/>
                </a:cubicBezTo>
              </a:path>
              <a:path w="7120" h="1662">
                <a:moveTo>
                  <a:pt x="18802" y="12502"/>
                </a:moveTo>
                <a:cubicBezTo>
                  <a:pt x="18838" y="12537"/>
                  <a:pt x="18881" y="12581"/>
                  <a:pt x="18901" y="12626"/>
                </a:cubicBezTo>
                <a:cubicBezTo>
                  <a:pt x="18940" y="12713"/>
                  <a:pt x="18984" y="12804"/>
                  <a:pt x="19050" y="12874"/>
                </a:cubicBezTo>
                <a:cubicBezTo>
                  <a:pt x="19103" y="12930"/>
                  <a:pt x="19126" y="12967"/>
                  <a:pt x="19199" y="12973"/>
                </a:cubicBezTo>
                <a:cubicBezTo>
                  <a:pt x="19231" y="12976"/>
                  <a:pt x="19242" y="12990"/>
                  <a:pt x="19273" y="12998"/>
                </a:cubicBezTo>
              </a:path>
              <a:path w="7120" h="1662">
                <a:moveTo>
                  <a:pt x="18380" y="13122"/>
                </a:moveTo>
                <a:cubicBezTo>
                  <a:pt x="18582" y="13122"/>
                  <a:pt x="18779" y="13120"/>
                  <a:pt x="18976" y="13097"/>
                </a:cubicBezTo>
                <a:cubicBezTo>
                  <a:pt x="19114" y="13081"/>
                  <a:pt x="19259" y="13086"/>
                  <a:pt x="19397" y="13072"/>
                </a:cubicBezTo>
                <a:cubicBezTo>
                  <a:pt x="19620" y="13050"/>
                  <a:pt x="19878" y="13061"/>
                  <a:pt x="20092" y="13097"/>
                </a:cubicBezTo>
                <a:cubicBezTo>
                  <a:pt x="20160" y="13108"/>
                  <a:pt x="20200" y="13101"/>
                  <a:pt x="20265" y="13122"/>
                </a:cubicBezTo>
                <a:cubicBezTo>
                  <a:pt x="20314" y="13138"/>
                  <a:pt x="20342" y="13153"/>
                  <a:pt x="20365" y="13171"/>
                </a:cubicBezTo>
              </a:path>
              <a:path w="7120" h="1662">
                <a:moveTo>
                  <a:pt x="18479" y="13295"/>
                </a:moveTo>
                <a:cubicBezTo>
                  <a:pt x="18479" y="13267"/>
                  <a:pt x="18477" y="13257"/>
                  <a:pt x="18455" y="13246"/>
                </a:cubicBezTo>
                <a:cubicBezTo>
                  <a:pt x="18403" y="13256"/>
                  <a:pt x="18358" y="13282"/>
                  <a:pt x="18306" y="13295"/>
                </a:cubicBezTo>
                <a:cubicBezTo>
                  <a:pt x="18246" y="13309"/>
                  <a:pt x="18236" y="13334"/>
                  <a:pt x="18231" y="13395"/>
                </a:cubicBezTo>
                <a:cubicBezTo>
                  <a:pt x="18227" y="13448"/>
                  <a:pt x="18294" y="13451"/>
                  <a:pt x="18331" y="13469"/>
                </a:cubicBezTo>
                <a:cubicBezTo>
                  <a:pt x="18403" y="13503"/>
                  <a:pt x="18471" y="13564"/>
                  <a:pt x="18529" y="13618"/>
                </a:cubicBezTo>
                <a:cubicBezTo>
                  <a:pt x="18585" y="13670"/>
                  <a:pt x="18622" y="13719"/>
                  <a:pt x="18628" y="13791"/>
                </a:cubicBezTo>
                <a:cubicBezTo>
                  <a:pt x="18630" y="13819"/>
                  <a:pt x="18583" y="13883"/>
                  <a:pt x="18554" y="13891"/>
                </a:cubicBezTo>
                <a:cubicBezTo>
                  <a:pt x="18494" y="13908"/>
                  <a:pt x="18381" y="13897"/>
                  <a:pt x="18331" y="13866"/>
                </a:cubicBezTo>
                <a:cubicBezTo>
                  <a:pt x="18292" y="13842"/>
                  <a:pt x="18245" y="13784"/>
                  <a:pt x="18231" y="13742"/>
                </a:cubicBezTo>
                <a:cubicBezTo>
                  <a:pt x="18231" y="13714"/>
                  <a:pt x="18229" y="13703"/>
                  <a:pt x="18207" y="13692"/>
                </a:cubicBezTo>
              </a:path>
              <a:path w="7120" h="1662">
                <a:moveTo>
                  <a:pt x="18703" y="13494"/>
                </a:moveTo>
                <a:cubicBezTo>
                  <a:pt x="18703" y="13555"/>
                  <a:pt x="18731" y="13641"/>
                  <a:pt x="18728" y="13692"/>
                </a:cubicBezTo>
                <a:cubicBezTo>
                  <a:pt x="18724" y="13770"/>
                  <a:pt x="18703" y="13820"/>
                  <a:pt x="18703" y="13891"/>
                </a:cubicBezTo>
              </a:path>
              <a:path w="7120" h="1662">
                <a:moveTo>
                  <a:pt x="18876" y="13593"/>
                </a:moveTo>
                <a:cubicBezTo>
                  <a:pt x="18888" y="13623"/>
                  <a:pt x="18894" y="13720"/>
                  <a:pt x="18876" y="13767"/>
                </a:cubicBezTo>
                <a:cubicBezTo>
                  <a:pt x="18870" y="13783"/>
                  <a:pt x="18852" y="13880"/>
                  <a:pt x="18852" y="13816"/>
                </a:cubicBezTo>
                <a:cubicBezTo>
                  <a:pt x="18852" y="13742"/>
                  <a:pt x="18846" y="13685"/>
                  <a:pt x="18876" y="13618"/>
                </a:cubicBezTo>
                <a:cubicBezTo>
                  <a:pt x="18901" y="13560"/>
                  <a:pt x="18907" y="13538"/>
                  <a:pt x="18951" y="13494"/>
                </a:cubicBezTo>
                <a:cubicBezTo>
                  <a:pt x="18992" y="13453"/>
                  <a:pt x="19036" y="13459"/>
                  <a:pt x="19075" y="13494"/>
                </a:cubicBezTo>
                <a:cubicBezTo>
                  <a:pt x="19128" y="13541"/>
                  <a:pt x="19121" y="13626"/>
                  <a:pt x="19124" y="13692"/>
                </a:cubicBezTo>
                <a:cubicBezTo>
                  <a:pt x="19127" y="13766"/>
                  <a:pt x="19124" y="13841"/>
                  <a:pt x="19124" y="13915"/>
                </a:cubicBezTo>
              </a:path>
              <a:path w="7120" h="1662">
                <a:moveTo>
                  <a:pt x="19323" y="13370"/>
                </a:moveTo>
                <a:cubicBezTo>
                  <a:pt x="19439" y="13370"/>
                  <a:pt x="19554" y="13370"/>
                  <a:pt x="19670" y="13370"/>
                </a:cubicBezTo>
                <a:cubicBezTo>
                  <a:pt x="19653" y="13452"/>
                  <a:pt x="19593" y="13471"/>
                  <a:pt x="19546" y="13543"/>
                </a:cubicBezTo>
                <a:cubicBezTo>
                  <a:pt x="19498" y="13616"/>
                  <a:pt x="19477" y="13682"/>
                  <a:pt x="19472" y="13767"/>
                </a:cubicBezTo>
                <a:cubicBezTo>
                  <a:pt x="19468" y="13825"/>
                  <a:pt x="19471" y="13876"/>
                  <a:pt x="19521" y="13915"/>
                </a:cubicBezTo>
                <a:cubicBezTo>
                  <a:pt x="19578" y="13960"/>
                  <a:pt x="19624" y="13990"/>
                  <a:pt x="19695" y="13990"/>
                </a:cubicBezTo>
                <a:cubicBezTo>
                  <a:pt x="19723" y="13990"/>
                  <a:pt x="19734" y="13988"/>
                  <a:pt x="19745" y="13965"/>
                </a:cubicBezTo>
              </a:path>
              <a:path w="7120" h="1662">
                <a:moveTo>
                  <a:pt x="20092" y="13395"/>
                </a:moveTo>
                <a:cubicBezTo>
                  <a:pt x="19988" y="13395"/>
                  <a:pt x="19842" y="13437"/>
                  <a:pt x="19769" y="13543"/>
                </a:cubicBezTo>
                <a:cubicBezTo>
                  <a:pt x="19728" y="13602"/>
                  <a:pt x="19674" y="13714"/>
                  <a:pt x="19695" y="13791"/>
                </a:cubicBezTo>
                <a:cubicBezTo>
                  <a:pt x="19717" y="13870"/>
                  <a:pt x="19819" y="13925"/>
                  <a:pt x="19893" y="13940"/>
                </a:cubicBezTo>
                <a:cubicBezTo>
                  <a:pt x="19950" y="13951"/>
                  <a:pt x="20075" y="13911"/>
                  <a:pt x="20117" y="13866"/>
                </a:cubicBezTo>
                <a:cubicBezTo>
                  <a:pt x="20162" y="13817"/>
                  <a:pt x="20212" y="13757"/>
                  <a:pt x="20216" y="13692"/>
                </a:cubicBezTo>
                <a:cubicBezTo>
                  <a:pt x="20220" y="13625"/>
                  <a:pt x="20209" y="13595"/>
                  <a:pt x="20191" y="13543"/>
                </a:cubicBezTo>
                <a:cubicBezTo>
                  <a:pt x="20176" y="13499"/>
                  <a:pt x="20144" y="13457"/>
                  <a:pt x="20117" y="13419"/>
                </a:cubicBezTo>
              </a:path>
              <a:path w="7120" h="1662">
                <a:moveTo>
                  <a:pt x="20365" y="13320"/>
                </a:moveTo>
                <a:cubicBezTo>
                  <a:pt x="20327" y="13333"/>
                  <a:pt x="20336" y="13342"/>
                  <a:pt x="20315" y="13370"/>
                </a:cubicBezTo>
                <a:cubicBezTo>
                  <a:pt x="20294" y="13399"/>
                  <a:pt x="20264" y="13438"/>
                  <a:pt x="20315" y="13444"/>
                </a:cubicBezTo>
                <a:cubicBezTo>
                  <a:pt x="20343" y="13444"/>
                  <a:pt x="20354" y="13446"/>
                  <a:pt x="20365" y="13469"/>
                </a:cubicBezTo>
                <a:cubicBezTo>
                  <a:pt x="20405" y="13436"/>
                  <a:pt x="20458" y="13423"/>
                  <a:pt x="20464" y="13370"/>
                </a:cubicBezTo>
                <a:cubicBezTo>
                  <a:pt x="20464" y="13362"/>
                  <a:pt x="20464" y="13353"/>
                  <a:pt x="20464" y="13345"/>
                </a:cubicBezTo>
              </a:path>
              <a:path w="7120" h="1662">
                <a:moveTo>
                  <a:pt x="20762" y="13345"/>
                </a:moveTo>
                <a:cubicBezTo>
                  <a:pt x="20738" y="13363"/>
                  <a:pt x="20700" y="13411"/>
                  <a:pt x="20687" y="13419"/>
                </a:cubicBezTo>
                <a:cubicBezTo>
                  <a:pt x="20662" y="13419"/>
                  <a:pt x="20654" y="13419"/>
                  <a:pt x="20662" y="13444"/>
                </a:cubicBezTo>
                <a:cubicBezTo>
                  <a:pt x="20740" y="13522"/>
                  <a:pt x="20834" y="13596"/>
                  <a:pt x="20886" y="13692"/>
                </a:cubicBezTo>
                <a:cubicBezTo>
                  <a:pt x="20915" y="13745"/>
                  <a:pt x="20964" y="13813"/>
                  <a:pt x="20985" y="13866"/>
                </a:cubicBezTo>
                <a:cubicBezTo>
                  <a:pt x="20992" y="13884"/>
                  <a:pt x="20953" y="13956"/>
                  <a:pt x="20935" y="13965"/>
                </a:cubicBezTo>
                <a:cubicBezTo>
                  <a:pt x="20876" y="13994"/>
                  <a:pt x="20828" y="13949"/>
                  <a:pt x="20811" y="13940"/>
                </a:cubicBezTo>
                <a:cubicBezTo>
                  <a:pt x="20774" y="13922"/>
                  <a:pt x="20750" y="13890"/>
                  <a:pt x="20712" y="13866"/>
                </a:cubicBezTo>
                <a:cubicBezTo>
                  <a:pt x="20695" y="13858"/>
                  <a:pt x="20679" y="13849"/>
                  <a:pt x="20662" y="13841"/>
                </a:cubicBezTo>
              </a:path>
              <a:path w="7120" h="1662">
                <a:moveTo>
                  <a:pt x="20687" y="13295"/>
                </a:moveTo>
                <a:cubicBezTo>
                  <a:pt x="20725" y="13268"/>
                  <a:pt x="20739" y="13271"/>
                  <a:pt x="20786" y="13271"/>
                </a:cubicBezTo>
                <a:cubicBezTo>
                  <a:pt x="20850" y="13271"/>
                  <a:pt x="20908" y="13254"/>
                  <a:pt x="20960" y="13246"/>
                </a:cubicBezTo>
                <a:cubicBezTo>
                  <a:pt x="21034" y="13235"/>
                  <a:pt x="21073" y="13217"/>
                  <a:pt x="21134" y="13196"/>
                </a:cubicBezTo>
                <a:cubicBezTo>
                  <a:pt x="21158" y="13196"/>
                  <a:pt x="21167" y="13196"/>
                  <a:pt x="21183" y="13196"/>
                </a:cubicBezTo>
              </a:path>
              <a:path w="7120" h="1662">
                <a:moveTo>
                  <a:pt x="21406" y="13345"/>
                </a:moveTo>
                <a:cubicBezTo>
                  <a:pt x="21301" y="13345"/>
                  <a:pt x="21307" y="13345"/>
                  <a:pt x="21233" y="13419"/>
                </a:cubicBezTo>
                <a:cubicBezTo>
                  <a:pt x="21163" y="13489"/>
                  <a:pt x="21065" y="13556"/>
                  <a:pt x="21084" y="13667"/>
                </a:cubicBezTo>
                <a:cubicBezTo>
                  <a:pt x="21097" y="13741"/>
                  <a:pt x="21157" y="13908"/>
                  <a:pt x="21258" y="13940"/>
                </a:cubicBezTo>
                <a:cubicBezTo>
                  <a:pt x="21312" y="13957"/>
                  <a:pt x="21387" y="13976"/>
                  <a:pt x="21431" y="13940"/>
                </a:cubicBezTo>
                <a:cubicBezTo>
                  <a:pt x="21492" y="13891"/>
                  <a:pt x="21525" y="13869"/>
                  <a:pt x="21555" y="13791"/>
                </a:cubicBezTo>
                <a:cubicBezTo>
                  <a:pt x="21575" y="13741"/>
                  <a:pt x="21617" y="13621"/>
                  <a:pt x="21605" y="13568"/>
                </a:cubicBezTo>
                <a:cubicBezTo>
                  <a:pt x="21593" y="13514"/>
                  <a:pt x="21567" y="13482"/>
                  <a:pt x="21530" y="13444"/>
                </a:cubicBezTo>
                <a:cubicBezTo>
                  <a:pt x="21497" y="13410"/>
                  <a:pt x="21475" y="13381"/>
                  <a:pt x="21431" y="13370"/>
                </a:cubicBezTo>
              </a:path>
              <a:path w="7120" h="1662">
                <a:moveTo>
                  <a:pt x="21630" y="13047"/>
                </a:moveTo>
                <a:cubicBezTo>
                  <a:pt x="21670" y="13047"/>
                  <a:pt x="21710" y="13053"/>
                  <a:pt x="21729" y="13097"/>
                </a:cubicBezTo>
                <a:cubicBezTo>
                  <a:pt x="21742" y="13127"/>
                  <a:pt x="21769" y="13165"/>
                  <a:pt x="21779" y="13196"/>
                </a:cubicBezTo>
                <a:cubicBezTo>
                  <a:pt x="21795" y="13244"/>
                  <a:pt x="21794" y="13256"/>
                  <a:pt x="21779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71800" y="4822920"/>
            <a:ext cx="706320" cy="374400"/>
          </a:xfrm>
          <a:custGeom>
            <a:avLst/>
            <a:gdLst/>
            <a:ahLst/>
            <a:rect l="l" t="t" r="r" b="b"/>
            <a:pathLst>
              <a:path w="1960" h="1042">
                <a:moveTo>
                  <a:pt x="5829" y="13940"/>
                </a:moveTo>
                <a:cubicBezTo>
                  <a:pt x="5821" y="13940"/>
                  <a:pt x="5812" y="13940"/>
                  <a:pt x="5804" y="13940"/>
                </a:cubicBezTo>
                <a:cubicBezTo>
                  <a:pt x="5810" y="13915"/>
                  <a:pt x="5843" y="13871"/>
                  <a:pt x="5854" y="13866"/>
                </a:cubicBezTo>
                <a:cubicBezTo>
                  <a:pt x="5875" y="13856"/>
                  <a:pt x="5931" y="13843"/>
                  <a:pt x="5953" y="13841"/>
                </a:cubicBezTo>
                <a:cubicBezTo>
                  <a:pt x="6005" y="13835"/>
                  <a:pt x="6017" y="13856"/>
                  <a:pt x="6052" y="13891"/>
                </a:cubicBezTo>
                <a:cubicBezTo>
                  <a:pt x="6089" y="13927"/>
                  <a:pt x="6117" y="13961"/>
                  <a:pt x="6127" y="14015"/>
                </a:cubicBezTo>
                <a:cubicBezTo>
                  <a:pt x="6137" y="14072"/>
                  <a:pt x="6100" y="14162"/>
                  <a:pt x="6077" y="14213"/>
                </a:cubicBezTo>
                <a:cubicBezTo>
                  <a:pt x="6054" y="14264"/>
                  <a:pt x="5999" y="14354"/>
                  <a:pt x="5953" y="14387"/>
                </a:cubicBezTo>
                <a:cubicBezTo>
                  <a:pt x="5909" y="14419"/>
                  <a:pt x="5880" y="14436"/>
                  <a:pt x="5829" y="14436"/>
                </a:cubicBezTo>
                <a:cubicBezTo>
                  <a:pt x="5785" y="14436"/>
                  <a:pt x="5759" y="14439"/>
                  <a:pt x="5755" y="14387"/>
                </a:cubicBezTo>
                <a:cubicBezTo>
                  <a:pt x="5750" y="14322"/>
                  <a:pt x="5765" y="14293"/>
                  <a:pt x="5779" y="14263"/>
                </a:cubicBezTo>
                <a:cubicBezTo>
                  <a:pt x="5783" y="14254"/>
                  <a:pt x="5829" y="14207"/>
                  <a:pt x="5854" y="14238"/>
                </a:cubicBezTo>
                <a:cubicBezTo>
                  <a:pt x="5873" y="14261"/>
                  <a:pt x="5912" y="14289"/>
                  <a:pt x="5928" y="14337"/>
                </a:cubicBezTo>
                <a:cubicBezTo>
                  <a:pt x="5936" y="14362"/>
                  <a:pt x="5931" y="14422"/>
                  <a:pt x="5953" y="14436"/>
                </a:cubicBezTo>
                <a:cubicBezTo>
                  <a:pt x="5961" y="14436"/>
                  <a:pt x="5970" y="14436"/>
                  <a:pt x="5978" y="14436"/>
                </a:cubicBezTo>
              </a:path>
              <a:path w="1960" h="1042">
                <a:moveTo>
                  <a:pt x="6325" y="13841"/>
                </a:moveTo>
                <a:cubicBezTo>
                  <a:pt x="6325" y="13913"/>
                  <a:pt x="6292" y="13930"/>
                  <a:pt x="6276" y="13990"/>
                </a:cubicBezTo>
                <a:cubicBezTo>
                  <a:pt x="6264" y="14035"/>
                  <a:pt x="6253" y="14119"/>
                  <a:pt x="6251" y="14163"/>
                </a:cubicBezTo>
                <a:cubicBezTo>
                  <a:pt x="6248" y="14233"/>
                  <a:pt x="6258" y="14309"/>
                  <a:pt x="6300" y="14362"/>
                </a:cubicBezTo>
                <a:cubicBezTo>
                  <a:pt x="6325" y="14394"/>
                  <a:pt x="6390" y="14425"/>
                  <a:pt x="6424" y="14436"/>
                </a:cubicBezTo>
                <a:cubicBezTo>
                  <a:pt x="6451" y="14445"/>
                  <a:pt x="6505" y="14404"/>
                  <a:pt x="6524" y="14387"/>
                </a:cubicBezTo>
                <a:cubicBezTo>
                  <a:pt x="6561" y="14354"/>
                  <a:pt x="6590" y="14278"/>
                  <a:pt x="6598" y="14238"/>
                </a:cubicBezTo>
                <a:cubicBezTo>
                  <a:pt x="6618" y="14138"/>
                  <a:pt x="6590" y="14025"/>
                  <a:pt x="6573" y="13940"/>
                </a:cubicBezTo>
                <a:cubicBezTo>
                  <a:pt x="6564" y="13895"/>
                  <a:pt x="6553" y="13840"/>
                  <a:pt x="6499" y="13816"/>
                </a:cubicBezTo>
                <a:cubicBezTo>
                  <a:pt x="6479" y="13807"/>
                  <a:pt x="6428" y="13775"/>
                  <a:pt x="6400" y="13791"/>
                </a:cubicBezTo>
                <a:cubicBezTo>
                  <a:pt x="6372" y="13807"/>
                  <a:pt x="6315" y="13831"/>
                  <a:pt x="6300" y="13866"/>
                </a:cubicBezTo>
                <a:cubicBezTo>
                  <a:pt x="6300" y="13874"/>
                  <a:pt x="6300" y="13883"/>
                  <a:pt x="6300" y="13891"/>
                </a:cubicBezTo>
              </a:path>
              <a:path w="1960" h="1042">
                <a:moveTo>
                  <a:pt x="6747" y="13618"/>
                </a:moveTo>
                <a:cubicBezTo>
                  <a:pt x="6727" y="13678"/>
                  <a:pt x="6728" y="13693"/>
                  <a:pt x="6697" y="13717"/>
                </a:cubicBezTo>
                <a:cubicBezTo>
                  <a:pt x="6729" y="13760"/>
                  <a:pt x="6716" y="13767"/>
                  <a:pt x="6772" y="13767"/>
                </a:cubicBezTo>
                <a:cubicBezTo>
                  <a:pt x="6812" y="13767"/>
                  <a:pt x="6852" y="13761"/>
                  <a:pt x="6871" y="13717"/>
                </a:cubicBezTo>
                <a:cubicBezTo>
                  <a:pt x="6889" y="13676"/>
                  <a:pt x="6873" y="13602"/>
                  <a:pt x="6846" y="13593"/>
                </a:cubicBezTo>
              </a:path>
              <a:path w="1960" h="1042">
                <a:moveTo>
                  <a:pt x="6995" y="13915"/>
                </a:moveTo>
                <a:cubicBezTo>
                  <a:pt x="7070" y="13915"/>
                  <a:pt x="7119" y="13905"/>
                  <a:pt x="7193" y="13891"/>
                </a:cubicBezTo>
                <a:cubicBezTo>
                  <a:pt x="7201" y="13891"/>
                  <a:pt x="7210" y="13891"/>
                  <a:pt x="7218" y="13891"/>
                </a:cubicBezTo>
              </a:path>
              <a:path w="1960" h="1042">
                <a:moveTo>
                  <a:pt x="7020" y="13940"/>
                </a:moveTo>
                <a:cubicBezTo>
                  <a:pt x="6955" y="13983"/>
                  <a:pt x="6970" y="13984"/>
                  <a:pt x="6970" y="14064"/>
                </a:cubicBezTo>
                <a:cubicBezTo>
                  <a:pt x="6970" y="14091"/>
                  <a:pt x="6995" y="14111"/>
                  <a:pt x="7020" y="14114"/>
                </a:cubicBezTo>
                <a:cubicBezTo>
                  <a:pt x="7083" y="14122"/>
                  <a:pt x="7141" y="14128"/>
                  <a:pt x="7193" y="14139"/>
                </a:cubicBezTo>
                <a:cubicBezTo>
                  <a:pt x="7241" y="14149"/>
                  <a:pt x="7264" y="14150"/>
                  <a:pt x="7268" y="14213"/>
                </a:cubicBezTo>
                <a:cubicBezTo>
                  <a:pt x="7273" y="14282"/>
                  <a:pt x="7264" y="14291"/>
                  <a:pt x="7218" y="14337"/>
                </a:cubicBezTo>
                <a:cubicBezTo>
                  <a:pt x="7202" y="14353"/>
                  <a:pt x="7142" y="14397"/>
                  <a:pt x="7119" y="14387"/>
                </a:cubicBezTo>
                <a:cubicBezTo>
                  <a:pt x="7086" y="14372"/>
                  <a:pt x="7021" y="14357"/>
                  <a:pt x="6995" y="14337"/>
                </a:cubicBezTo>
                <a:cubicBezTo>
                  <a:pt x="6956" y="14299"/>
                  <a:pt x="6939" y="14297"/>
                  <a:pt x="6945" y="14263"/>
                </a:cubicBezTo>
              </a:path>
              <a:path w="1960" h="1042">
                <a:moveTo>
                  <a:pt x="7417" y="13940"/>
                </a:moveTo>
                <a:cubicBezTo>
                  <a:pt x="7390" y="13989"/>
                  <a:pt x="7320" y="14078"/>
                  <a:pt x="7317" y="14139"/>
                </a:cubicBezTo>
                <a:cubicBezTo>
                  <a:pt x="7313" y="14219"/>
                  <a:pt x="7299" y="14260"/>
                  <a:pt x="7367" y="14288"/>
                </a:cubicBezTo>
                <a:cubicBezTo>
                  <a:pt x="7405" y="14304"/>
                  <a:pt x="7472" y="14333"/>
                  <a:pt x="7516" y="14312"/>
                </a:cubicBezTo>
                <a:cubicBezTo>
                  <a:pt x="7579" y="14282"/>
                  <a:pt x="7592" y="14246"/>
                  <a:pt x="7615" y="14188"/>
                </a:cubicBezTo>
                <a:cubicBezTo>
                  <a:pt x="7646" y="14110"/>
                  <a:pt x="7665" y="14075"/>
                  <a:pt x="7665" y="13990"/>
                </a:cubicBezTo>
                <a:cubicBezTo>
                  <a:pt x="7665" y="13906"/>
                  <a:pt x="7635" y="13879"/>
                  <a:pt x="7565" y="13841"/>
                </a:cubicBezTo>
                <a:cubicBezTo>
                  <a:pt x="7500" y="13806"/>
                  <a:pt x="7464" y="13791"/>
                  <a:pt x="7392" y="13791"/>
                </a:cubicBezTo>
              </a:path>
              <a:path w="1960" h="1042">
                <a:moveTo>
                  <a:pt x="7714" y="13395"/>
                </a:moveTo>
                <a:cubicBezTo>
                  <a:pt x="7714" y="13485"/>
                  <a:pt x="7718" y="13516"/>
                  <a:pt x="7689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54800" y="5045040"/>
            <a:ext cx="3357360" cy="455760"/>
          </a:xfrm>
          <a:custGeom>
            <a:avLst/>
            <a:gdLst/>
            <a:ahLst/>
            <a:rect l="l" t="t" r="r" b="b"/>
            <a:pathLst>
              <a:path w="9327" h="1266">
                <a:moveTo>
                  <a:pt x="15751" y="14560"/>
                </a:moveTo>
                <a:cubicBezTo>
                  <a:pt x="15751" y="14609"/>
                  <a:pt x="15756" y="14639"/>
                  <a:pt x="15726" y="14684"/>
                </a:cubicBezTo>
                <a:cubicBezTo>
                  <a:pt x="15693" y="14733"/>
                  <a:pt x="15682" y="14798"/>
                  <a:pt x="15652" y="14858"/>
                </a:cubicBezTo>
                <a:cubicBezTo>
                  <a:pt x="15619" y="14924"/>
                  <a:pt x="15584" y="14973"/>
                  <a:pt x="15553" y="15032"/>
                </a:cubicBezTo>
                <a:cubicBezTo>
                  <a:pt x="15532" y="15072"/>
                  <a:pt x="15500" y="15124"/>
                  <a:pt x="15478" y="15156"/>
                </a:cubicBezTo>
                <a:cubicBezTo>
                  <a:pt x="15456" y="15178"/>
                  <a:pt x="15451" y="15186"/>
                  <a:pt x="15429" y="15180"/>
                </a:cubicBezTo>
              </a:path>
              <a:path w="9327" h="1266">
                <a:moveTo>
                  <a:pt x="15478" y="14585"/>
                </a:moveTo>
                <a:cubicBezTo>
                  <a:pt x="15528" y="14597"/>
                  <a:pt x="15535" y="14617"/>
                  <a:pt x="15553" y="14660"/>
                </a:cubicBezTo>
                <a:cubicBezTo>
                  <a:pt x="15586" y="14739"/>
                  <a:pt x="15629" y="14814"/>
                  <a:pt x="15677" y="14883"/>
                </a:cubicBezTo>
                <a:cubicBezTo>
                  <a:pt x="15724" y="14950"/>
                  <a:pt x="15767" y="14998"/>
                  <a:pt x="15825" y="15056"/>
                </a:cubicBezTo>
                <a:cubicBezTo>
                  <a:pt x="15850" y="15081"/>
                  <a:pt x="15858" y="15089"/>
                  <a:pt x="15875" y="15106"/>
                </a:cubicBezTo>
              </a:path>
              <a:path w="9327" h="1266">
                <a:moveTo>
                  <a:pt x="16123" y="14759"/>
                </a:moveTo>
                <a:cubicBezTo>
                  <a:pt x="16123" y="14767"/>
                  <a:pt x="16123" y="14776"/>
                  <a:pt x="16123" y="14784"/>
                </a:cubicBezTo>
              </a:path>
              <a:path w="9327" h="1266">
                <a:moveTo>
                  <a:pt x="16545" y="14585"/>
                </a:moveTo>
                <a:cubicBezTo>
                  <a:pt x="16478" y="14585"/>
                  <a:pt x="16422" y="14572"/>
                  <a:pt x="16371" y="14610"/>
                </a:cubicBezTo>
                <a:cubicBezTo>
                  <a:pt x="16387" y="14674"/>
                  <a:pt x="16416" y="14648"/>
                  <a:pt x="16470" y="14684"/>
                </a:cubicBezTo>
                <a:cubicBezTo>
                  <a:pt x="16517" y="14715"/>
                  <a:pt x="16564" y="14730"/>
                  <a:pt x="16619" y="14759"/>
                </a:cubicBezTo>
                <a:cubicBezTo>
                  <a:pt x="16687" y="14795"/>
                  <a:pt x="16694" y="14829"/>
                  <a:pt x="16743" y="14883"/>
                </a:cubicBezTo>
                <a:cubicBezTo>
                  <a:pt x="16765" y="14908"/>
                  <a:pt x="16781" y="14945"/>
                  <a:pt x="16768" y="14982"/>
                </a:cubicBezTo>
                <a:cubicBezTo>
                  <a:pt x="16741" y="15059"/>
                  <a:pt x="16717" y="15035"/>
                  <a:pt x="16669" y="15007"/>
                </a:cubicBezTo>
                <a:cubicBezTo>
                  <a:pt x="16620" y="14979"/>
                  <a:pt x="16566" y="14953"/>
                  <a:pt x="16520" y="14932"/>
                </a:cubicBezTo>
                <a:cubicBezTo>
                  <a:pt x="16479" y="14913"/>
                  <a:pt x="16473" y="14905"/>
                  <a:pt x="16446" y="14908"/>
                </a:cubicBezTo>
              </a:path>
              <a:path w="9327" h="1266">
                <a:moveTo>
                  <a:pt x="16917" y="14560"/>
                </a:moveTo>
                <a:cubicBezTo>
                  <a:pt x="16927" y="14599"/>
                  <a:pt x="16942" y="14615"/>
                  <a:pt x="16942" y="14660"/>
                </a:cubicBezTo>
                <a:cubicBezTo>
                  <a:pt x="16942" y="14708"/>
                  <a:pt x="16910" y="14916"/>
                  <a:pt x="16917" y="14932"/>
                </a:cubicBezTo>
                <a:cubicBezTo>
                  <a:pt x="16942" y="14932"/>
                  <a:pt x="16950" y="14932"/>
                  <a:pt x="16942" y="14957"/>
                </a:cubicBezTo>
              </a:path>
              <a:path w="9327" h="1266">
                <a:moveTo>
                  <a:pt x="17140" y="14610"/>
                </a:moveTo>
                <a:cubicBezTo>
                  <a:pt x="17140" y="14654"/>
                  <a:pt x="17110" y="14808"/>
                  <a:pt x="17115" y="14833"/>
                </a:cubicBezTo>
                <a:cubicBezTo>
                  <a:pt x="17122" y="14867"/>
                  <a:pt x="17140" y="14866"/>
                  <a:pt x="17140" y="14908"/>
                </a:cubicBezTo>
                <a:cubicBezTo>
                  <a:pt x="17140" y="14824"/>
                  <a:pt x="17143" y="14755"/>
                  <a:pt x="17165" y="14684"/>
                </a:cubicBezTo>
                <a:cubicBezTo>
                  <a:pt x="17176" y="14650"/>
                  <a:pt x="17171" y="14615"/>
                  <a:pt x="17190" y="14585"/>
                </a:cubicBezTo>
                <a:cubicBezTo>
                  <a:pt x="17214" y="14548"/>
                  <a:pt x="17251" y="14560"/>
                  <a:pt x="17289" y="14560"/>
                </a:cubicBezTo>
                <a:cubicBezTo>
                  <a:pt x="17343" y="14560"/>
                  <a:pt x="17342" y="14604"/>
                  <a:pt x="17363" y="14635"/>
                </a:cubicBezTo>
                <a:cubicBezTo>
                  <a:pt x="17394" y="14681"/>
                  <a:pt x="17388" y="14698"/>
                  <a:pt x="17388" y="14759"/>
                </a:cubicBezTo>
                <a:cubicBezTo>
                  <a:pt x="17388" y="14817"/>
                  <a:pt x="17388" y="14874"/>
                  <a:pt x="17388" y="14932"/>
                </a:cubicBezTo>
              </a:path>
              <a:path w="9327" h="1266">
                <a:moveTo>
                  <a:pt x="17760" y="14288"/>
                </a:moveTo>
                <a:cubicBezTo>
                  <a:pt x="17783" y="14265"/>
                  <a:pt x="17791" y="14261"/>
                  <a:pt x="17785" y="14238"/>
                </a:cubicBezTo>
                <a:cubicBezTo>
                  <a:pt x="17776" y="14266"/>
                  <a:pt x="17741" y="14297"/>
                  <a:pt x="17735" y="14337"/>
                </a:cubicBezTo>
                <a:cubicBezTo>
                  <a:pt x="17721" y="14432"/>
                  <a:pt x="17679" y="14514"/>
                  <a:pt x="17661" y="14610"/>
                </a:cubicBezTo>
                <a:cubicBezTo>
                  <a:pt x="17644" y="14701"/>
                  <a:pt x="17647" y="14748"/>
                  <a:pt x="17661" y="14833"/>
                </a:cubicBezTo>
                <a:cubicBezTo>
                  <a:pt x="17670" y="14885"/>
                  <a:pt x="17688" y="14970"/>
                  <a:pt x="17735" y="15007"/>
                </a:cubicBezTo>
                <a:cubicBezTo>
                  <a:pt x="17784" y="15046"/>
                  <a:pt x="17818" y="15021"/>
                  <a:pt x="17859" y="15007"/>
                </a:cubicBezTo>
                <a:cubicBezTo>
                  <a:pt x="17892" y="14996"/>
                  <a:pt x="17948" y="14928"/>
                  <a:pt x="17959" y="14883"/>
                </a:cubicBezTo>
                <a:cubicBezTo>
                  <a:pt x="17973" y="14826"/>
                  <a:pt x="17967" y="14725"/>
                  <a:pt x="17934" y="14684"/>
                </a:cubicBezTo>
                <a:cubicBezTo>
                  <a:pt x="17902" y="14644"/>
                  <a:pt x="17868" y="14655"/>
                  <a:pt x="17835" y="14684"/>
                </a:cubicBezTo>
                <a:cubicBezTo>
                  <a:pt x="17795" y="14719"/>
                  <a:pt x="17764" y="14753"/>
                  <a:pt x="17760" y="14808"/>
                </a:cubicBezTo>
                <a:cubicBezTo>
                  <a:pt x="17756" y="14875"/>
                  <a:pt x="17792" y="14910"/>
                  <a:pt x="17835" y="14957"/>
                </a:cubicBezTo>
                <a:cubicBezTo>
                  <a:pt x="17859" y="14982"/>
                  <a:pt x="17867" y="14991"/>
                  <a:pt x="17884" y="15007"/>
                </a:cubicBezTo>
              </a:path>
              <a:path w="9327" h="1266">
                <a:moveTo>
                  <a:pt x="18182" y="14387"/>
                </a:moveTo>
                <a:cubicBezTo>
                  <a:pt x="18176" y="14508"/>
                  <a:pt x="18157" y="14614"/>
                  <a:pt x="18157" y="14734"/>
                </a:cubicBezTo>
                <a:cubicBezTo>
                  <a:pt x="18157" y="14825"/>
                  <a:pt x="18157" y="14916"/>
                  <a:pt x="18157" y="15007"/>
                </a:cubicBezTo>
              </a:path>
              <a:path w="9327" h="1266">
                <a:moveTo>
                  <a:pt x="18405" y="14784"/>
                </a:moveTo>
                <a:cubicBezTo>
                  <a:pt x="18405" y="14860"/>
                  <a:pt x="18417" y="14859"/>
                  <a:pt x="18380" y="14908"/>
                </a:cubicBezTo>
              </a:path>
              <a:path w="9327" h="1266">
                <a:moveTo>
                  <a:pt x="18529" y="14337"/>
                </a:moveTo>
                <a:cubicBezTo>
                  <a:pt x="18578" y="14353"/>
                  <a:pt x="18537" y="14366"/>
                  <a:pt x="18554" y="14412"/>
                </a:cubicBezTo>
                <a:cubicBezTo>
                  <a:pt x="18579" y="14482"/>
                  <a:pt x="18554" y="14552"/>
                  <a:pt x="18554" y="14635"/>
                </a:cubicBezTo>
                <a:cubicBezTo>
                  <a:pt x="18554" y="14729"/>
                  <a:pt x="18532" y="14856"/>
                  <a:pt x="18579" y="14932"/>
                </a:cubicBezTo>
              </a:path>
              <a:path w="9327" h="1266">
                <a:moveTo>
                  <a:pt x="18728" y="14536"/>
                </a:moveTo>
                <a:cubicBezTo>
                  <a:pt x="18747" y="14452"/>
                  <a:pt x="18761" y="14371"/>
                  <a:pt x="18777" y="14288"/>
                </a:cubicBezTo>
                <a:cubicBezTo>
                  <a:pt x="18785" y="14246"/>
                  <a:pt x="18754" y="14181"/>
                  <a:pt x="18777" y="14213"/>
                </a:cubicBezTo>
                <a:cubicBezTo>
                  <a:pt x="18814" y="14264"/>
                  <a:pt x="18863" y="14312"/>
                  <a:pt x="18901" y="14362"/>
                </a:cubicBezTo>
                <a:cubicBezTo>
                  <a:pt x="18934" y="14406"/>
                  <a:pt x="19024" y="14466"/>
                  <a:pt x="19075" y="14486"/>
                </a:cubicBezTo>
                <a:cubicBezTo>
                  <a:pt x="19110" y="14499"/>
                  <a:pt x="19136" y="14520"/>
                  <a:pt x="19149" y="14560"/>
                </a:cubicBezTo>
                <a:cubicBezTo>
                  <a:pt x="19164" y="14604"/>
                  <a:pt x="19127" y="14622"/>
                  <a:pt x="19124" y="14660"/>
                </a:cubicBezTo>
                <a:cubicBezTo>
                  <a:pt x="19120" y="14714"/>
                  <a:pt x="19103" y="14757"/>
                  <a:pt x="19100" y="14808"/>
                </a:cubicBezTo>
                <a:cubicBezTo>
                  <a:pt x="19096" y="14864"/>
                  <a:pt x="19080" y="14885"/>
                  <a:pt x="19075" y="14932"/>
                </a:cubicBezTo>
                <a:cubicBezTo>
                  <a:pt x="19071" y="14964"/>
                  <a:pt x="19075" y="14999"/>
                  <a:pt x="19075" y="15032"/>
                </a:cubicBezTo>
              </a:path>
              <a:path w="9327" h="1266">
                <a:moveTo>
                  <a:pt x="18926" y="14610"/>
                </a:moveTo>
                <a:cubicBezTo>
                  <a:pt x="18975" y="14610"/>
                  <a:pt x="19012" y="14627"/>
                  <a:pt x="19050" y="14635"/>
                </a:cubicBezTo>
                <a:cubicBezTo>
                  <a:pt x="19128" y="14651"/>
                  <a:pt x="19203" y="14637"/>
                  <a:pt x="19273" y="14660"/>
                </a:cubicBezTo>
                <a:cubicBezTo>
                  <a:pt x="19292" y="14666"/>
                  <a:pt x="19328" y="14660"/>
                  <a:pt x="19348" y="14660"/>
                </a:cubicBezTo>
              </a:path>
              <a:path w="9327" h="1266">
                <a:moveTo>
                  <a:pt x="19571" y="14511"/>
                </a:moveTo>
                <a:cubicBezTo>
                  <a:pt x="19571" y="14486"/>
                  <a:pt x="19571" y="14478"/>
                  <a:pt x="19571" y="14461"/>
                </a:cubicBezTo>
                <a:cubicBezTo>
                  <a:pt x="19626" y="14461"/>
                  <a:pt x="19641" y="14473"/>
                  <a:pt x="19695" y="14486"/>
                </a:cubicBezTo>
                <a:cubicBezTo>
                  <a:pt x="19724" y="14493"/>
                  <a:pt x="19764" y="14486"/>
                  <a:pt x="19794" y="14486"/>
                </a:cubicBezTo>
              </a:path>
              <a:path w="9327" h="1266">
                <a:moveTo>
                  <a:pt x="19571" y="14734"/>
                </a:moveTo>
                <a:cubicBezTo>
                  <a:pt x="19603" y="14726"/>
                  <a:pt x="19638" y="14720"/>
                  <a:pt x="19670" y="14709"/>
                </a:cubicBezTo>
                <a:cubicBezTo>
                  <a:pt x="19711" y="14694"/>
                  <a:pt x="19786" y="14700"/>
                  <a:pt x="19819" y="14684"/>
                </a:cubicBezTo>
                <a:cubicBezTo>
                  <a:pt x="19827" y="14676"/>
                  <a:pt x="19836" y="14668"/>
                  <a:pt x="19844" y="14660"/>
                </a:cubicBezTo>
              </a:path>
              <a:path w="9327" h="1266">
                <a:moveTo>
                  <a:pt x="20092" y="14163"/>
                </a:moveTo>
                <a:cubicBezTo>
                  <a:pt x="20092" y="14214"/>
                  <a:pt x="20091" y="14222"/>
                  <a:pt x="20067" y="14263"/>
                </a:cubicBezTo>
                <a:cubicBezTo>
                  <a:pt x="20031" y="14325"/>
                  <a:pt x="20012" y="14367"/>
                  <a:pt x="19993" y="14436"/>
                </a:cubicBezTo>
                <a:cubicBezTo>
                  <a:pt x="19980" y="14481"/>
                  <a:pt x="19956" y="14579"/>
                  <a:pt x="20017" y="14610"/>
                </a:cubicBezTo>
                <a:cubicBezTo>
                  <a:pt x="20060" y="14632"/>
                  <a:pt x="20093" y="14621"/>
                  <a:pt x="20141" y="14635"/>
                </a:cubicBezTo>
                <a:cubicBezTo>
                  <a:pt x="20201" y="14653"/>
                  <a:pt x="20225" y="14660"/>
                  <a:pt x="20290" y="14660"/>
                </a:cubicBezTo>
                <a:cubicBezTo>
                  <a:pt x="20340" y="14660"/>
                  <a:pt x="20356" y="14660"/>
                  <a:pt x="20389" y="14660"/>
                </a:cubicBezTo>
              </a:path>
              <a:path w="9327" h="1266">
                <a:moveTo>
                  <a:pt x="20365" y="14263"/>
                </a:moveTo>
                <a:cubicBezTo>
                  <a:pt x="20356" y="14327"/>
                  <a:pt x="20340" y="14365"/>
                  <a:pt x="20340" y="14436"/>
                </a:cubicBezTo>
                <a:cubicBezTo>
                  <a:pt x="20340" y="14523"/>
                  <a:pt x="20304" y="14594"/>
                  <a:pt x="20315" y="14684"/>
                </a:cubicBezTo>
                <a:cubicBezTo>
                  <a:pt x="20329" y="14798"/>
                  <a:pt x="20307" y="14837"/>
                  <a:pt x="20389" y="14858"/>
                </a:cubicBezTo>
              </a:path>
              <a:path w="9327" h="1266">
                <a:moveTo>
                  <a:pt x="20786" y="14387"/>
                </a:moveTo>
                <a:cubicBezTo>
                  <a:pt x="20774" y="14337"/>
                  <a:pt x="20763" y="14337"/>
                  <a:pt x="20712" y="14337"/>
                </a:cubicBezTo>
                <a:cubicBezTo>
                  <a:pt x="20666" y="14337"/>
                  <a:pt x="20641" y="14344"/>
                  <a:pt x="20613" y="14387"/>
                </a:cubicBezTo>
                <a:cubicBezTo>
                  <a:pt x="20575" y="14445"/>
                  <a:pt x="20524" y="14543"/>
                  <a:pt x="20513" y="14610"/>
                </a:cubicBezTo>
                <a:cubicBezTo>
                  <a:pt x="20498" y="14699"/>
                  <a:pt x="20516" y="14726"/>
                  <a:pt x="20588" y="14759"/>
                </a:cubicBezTo>
                <a:cubicBezTo>
                  <a:pt x="20667" y="14796"/>
                  <a:pt x="20755" y="14821"/>
                  <a:pt x="20836" y="14784"/>
                </a:cubicBezTo>
                <a:cubicBezTo>
                  <a:pt x="20868" y="14769"/>
                  <a:pt x="20943" y="14720"/>
                  <a:pt x="20960" y="14684"/>
                </a:cubicBezTo>
                <a:cubicBezTo>
                  <a:pt x="20981" y="14637"/>
                  <a:pt x="20944" y="14576"/>
                  <a:pt x="20935" y="14536"/>
                </a:cubicBezTo>
                <a:cubicBezTo>
                  <a:pt x="20924" y="14490"/>
                  <a:pt x="20917" y="14446"/>
                  <a:pt x="20886" y="14412"/>
                </a:cubicBezTo>
                <a:cubicBezTo>
                  <a:pt x="20878" y="14404"/>
                  <a:pt x="20869" y="14395"/>
                  <a:pt x="20861" y="14387"/>
                </a:cubicBezTo>
              </a:path>
              <a:path w="9327" h="1266">
                <a:moveTo>
                  <a:pt x="21208" y="14511"/>
                </a:moveTo>
                <a:lnTo>
                  <a:pt x="21208" y="14511"/>
                </a:lnTo>
              </a:path>
              <a:path w="9327" h="1266">
                <a:moveTo>
                  <a:pt x="21630" y="14213"/>
                </a:moveTo>
                <a:cubicBezTo>
                  <a:pt x="21630" y="14188"/>
                  <a:pt x="21630" y="14180"/>
                  <a:pt x="21630" y="14163"/>
                </a:cubicBezTo>
                <a:cubicBezTo>
                  <a:pt x="21577" y="14163"/>
                  <a:pt x="21550" y="14164"/>
                  <a:pt x="21506" y="14188"/>
                </a:cubicBezTo>
                <a:cubicBezTo>
                  <a:pt x="21460" y="14213"/>
                  <a:pt x="21412" y="14233"/>
                  <a:pt x="21406" y="14288"/>
                </a:cubicBezTo>
                <a:cubicBezTo>
                  <a:pt x="21401" y="14332"/>
                  <a:pt x="21417" y="14362"/>
                  <a:pt x="21456" y="14387"/>
                </a:cubicBezTo>
                <a:cubicBezTo>
                  <a:pt x="21515" y="14425"/>
                  <a:pt x="21578" y="14463"/>
                  <a:pt x="21630" y="14511"/>
                </a:cubicBezTo>
                <a:cubicBezTo>
                  <a:pt x="21678" y="14556"/>
                  <a:pt x="21720" y="14605"/>
                  <a:pt x="21754" y="14660"/>
                </a:cubicBezTo>
                <a:cubicBezTo>
                  <a:pt x="21774" y="14693"/>
                  <a:pt x="21815" y="14796"/>
                  <a:pt x="21803" y="14833"/>
                </a:cubicBezTo>
                <a:cubicBezTo>
                  <a:pt x="21792" y="14867"/>
                  <a:pt x="21709" y="14905"/>
                  <a:pt x="21679" y="14908"/>
                </a:cubicBezTo>
                <a:cubicBezTo>
                  <a:pt x="21647" y="14912"/>
                  <a:pt x="21603" y="14878"/>
                  <a:pt x="21580" y="14858"/>
                </a:cubicBezTo>
                <a:cubicBezTo>
                  <a:pt x="21547" y="14828"/>
                  <a:pt x="21538" y="14800"/>
                  <a:pt x="21530" y="14759"/>
                </a:cubicBezTo>
              </a:path>
              <a:path w="9327" h="1266">
                <a:moveTo>
                  <a:pt x="21927" y="14412"/>
                </a:moveTo>
                <a:cubicBezTo>
                  <a:pt x="21927" y="14502"/>
                  <a:pt x="21918" y="14583"/>
                  <a:pt x="21903" y="14660"/>
                </a:cubicBezTo>
                <a:cubicBezTo>
                  <a:pt x="21893" y="14710"/>
                  <a:pt x="21901" y="14747"/>
                  <a:pt x="21927" y="14784"/>
                </a:cubicBezTo>
              </a:path>
              <a:path w="9327" h="1266">
                <a:moveTo>
                  <a:pt x="22126" y="14412"/>
                </a:moveTo>
                <a:cubicBezTo>
                  <a:pt x="22126" y="14460"/>
                  <a:pt x="22106" y="14501"/>
                  <a:pt x="22101" y="14536"/>
                </a:cubicBezTo>
                <a:cubicBezTo>
                  <a:pt x="22101" y="14561"/>
                  <a:pt x="22101" y="14585"/>
                  <a:pt x="22101" y="14610"/>
                </a:cubicBezTo>
              </a:path>
              <a:path w="9327" h="1266">
                <a:moveTo>
                  <a:pt x="22076" y="14734"/>
                </a:moveTo>
                <a:cubicBezTo>
                  <a:pt x="22076" y="14666"/>
                  <a:pt x="22078" y="14623"/>
                  <a:pt x="22101" y="14560"/>
                </a:cubicBezTo>
                <a:cubicBezTo>
                  <a:pt x="22128" y="14486"/>
                  <a:pt x="22147" y="14465"/>
                  <a:pt x="22200" y="14412"/>
                </a:cubicBezTo>
                <a:cubicBezTo>
                  <a:pt x="22208" y="14404"/>
                  <a:pt x="22217" y="14395"/>
                  <a:pt x="22225" y="14387"/>
                </a:cubicBezTo>
              </a:path>
              <a:path w="9327" h="1266">
                <a:moveTo>
                  <a:pt x="22250" y="14387"/>
                </a:moveTo>
                <a:cubicBezTo>
                  <a:pt x="22258" y="14387"/>
                  <a:pt x="22267" y="14387"/>
                  <a:pt x="22275" y="14387"/>
                </a:cubicBezTo>
                <a:cubicBezTo>
                  <a:pt x="22275" y="14439"/>
                  <a:pt x="22295" y="14458"/>
                  <a:pt x="22299" y="14511"/>
                </a:cubicBezTo>
                <a:cubicBezTo>
                  <a:pt x="22307" y="14610"/>
                  <a:pt x="22295" y="14698"/>
                  <a:pt x="22324" y="14784"/>
                </a:cubicBezTo>
                <a:cubicBezTo>
                  <a:pt x="22324" y="14792"/>
                  <a:pt x="22324" y="14800"/>
                  <a:pt x="22324" y="14808"/>
                </a:cubicBezTo>
              </a:path>
              <a:path w="9327" h="1266">
                <a:moveTo>
                  <a:pt x="22448" y="14114"/>
                </a:moveTo>
                <a:cubicBezTo>
                  <a:pt x="22532" y="14091"/>
                  <a:pt x="22572" y="14087"/>
                  <a:pt x="22647" y="14114"/>
                </a:cubicBezTo>
                <a:cubicBezTo>
                  <a:pt x="22695" y="14131"/>
                  <a:pt x="22761" y="14156"/>
                  <a:pt x="22796" y="14188"/>
                </a:cubicBezTo>
                <a:cubicBezTo>
                  <a:pt x="22829" y="14218"/>
                  <a:pt x="22870" y="14262"/>
                  <a:pt x="22845" y="14312"/>
                </a:cubicBezTo>
                <a:cubicBezTo>
                  <a:pt x="22816" y="14368"/>
                  <a:pt x="22742" y="14402"/>
                  <a:pt x="22696" y="14436"/>
                </a:cubicBezTo>
                <a:cubicBezTo>
                  <a:pt x="22633" y="14483"/>
                  <a:pt x="22608" y="14513"/>
                  <a:pt x="22572" y="14585"/>
                </a:cubicBezTo>
                <a:cubicBezTo>
                  <a:pt x="22530" y="14669"/>
                  <a:pt x="22558" y="14702"/>
                  <a:pt x="22572" y="14784"/>
                </a:cubicBezTo>
                <a:cubicBezTo>
                  <a:pt x="22583" y="14847"/>
                  <a:pt x="22629" y="14881"/>
                  <a:pt x="22696" y="14908"/>
                </a:cubicBezTo>
                <a:cubicBezTo>
                  <a:pt x="22760" y="14934"/>
                  <a:pt x="22794" y="14965"/>
                  <a:pt x="22845" y="14932"/>
                </a:cubicBezTo>
                <a:cubicBezTo>
                  <a:pt x="22853" y="14924"/>
                  <a:pt x="22862" y="14916"/>
                  <a:pt x="22870" y="14908"/>
                </a:cubicBezTo>
              </a:path>
              <a:path w="9327" h="1266">
                <a:moveTo>
                  <a:pt x="23192" y="14387"/>
                </a:moveTo>
                <a:cubicBezTo>
                  <a:pt x="23185" y="14342"/>
                  <a:pt x="23186" y="14317"/>
                  <a:pt x="23143" y="14312"/>
                </a:cubicBezTo>
                <a:cubicBezTo>
                  <a:pt x="23090" y="14305"/>
                  <a:pt x="23028" y="14349"/>
                  <a:pt x="22994" y="14387"/>
                </a:cubicBezTo>
                <a:cubicBezTo>
                  <a:pt x="22949" y="14438"/>
                  <a:pt x="22891" y="14517"/>
                  <a:pt x="22870" y="14585"/>
                </a:cubicBezTo>
                <a:cubicBezTo>
                  <a:pt x="22859" y="14620"/>
                  <a:pt x="22900" y="14708"/>
                  <a:pt x="22920" y="14734"/>
                </a:cubicBezTo>
                <a:cubicBezTo>
                  <a:pt x="22961" y="14787"/>
                  <a:pt x="23008" y="14784"/>
                  <a:pt x="23068" y="14784"/>
                </a:cubicBezTo>
                <a:cubicBezTo>
                  <a:pt x="23128" y="14784"/>
                  <a:pt x="23172" y="14751"/>
                  <a:pt x="23217" y="14709"/>
                </a:cubicBezTo>
                <a:cubicBezTo>
                  <a:pt x="23280" y="14651"/>
                  <a:pt x="23310" y="14594"/>
                  <a:pt x="23316" y="14511"/>
                </a:cubicBezTo>
                <a:cubicBezTo>
                  <a:pt x="23320" y="14452"/>
                  <a:pt x="23306" y="14432"/>
                  <a:pt x="23292" y="14387"/>
                </a:cubicBezTo>
                <a:cubicBezTo>
                  <a:pt x="23292" y="14379"/>
                  <a:pt x="23292" y="14370"/>
                  <a:pt x="23292" y="14362"/>
                </a:cubicBezTo>
              </a:path>
              <a:path w="9327" h="1266">
                <a:moveTo>
                  <a:pt x="23540" y="14163"/>
                </a:moveTo>
                <a:cubicBezTo>
                  <a:pt x="23500" y="14150"/>
                  <a:pt x="23530" y="14152"/>
                  <a:pt x="23490" y="14139"/>
                </a:cubicBezTo>
                <a:cubicBezTo>
                  <a:pt x="23473" y="14144"/>
                  <a:pt x="23429" y="14161"/>
                  <a:pt x="23416" y="14188"/>
                </a:cubicBezTo>
                <a:cubicBezTo>
                  <a:pt x="23416" y="14213"/>
                  <a:pt x="23416" y="14221"/>
                  <a:pt x="23391" y="14213"/>
                </a:cubicBezTo>
                <a:cubicBezTo>
                  <a:pt x="23423" y="14256"/>
                  <a:pt x="23410" y="14263"/>
                  <a:pt x="23465" y="14263"/>
                </a:cubicBezTo>
                <a:cubicBezTo>
                  <a:pt x="23513" y="14263"/>
                  <a:pt x="23553" y="14266"/>
                  <a:pt x="23564" y="14213"/>
                </a:cubicBezTo>
                <a:cubicBezTo>
                  <a:pt x="23564" y="14188"/>
                  <a:pt x="23564" y="14180"/>
                  <a:pt x="23540" y="14188"/>
                </a:cubicBezTo>
              </a:path>
              <a:path w="9327" h="1266">
                <a:moveTo>
                  <a:pt x="23788" y="14188"/>
                </a:moveTo>
                <a:cubicBezTo>
                  <a:pt x="23715" y="14188"/>
                  <a:pt x="23768" y="14210"/>
                  <a:pt x="23713" y="14238"/>
                </a:cubicBezTo>
                <a:cubicBezTo>
                  <a:pt x="23677" y="14256"/>
                  <a:pt x="23645" y="14261"/>
                  <a:pt x="23639" y="14312"/>
                </a:cubicBezTo>
                <a:cubicBezTo>
                  <a:pt x="23632" y="14374"/>
                  <a:pt x="23708" y="14378"/>
                  <a:pt x="23738" y="14412"/>
                </a:cubicBezTo>
                <a:cubicBezTo>
                  <a:pt x="23782" y="14462"/>
                  <a:pt x="23816" y="14509"/>
                  <a:pt x="23862" y="14560"/>
                </a:cubicBezTo>
                <a:cubicBezTo>
                  <a:pt x="23905" y="14608"/>
                  <a:pt x="23932" y="14648"/>
                  <a:pt x="23937" y="14709"/>
                </a:cubicBezTo>
                <a:cubicBezTo>
                  <a:pt x="23941" y="14761"/>
                  <a:pt x="23923" y="14764"/>
                  <a:pt x="23912" y="14784"/>
                </a:cubicBezTo>
                <a:cubicBezTo>
                  <a:pt x="23889" y="14828"/>
                  <a:pt x="23894" y="14833"/>
                  <a:pt x="23837" y="14833"/>
                </a:cubicBezTo>
                <a:cubicBezTo>
                  <a:pt x="23783" y="14833"/>
                  <a:pt x="23753" y="14842"/>
                  <a:pt x="23713" y="14808"/>
                </a:cubicBezTo>
                <a:cubicBezTo>
                  <a:pt x="23681" y="14780"/>
                  <a:pt x="23647" y="14760"/>
                  <a:pt x="23614" y="14734"/>
                </a:cubicBezTo>
              </a:path>
              <a:path w="9327" h="1266">
                <a:moveTo>
                  <a:pt x="23713" y="14139"/>
                </a:moveTo>
                <a:cubicBezTo>
                  <a:pt x="23776" y="14145"/>
                  <a:pt x="23825" y="14163"/>
                  <a:pt x="23887" y="14163"/>
                </a:cubicBezTo>
                <a:cubicBezTo>
                  <a:pt x="23946" y="14163"/>
                  <a:pt x="23988" y="14148"/>
                  <a:pt x="24036" y="14139"/>
                </a:cubicBezTo>
                <a:cubicBezTo>
                  <a:pt x="24081" y="14130"/>
                  <a:pt x="24139" y="14139"/>
                  <a:pt x="24185" y="14139"/>
                </a:cubicBezTo>
              </a:path>
              <a:path w="9327" h="1266">
                <a:moveTo>
                  <a:pt x="24408" y="14312"/>
                </a:moveTo>
                <a:cubicBezTo>
                  <a:pt x="24351" y="14285"/>
                  <a:pt x="24364" y="14314"/>
                  <a:pt x="24333" y="14337"/>
                </a:cubicBezTo>
                <a:cubicBezTo>
                  <a:pt x="24282" y="14375"/>
                  <a:pt x="24224" y="14430"/>
                  <a:pt x="24185" y="14486"/>
                </a:cubicBezTo>
                <a:cubicBezTo>
                  <a:pt x="24152" y="14533"/>
                  <a:pt x="24138" y="14605"/>
                  <a:pt x="24135" y="14660"/>
                </a:cubicBezTo>
                <a:cubicBezTo>
                  <a:pt x="24131" y="14725"/>
                  <a:pt x="24165" y="14786"/>
                  <a:pt x="24209" y="14833"/>
                </a:cubicBezTo>
                <a:cubicBezTo>
                  <a:pt x="24284" y="14912"/>
                  <a:pt x="24308" y="14932"/>
                  <a:pt x="24408" y="14932"/>
                </a:cubicBezTo>
                <a:cubicBezTo>
                  <a:pt x="24466" y="14932"/>
                  <a:pt x="24478" y="14872"/>
                  <a:pt x="24507" y="14833"/>
                </a:cubicBezTo>
                <a:cubicBezTo>
                  <a:pt x="24552" y="14774"/>
                  <a:pt x="24532" y="14685"/>
                  <a:pt x="24532" y="14610"/>
                </a:cubicBezTo>
                <a:cubicBezTo>
                  <a:pt x="24532" y="14553"/>
                  <a:pt x="24507" y="14517"/>
                  <a:pt x="24507" y="14461"/>
                </a:cubicBezTo>
                <a:cubicBezTo>
                  <a:pt x="24507" y="14429"/>
                  <a:pt x="24490" y="14417"/>
                  <a:pt x="24482" y="14387"/>
                </a:cubicBezTo>
              </a:path>
              <a:path w="9327" h="1266">
                <a:moveTo>
                  <a:pt x="24681" y="14015"/>
                </a:moveTo>
                <a:cubicBezTo>
                  <a:pt x="24703" y="14037"/>
                  <a:pt x="24711" y="14042"/>
                  <a:pt x="24705" y="14064"/>
                </a:cubicBezTo>
                <a:cubicBezTo>
                  <a:pt x="24728" y="14072"/>
                  <a:pt x="24744" y="14107"/>
                  <a:pt x="24755" y="14139"/>
                </a:cubicBezTo>
                <a:cubicBezTo>
                  <a:pt x="24761" y="14158"/>
                  <a:pt x="24755" y="14193"/>
                  <a:pt x="24755" y="14213"/>
                </a:cubicBezTo>
              </a:path>
              <a:path w="9327" h="1266">
                <a:moveTo>
                  <a:pt x="15429" y="15280"/>
                </a:moveTo>
                <a:cubicBezTo>
                  <a:pt x="15460" y="15262"/>
                  <a:pt x="15497" y="15242"/>
                  <a:pt x="15528" y="15230"/>
                </a:cubicBezTo>
                <a:cubicBezTo>
                  <a:pt x="15600" y="15202"/>
                  <a:pt x="15673" y="15188"/>
                  <a:pt x="15751" y="15180"/>
                </a:cubicBezTo>
                <a:cubicBezTo>
                  <a:pt x="15825" y="15172"/>
                  <a:pt x="15901" y="15164"/>
                  <a:pt x="15974" y="15156"/>
                </a:cubicBezTo>
                <a:cubicBezTo>
                  <a:pt x="16090" y="15144"/>
                  <a:pt x="16208" y="15144"/>
                  <a:pt x="16321" y="15131"/>
                </a:cubicBezTo>
                <a:cubicBezTo>
                  <a:pt x="16516" y="15109"/>
                  <a:pt x="16724" y="15124"/>
                  <a:pt x="16917" y="15106"/>
                </a:cubicBezTo>
                <a:cubicBezTo>
                  <a:pt x="17126" y="15087"/>
                  <a:pt x="17328" y="15121"/>
                  <a:pt x="17537" y="15081"/>
                </a:cubicBezTo>
                <a:cubicBezTo>
                  <a:pt x="17681" y="15053"/>
                  <a:pt x="17835" y="15036"/>
                  <a:pt x="17983" y="15032"/>
                </a:cubicBezTo>
                <a:cubicBezTo>
                  <a:pt x="18177" y="15027"/>
                  <a:pt x="18365" y="15028"/>
                  <a:pt x="18554" y="15007"/>
                </a:cubicBezTo>
                <a:cubicBezTo>
                  <a:pt x="18725" y="14988"/>
                  <a:pt x="18938" y="14991"/>
                  <a:pt x="19100" y="15032"/>
                </a:cubicBezTo>
                <a:cubicBezTo>
                  <a:pt x="19125" y="15040"/>
                  <a:pt x="19149" y="15048"/>
                  <a:pt x="19174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26080" y="5402160"/>
            <a:ext cx="1108080" cy="331920"/>
          </a:xfrm>
          <a:custGeom>
            <a:avLst/>
            <a:gdLst/>
            <a:ahLst/>
            <a:rect l="l" t="t" r="r" b="b"/>
            <a:pathLst>
              <a:path w="3077" h="919">
                <a:moveTo>
                  <a:pt x="15949" y="15329"/>
                </a:moveTo>
                <a:cubicBezTo>
                  <a:pt x="15874" y="15296"/>
                  <a:pt x="15869" y="15308"/>
                  <a:pt x="15801" y="15329"/>
                </a:cubicBezTo>
                <a:cubicBezTo>
                  <a:pt x="15769" y="15339"/>
                  <a:pt x="15696" y="15324"/>
                  <a:pt x="15677" y="15354"/>
                </a:cubicBezTo>
                <a:cubicBezTo>
                  <a:pt x="15677" y="15362"/>
                  <a:pt x="15677" y="15371"/>
                  <a:pt x="15677" y="15379"/>
                </a:cubicBezTo>
                <a:cubicBezTo>
                  <a:pt x="15689" y="15417"/>
                  <a:pt x="15753" y="15429"/>
                  <a:pt x="15801" y="15453"/>
                </a:cubicBezTo>
                <a:cubicBezTo>
                  <a:pt x="15892" y="15498"/>
                  <a:pt x="15979" y="15538"/>
                  <a:pt x="16073" y="15577"/>
                </a:cubicBezTo>
              </a:path>
              <a:path w="3077" h="919">
                <a:moveTo>
                  <a:pt x="16123" y="15801"/>
                </a:moveTo>
                <a:cubicBezTo>
                  <a:pt x="16043" y="15901"/>
                  <a:pt x="16028" y="15900"/>
                  <a:pt x="15900" y="15900"/>
                </a:cubicBezTo>
                <a:cubicBezTo>
                  <a:pt x="15791" y="15900"/>
                  <a:pt x="15775" y="15868"/>
                  <a:pt x="15677" y="15825"/>
                </a:cubicBezTo>
                <a:cubicBezTo>
                  <a:pt x="15638" y="15808"/>
                  <a:pt x="15636" y="15797"/>
                  <a:pt x="15627" y="15751"/>
                </a:cubicBezTo>
              </a:path>
              <a:path w="3077" h="919">
                <a:moveTo>
                  <a:pt x="16297" y="15478"/>
                </a:moveTo>
                <a:cubicBezTo>
                  <a:pt x="16289" y="15560"/>
                  <a:pt x="16260" y="15623"/>
                  <a:pt x="16247" y="15701"/>
                </a:cubicBezTo>
                <a:cubicBezTo>
                  <a:pt x="16247" y="15751"/>
                  <a:pt x="16247" y="15768"/>
                  <a:pt x="16247" y="15801"/>
                </a:cubicBezTo>
              </a:path>
              <a:path w="3077" h="919">
                <a:moveTo>
                  <a:pt x="16470" y="15478"/>
                </a:moveTo>
                <a:cubicBezTo>
                  <a:pt x="16470" y="15546"/>
                  <a:pt x="16461" y="15589"/>
                  <a:pt x="16446" y="15652"/>
                </a:cubicBezTo>
                <a:cubicBezTo>
                  <a:pt x="16437" y="15689"/>
                  <a:pt x="16446" y="15737"/>
                  <a:pt x="16446" y="15776"/>
                </a:cubicBezTo>
                <a:cubicBezTo>
                  <a:pt x="16446" y="15707"/>
                  <a:pt x="16460" y="15670"/>
                  <a:pt x="16470" y="15602"/>
                </a:cubicBezTo>
                <a:cubicBezTo>
                  <a:pt x="16477" y="15552"/>
                  <a:pt x="16489" y="15499"/>
                  <a:pt x="16520" y="15453"/>
                </a:cubicBezTo>
                <a:cubicBezTo>
                  <a:pt x="16539" y="15425"/>
                  <a:pt x="16590" y="15389"/>
                  <a:pt x="16619" y="15379"/>
                </a:cubicBezTo>
                <a:cubicBezTo>
                  <a:pt x="16647" y="15370"/>
                  <a:pt x="16707" y="15429"/>
                  <a:pt x="16718" y="15453"/>
                </a:cubicBezTo>
                <a:cubicBezTo>
                  <a:pt x="16739" y="15500"/>
                  <a:pt x="16743" y="15549"/>
                  <a:pt x="16743" y="15602"/>
                </a:cubicBezTo>
                <a:cubicBezTo>
                  <a:pt x="16743" y="15659"/>
                  <a:pt x="16763" y="15698"/>
                  <a:pt x="16768" y="15751"/>
                </a:cubicBezTo>
                <a:cubicBezTo>
                  <a:pt x="16768" y="15784"/>
                  <a:pt x="16768" y="15800"/>
                  <a:pt x="16768" y="15825"/>
                </a:cubicBezTo>
              </a:path>
              <a:path w="3077" h="919">
                <a:moveTo>
                  <a:pt x="17140" y="15180"/>
                </a:moveTo>
                <a:cubicBezTo>
                  <a:pt x="17129" y="15243"/>
                  <a:pt x="17105" y="15297"/>
                  <a:pt x="17090" y="15354"/>
                </a:cubicBezTo>
                <a:cubicBezTo>
                  <a:pt x="17064" y="15454"/>
                  <a:pt x="17021" y="15522"/>
                  <a:pt x="17016" y="15627"/>
                </a:cubicBezTo>
                <a:cubicBezTo>
                  <a:pt x="17013" y="15689"/>
                  <a:pt x="17003" y="15754"/>
                  <a:pt x="17041" y="15801"/>
                </a:cubicBezTo>
                <a:cubicBezTo>
                  <a:pt x="17075" y="15843"/>
                  <a:pt x="17115" y="15850"/>
                  <a:pt x="17165" y="15850"/>
                </a:cubicBezTo>
                <a:cubicBezTo>
                  <a:pt x="17238" y="15850"/>
                  <a:pt x="17300" y="15854"/>
                  <a:pt x="17338" y="15776"/>
                </a:cubicBezTo>
                <a:cubicBezTo>
                  <a:pt x="17359" y="15733"/>
                  <a:pt x="17363" y="15690"/>
                  <a:pt x="17338" y="15652"/>
                </a:cubicBezTo>
                <a:cubicBezTo>
                  <a:pt x="17322" y="15627"/>
                  <a:pt x="17221" y="15592"/>
                  <a:pt x="17190" y="15602"/>
                </a:cubicBezTo>
                <a:cubicBezTo>
                  <a:pt x="17165" y="15611"/>
                  <a:pt x="17103" y="15648"/>
                  <a:pt x="17090" y="15677"/>
                </a:cubicBezTo>
                <a:cubicBezTo>
                  <a:pt x="17072" y="15717"/>
                  <a:pt x="17114" y="15796"/>
                  <a:pt x="17140" y="15825"/>
                </a:cubicBezTo>
                <a:cubicBezTo>
                  <a:pt x="17170" y="15855"/>
                  <a:pt x="17184" y="15866"/>
                  <a:pt x="17214" y="15875"/>
                </a:cubicBezTo>
              </a:path>
              <a:path w="3077" h="919">
                <a:moveTo>
                  <a:pt x="17487" y="15156"/>
                </a:moveTo>
                <a:cubicBezTo>
                  <a:pt x="17481" y="15272"/>
                  <a:pt x="17462" y="15364"/>
                  <a:pt x="17462" y="15478"/>
                </a:cubicBezTo>
                <a:cubicBezTo>
                  <a:pt x="17462" y="15594"/>
                  <a:pt x="17462" y="15709"/>
                  <a:pt x="17462" y="15825"/>
                </a:cubicBezTo>
              </a:path>
              <a:path w="3077" h="919">
                <a:moveTo>
                  <a:pt x="17636" y="15577"/>
                </a:moveTo>
                <a:cubicBezTo>
                  <a:pt x="17620" y="15619"/>
                  <a:pt x="17630" y="15691"/>
                  <a:pt x="17611" y="15726"/>
                </a:cubicBezTo>
                <a:cubicBezTo>
                  <a:pt x="17591" y="15764"/>
                  <a:pt x="17587" y="15756"/>
                  <a:pt x="17587" y="15801"/>
                </a:cubicBezTo>
              </a:path>
              <a:path w="3077" h="919">
                <a:moveTo>
                  <a:pt x="17810" y="15156"/>
                </a:moveTo>
                <a:cubicBezTo>
                  <a:pt x="17810" y="15233"/>
                  <a:pt x="17788" y="15286"/>
                  <a:pt x="17785" y="15354"/>
                </a:cubicBezTo>
                <a:cubicBezTo>
                  <a:pt x="17778" y="15498"/>
                  <a:pt x="17767" y="15674"/>
                  <a:pt x="17810" y="15801"/>
                </a:cubicBezTo>
                <a:cubicBezTo>
                  <a:pt x="17810" y="15809"/>
                  <a:pt x="17810" y="15817"/>
                  <a:pt x="17810" y="15825"/>
                </a:cubicBezTo>
              </a:path>
              <a:path w="3077" h="919">
                <a:moveTo>
                  <a:pt x="18008" y="15329"/>
                </a:moveTo>
                <a:cubicBezTo>
                  <a:pt x="18008" y="15249"/>
                  <a:pt x="18015" y="15204"/>
                  <a:pt x="18033" y="15131"/>
                </a:cubicBezTo>
                <a:cubicBezTo>
                  <a:pt x="18045" y="15084"/>
                  <a:pt x="18081" y="15051"/>
                  <a:pt x="18107" y="15032"/>
                </a:cubicBezTo>
                <a:cubicBezTo>
                  <a:pt x="18148" y="15001"/>
                  <a:pt x="18166" y="14994"/>
                  <a:pt x="18207" y="15032"/>
                </a:cubicBezTo>
                <a:cubicBezTo>
                  <a:pt x="18266" y="15087"/>
                  <a:pt x="18316" y="15146"/>
                  <a:pt x="18355" y="15205"/>
                </a:cubicBezTo>
                <a:cubicBezTo>
                  <a:pt x="18386" y="15251"/>
                  <a:pt x="18405" y="15272"/>
                  <a:pt x="18405" y="15329"/>
                </a:cubicBezTo>
                <a:cubicBezTo>
                  <a:pt x="18405" y="15403"/>
                  <a:pt x="18388" y="15436"/>
                  <a:pt x="18355" y="15503"/>
                </a:cubicBezTo>
                <a:cubicBezTo>
                  <a:pt x="18308" y="15600"/>
                  <a:pt x="18284" y="15679"/>
                  <a:pt x="18256" y="15776"/>
                </a:cubicBezTo>
                <a:cubicBezTo>
                  <a:pt x="18231" y="15862"/>
                  <a:pt x="18213" y="15832"/>
                  <a:pt x="18231" y="15925"/>
                </a:cubicBezTo>
              </a:path>
              <a:path w="3077" h="919">
                <a:moveTo>
                  <a:pt x="18107" y="15503"/>
                </a:moveTo>
                <a:cubicBezTo>
                  <a:pt x="18165" y="15503"/>
                  <a:pt x="18228" y="15510"/>
                  <a:pt x="18281" y="15528"/>
                </a:cubicBezTo>
                <a:cubicBezTo>
                  <a:pt x="18347" y="15550"/>
                  <a:pt x="18416" y="15581"/>
                  <a:pt x="18479" y="15602"/>
                </a:cubicBezTo>
                <a:cubicBezTo>
                  <a:pt x="18543" y="15623"/>
                  <a:pt x="18589" y="15647"/>
                  <a:pt x="18653" y="15652"/>
                </a:cubicBezTo>
                <a:cubicBezTo>
                  <a:pt x="18681" y="15652"/>
                  <a:pt x="18692" y="15650"/>
                  <a:pt x="18703" y="156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96120" y="5392800"/>
            <a:ext cx="1098720" cy="268200"/>
          </a:xfrm>
          <a:custGeom>
            <a:avLst/>
            <a:gdLst/>
            <a:ahLst/>
            <a:rect l="l" t="t" r="r" b="b"/>
            <a:pathLst>
              <a:path w="3052" h="745">
                <a:moveTo>
                  <a:pt x="20513" y="15032"/>
                </a:moveTo>
                <a:cubicBezTo>
                  <a:pt x="20521" y="15032"/>
                  <a:pt x="20530" y="15032"/>
                  <a:pt x="20538" y="15032"/>
                </a:cubicBezTo>
                <a:cubicBezTo>
                  <a:pt x="20531" y="15002"/>
                  <a:pt x="20508" y="14958"/>
                  <a:pt x="20464" y="14982"/>
                </a:cubicBezTo>
                <a:cubicBezTo>
                  <a:pt x="20424" y="15004"/>
                  <a:pt x="20376" y="15009"/>
                  <a:pt x="20340" y="15032"/>
                </a:cubicBezTo>
                <a:cubicBezTo>
                  <a:pt x="20300" y="15058"/>
                  <a:pt x="20299" y="15070"/>
                  <a:pt x="20265" y="15081"/>
                </a:cubicBezTo>
                <a:cubicBezTo>
                  <a:pt x="20323" y="15128"/>
                  <a:pt x="20373" y="15127"/>
                  <a:pt x="20439" y="15156"/>
                </a:cubicBezTo>
                <a:cubicBezTo>
                  <a:pt x="20516" y="15189"/>
                  <a:pt x="20577" y="15224"/>
                  <a:pt x="20638" y="15280"/>
                </a:cubicBezTo>
                <a:cubicBezTo>
                  <a:pt x="20686" y="15324"/>
                  <a:pt x="20712" y="15366"/>
                  <a:pt x="20712" y="15429"/>
                </a:cubicBezTo>
                <a:cubicBezTo>
                  <a:pt x="20712" y="15471"/>
                  <a:pt x="20666" y="15499"/>
                  <a:pt x="20638" y="15528"/>
                </a:cubicBezTo>
                <a:cubicBezTo>
                  <a:pt x="20602" y="15565"/>
                  <a:pt x="20538" y="15590"/>
                  <a:pt x="20489" y="15602"/>
                </a:cubicBezTo>
                <a:cubicBezTo>
                  <a:pt x="20459" y="15610"/>
                  <a:pt x="20380" y="15599"/>
                  <a:pt x="20365" y="15577"/>
                </a:cubicBezTo>
                <a:cubicBezTo>
                  <a:pt x="20365" y="15569"/>
                  <a:pt x="20365" y="15561"/>
                  <a:pt x="20365" y="15553"/>
                </a:cubicBezTo>
              </a:path>
              <a:path w="3052" h="745">
                <a:moveTo>
                  <a:pt x="20786" y="15180"/>
                </a:moveTo>
                <a:cubicBezTo>
                  <a:pt x="20786" y="15288"/>
                  <a:pt x="20786" y="15395"/>
                  <a:pt x="20786" y="15503"/>
                </a:cubicBezTo>
              </a:path>
              <a:path w="3052" h="745">
                <a:moveTo>
                  <a:pt x="20935" y="15205"/>
                </a:moveTo>
                <a:cubicBezTo>
                  <a:pt x="20935" y="15247"/>
                  <a:pt x="20906" y="15384"/>
                  <a:pt x="20910" y="15404"/>
                </a:cubicBezTo>
                <a:cubicBezTo>
                  <a:pt x="20925" y="15480"/>
                  <a:pt x="20935" y="15435"/>
                  <a:pt x="20935" y="15379"/>
                </a:cubicBezTo>
                <a:cubicBezTo>
                  <a:pt x="20935" y="15322"/>
                  <a:pt x="20951" y="15247"/>
                  <a:pt x="20985" y="15205"/>
                </a:cubicBezTo>
                <a:cubicBezTo>
                  <a:pt x="21010" y="15174"/>
                  <a:pt x="21011" y="15163"/>
                  <a:pt x="21034" y="15131"/>
                </a:cubicBezTo>
              </a:path>
              <a:path w="3052" h="745">
                <a:moveTo>
                  <a:pt x="21158" y="15131"/>
                </a:moveTo>
                <a:cubicBezTo>
                  <a:pt x="21166" y="15206"/>
                  <a:pt x="21183" y="15250"/>
                  <a:pt x="21183" y="15329"/>
                </a:cubicBezTo>
                <a:cubicBezTo>
                  <a:pt x="21183" y="15388"/>
                  <a:pt x="21158" y="15415"/>
                  <a:pt x="21158" y="15478"/>
                </a:cubicBezTo>
                <a:cubicBezTo>
                  <a:pt x="21158" y="15521"/>
                  <a:pt x="21148" y="15516"/>
                  <a:pt x="21183" y="15528"/>
                </a:cubicBezTo>
              </a:path>
              <a:path w="3052" h="745">
                <a:moveTo>
                  <a:pt x="21555" y="15007"/>
                </a:moveTo>
                <a:cubicBezTo>
                  <a:pt x="21543" y="15055"/>
                  <a:pt x="21502" y="15080"/>
                  <a:pt x="21481" y="15131"/>
                </a:cubicBezTo>
                <a:cubicBezTo>
                  <a:pt x="21434" y="15244"/>
                  <a:pt x="21438" y="15322"/>
                  <a:pt x="21456" y="15429"/>
                </a:cubicBezTo>
                <a:cubicBezTo>
                  <a:pt x="21469" y="15504"/>
                  <a:pt x="21476" y="15492"/>
                  <a:pt x="21530" y="15528"/>
                </a:cubicBezTo>
                <a:cubicBezTo>
                  <a:pt x="21562" y="15550"/>
                  <a:pt x="21623" y="15567"/>
                  <a:pt x="21654" y="15528"/>
                </a:cubicBezTo>
                <a:cubicBezTo>
                  <a:pt x="21654" y="15500"/>
                  <a:pt x="21656" y="15489"/>
                  <a:pt x="21679" y="15478"/>
                </a:cubicBezTo>
              </a:path>
              <a:path w="3052" h="745">
                <a:moveTo>
                  <a:pt x="21704" y="15354"/>
                </a:moveTo>
                <a:cubicBezTo>
                  <a:pt x="21681" y="15331"/>
                  <a:pt x="21646" y="15281"/>
                  <a:pt x="21605" y="15304"/>
                </a:cubicBezTo>
                <a:cubicBezTo>
                  <a:pt x="21582" y="15327"/>
                  <a:pt x="21574" y="15331"/>
                  <a:pt x="21580" y="15354"/>
                </a:cubicBezTo>
                <a:cubicBezTo>
                  <a:pt x="21546" y="15376"/>
                  <a:pt x="21555" y="15402"/>
                  <a:pt x="21555" y="15453"/>
                </a:cubicBezTo>
                <a:cubicBezTo>
                  <a:pt x="21555" y="15478"/>
                  <a:pt x="21555" y="15486"/>
                  <a:pt x="21555" y="15503"/>
                </a:cubicBezTo>
              </a:path>
              <a:path w="3052" h="745">
                <a:moveTo>
                  <a:pt x="21952" y="15081"/>
                </a:moveTo>
                <a:cubicBezTo>
                  <a:pt x="21952" y="15157"/>
                  <a:pt x="21913" y="15606"/>
                  <a:pt x="21977" y="15627"/>
                </a:cubicBezTo>
              </a:path>
              <a:path w="3052" h="745">
                <a:moveTo>
                  <a:pt x="22175" y="15429"/>
                </a:moveTo>
                <a:cubicBezTo>
                  <a:pt x="22171" y="15459"/>
                  <a:pt x="22166" y="15526"/>
                  <a:pt x="22151" y="15553"/>
                </a:cubicBezTo>
                <a:cubicBezTo>
                  <a:pt x="22124" y="15601"/>
                  <a:pt x="22115" y="15578"/>
                  <a:pt x="22151" y="15627"/>
                </a:cubicBezTo>
              </a:path>
              <a:path w="3052" h="745">
                <a:moveTo>
                  <a:pt x="22399" y="15056"/>
                </a:moveTo>
                <a:cubicBezTo>
                  <a:pt x="22399" y="15217"/>
                  <a:pt x="22345" y="15492"/>
                  <a:pt x="22423" y="15627"/>
                </a:cubicBezTo>
              </a:path>
              <a:path w="3052" h="745">
                <a:moveTo>
                  <a:pt x="22547" y="15354"/>
                </a:moveTo>
                <a:cubicBezTo>
                  <a:pt x="22567" y="15282"/>
                  <a:pt x="22591" y="15224"/>
                  <a:pt x="22597" y="15156"/>
                </a:cubicBezTo>
                <a:cubicBezTo>
                  <a:pt x="22598" y="15145"/>
                  <a:pt x="22615" y="15037"/>
                  <a:pt x="22622" y="15032"/>
                </a:cubicBezTo>
                <a:cubicBezTo>
                  <a:pt x="22646" y="15013"/>
                  <a:pt x="22653" y="15007"/>
                  <a:pt x="22696" y="15007"/>
                </a:cubicBezTo>
                <a:cubicBezTo>
                  <a:pt x="22748" y="15007"/>
                  <a:pt x="22783" y="15030"/>
                  <a:pt x="22820" y="15056"/>
                </a:cubicBezTo>
                <a:cubicBezTo>
                  <a:pt x="22871" y="15092"/>
                  <a:pt x="22937" y="15156"/>
                  <a:pt x="22994" y="15180"/>
                </a:cubicBezTo>
                <a:cubicBezTo>
                  <a:pt x="23044" y="15201"/>
                  <a:pt x="23019" y="15228"/>
                  <a:pt x="23044" y="15280"/>
                </a:cubicBezTo>
                <a:cubicBezTo>
                  <a:pt x="23073" y="15339"/>
                  <a:pt x="23062" y="15342"/>
                  <a:pt x="23044" y="15404"/>
                </a:cubicBezTo>
                <a:cubicBezTo>
                  <a:pt x="23026" y="15465"/>
                  <a:pt x="23000" y="15522"/>
                  <a:pt x="22969" y="15577"/>
                </a:cubicBezTo>
                <a:cubicBezTo>
                  <a:pt x="22942" y="15625"/>
                  <a:pt x="22944" y="15649"/>
                  <a:pt x="22944" y="15701"/>
                </a:cubicBezTo>
                <a:cubicBezTo>
                  <a:pt x="22944" y="15709"/>
                  <a:pt x="22944" y="15718"/>
                  <a:pt x="22944" y="15726"/>
                </a:cubicBezTo>
              </a:path>
              <a:path w="3052" h="745">
                <a:moveTo>
                  <a:pt x="22796" y="15379"/>
                </a:moveTo>
                <a:cubicBezTo>
                  <a:pt x="22880" y="15379"/>
                  <a:pt x="22919" y="15392"/>
                  <a:pt x="22994" y="15429"/>
                </a:cubicBezTo>
                <a:cubicBezTo>
                  <a:pt x="23067" y="15465"/>
                  <a:pt x="23151" y="15462"/>
                  <a:pt x="23217" y="15503"/>
                </a:cubicBezTo>
                <a:cubicBezTo>
                  <a:pt x="23255" y="15527"/>
                  <a:pt x="23306" y="15547"/>
                  <a:pt x="23316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80120" y="5697360"/>
            <a:ext cx="1589040" cy="679680"/>
          </a:xfrm>
          <a:custGeom>
            <a:avLst/>
            <a:gdLst/>
            <a:ahLst/>
            <a:rect l="l" t="t" r="r" b="b"/>
            <a:pathLst>
              <a:path w="4416" h="1887">
                <a:moveTo>
                  <a:pt x="17934" y="16272"/>
                </a:moveTo>
                <a:cubicBezTo>
                  <a:pt x="17934" y="16320"/>
                  <a:pt x="17933" y="16381"/>
                  <a:pt x="17909" y="16421"/>
                </a:cubicBezTo>
                <a:cubicBezTo>
                  <a:pt x="17878" y="16472"/>
                  <a:pt x="17865" y="16534"/>
                  <a:pt x="17835" y="16594"/>
                </a:cubicBezTo>
                <a:cubicBezTo>
                  <a:pt x="17804" y="16656"/>
                  <a:pt x="17766" y="16708"/>
                  <a:pt x="17735" y="16768"/>
                </a:cubicBezTo>
                <a:cubicBezTo>
                  <a:pt x="17690" y="16855"/>
                  <a:pt x="17650" y="16940"/>
                  <a:pt x="17587" y="17016"/>
                </a:cubicBezTo>
                <a:cubicBezTo>
                  <a:pt x="17560" y="17049"/>
                  <a:pt x="17539" y="17082"/>
                  <a:pt x="17512" y="17115"/>
                </a:cubicBezTo>
              </a:path>
              <a:path w="4416" h="1887">
                <a:moveTo>
                  <a:pt x="17462" y="16346"/>
                </a:moveTo>
                <a:cubicBezTo>
                  <a:pt x="17472" y="16376"/>
                  <a:pt x="17504" y="16388"/>
                  <a:pt x="17537" y="16421"/>
                </a:cubicBezTo>
                <a:cubicBezTo>
                  <a:pt x="17586" y="16470"/>
                  <a:pt x="17628" y="16509"/>
                  <a:pt x="17661" y="16570"/>
                </a:cubicBezTo>
                <a:cubicBezTo>
                  <a:pt x="17695" y="16633"/>
                  <a:pt x="17741" y="16712"/>
                  <a:pt x="17785" y="16768"/>
                </a:cubicBezTo>
                <a:cubicBezTo>
                  <a:pt x="17830" y="16825"/>
                  <a:pt x="17866" y="16885"/>
                  <a:pt x="17909" y="16942"/>
                </a:cubicBezTo>
                <a:cubicBezTo>
                  <a:pt x="17963" y="17013"/>
                  <a:pt x="18008" y="17024"/>
                  <a:pt x="18083" y="17016"/>
                </a:cubicBezTo>
              </a:path>
              <a:path w="4416" h="1887">
                <a:moveTo>
                  <a:pt x="18281" y="16446"/>
                </a:moveTo>
                <a:cubicBezTo>
                  <a:pt x="18328" y="16446"/>
                  <a:pt x="18360" y="16467"/>
                  <a:pt x="18405" y="16470"/>
                </a:cubicBezTo>
                <a:cubicBezTo>
                  <a:pt x="18461" y="16474"/>
                  <a:pt x="18475" y="16446"/>
                  <a:pt x="18529" y="16446"/>
                </a:cubicBezTo>
                <a:cubicBezTo>
                  <a:pt x="18574" y="16446"/>
                  <a:pt x="18587" y="16442"/>
                  <a:pt x="18604" y="16470"/>
                </a:cubicBezTo>
              </a:path>
              <a:path w="4416" h="1887">
                <a:moveTo>
                  <a:pt x="18256" y="16768"/>
                </a:moveTo>
                <a:cubicBezTo>
                  <a:pt x="18294" y="16796"/>
                  <a:pt x="18307" y="16793"/>
                  <a:pt x="18355" y="16793"/>
                </a:cubicBezTo>
                <a:cubicBezTo>
                  <a:pt x="18406" y="16793"/>
                  <a:pt x="18414" y="16804"/>
                  <a:pt x="18455" y="16818"/>
                </a:cubicBezTo>
                <a:cubicBezTo>
                  <a:pt x="18474" y="16824"/>
                  <a:pt x="18509" y="16818"/>
                  <a:pt x="18529" y="16818"/>
                </a:cubicBezTo>
              </a:path>
              <a:path w="4416" h="1887">
                <a:moveTo>
                  <a:pt x="18976" y="16148"/>
                </a:moveTo>
                <a:cubicBezTo>
                  <a:pt x="19007" y="16190"/>
                  <a:pt x="18990" y="16199"/>
                  <a:pt x="19000" y="16247"/>
                </a:cubicBezTo>
                <a:cubicBezTo>
                  <a:pt x="19021" y="16346"/>
                  <a:pt x="19025" y="16420"/>
                  <a:pt x="19025" y="16520"/>
                </a:cubicBezTo>
                <a:cubicBezTo>
                  <a:pt x="19025" y="16634"/>
                  <a:pt x="19032" y="16736"/>
                  <a:pt x="19050" y="16842"/>
                </a:cubicBezTo>
                <a:cubicBezTo>
                  <a:pt x="19061" y="16906"/>
                  <a:pt x="19059" y="16954"/>
                  <a:pt x="19075" y="17016"/>
                </a:cubicBezTo>
                <a:cubicBezTo>
                  <a:pt x="19075" y="17041"/>
                  <a:pt x="19075" y="17049"/>
                  <a:pt x="19075" y="17066"/>
                </a:cubicBezTo>
              </a:path>
              <a:path w="4416" h="1887">
                <a:moveTo>
                  <a:pt x="19472" y="16173"/>
                </a:moveTo>
                <a:cubicBezTo>
                  <a:pt x="19446" y="16207"/>
                  <a:pt x="19438" y="16235"/>
                  <a:pt x="19422" y="16272"/>
                </a:cubicBezTo>
                <a:cubicBezTo>
                  <a:pt x="19393" y="16340"/>
                  <a:pt x="19339" y="16423"/>
                  <a:pt x="19323" y="16495"/>
                </a:cubicBezTo>
                <a:cubicBezTo>
                  <a:pt x="19306" y="16571"/>
                  <a:pt x="19298" y="16636"/>
                  <a:pt x="19298" y="16718"/>
                </a:cubicBezTo>
                <a:cubicBezTo>
                  <a:pt x="19298" y="16801"/>
                  <a:pt x="19308" y="16824"/>
                  <a:pt x="19348" y="16892"/>
                </a:cubicBezTo>
                <a:cubicBezTo>
                  <a:pt x="19386" y="16957"/>
                  <a:pt x="19418" y="16966"/>
                  <a:pt x="19472" y="17016"/>
                </a:cubicBezTo>
                <a:cubicBezTo>
                  <a:pt x="19511" y="17051"/>
                  <a:pt x="19543" y="17041"/>
                  <a:pt x="19596" y="17041"/>
                </a:cubicBezTo>
                <a:cubicBezTo>
                  <a:pt x="19662" y="17041"/>
                  <a:pt x="19674" y="17037"/>
                  <a:pt x="19720" y="16991"/>
                </a:cubicBezTo>
                <a:cubicBezTo>
                  <a:pt x="19749" y="16962"/>
                  <a:pt x="19850" y="16884"/>
                  <a:pt x="19844" y="16842"/>
                </a:cubicBezTo>
                <a:cubicBezTo>
                  <a:pt x="19837" y="16797"/>
                  <a:pt x="19781" y="16755"/>
                  <a:pt x="19745" y="16743"/>
                </a:cubicBezTo>
                <a:cubicBezTo>
                  <a:pt x="19708" y="16730"/>
                  <a:pt x="19688" y="16718"/>
                  <a:pt x="19645" y="16718"/>
                </a:cubicBezTo>
                <a:cubicBezTo>
                  <a:pt x="19629" y="16718"/>
                  <a:pt x="19561" y="16734"/>
                  <a:pt x="19546" y="16743"/>
                </a:cubicBezTo>
                <a:cubicBezTo>
                  <a:pt x="19523" y="16756"/>
                  <a:pt x="19481" y="16818"/>
                  <a:pt x="19472" y="16842"/>
                </a:cubicBezTo>
                <a:cubicBezTo>
                  <a:pt x="19454" y="16892"/>
                  <a:pt x="19473" y="16973"/>
                  <a:pt x="19496" y="16991"/>
                </a:cubicBezTo>
                <a:cubicBezTo>
                  <a:pt x="19504" y="16999"/>
                  <a:pt x="19513" y="17008"/>
                  <a:pt x="19521" y="17016"/>
                </a:cubicBezTo>
              </a:path>
              <a:path w="4416" h="1887">
                <a:moveTo>
                  <a:pt x="20141" y="16793"/>
                </a:moveTo>
                <a:cubicBezTo>
                  <a:pt x="20141" y="16826"/>
                  <a:pt x="20141" y="16859"/>
                  <a:pt x="20141" y="16892"/>
                </a:cubicBezTo>
              </a:path>
              <a:path w="4416" h="1887">
                <a:moveTo>
                  <a:pt x="20290" y="16421"/>
                </a:moveTo>
                <a:cubicBezTo>
                  <a:pt x="20308" y="16403"/>
                  <a:pt x="20380" y="16325"/>
                  <a:pt x="20389" y="16321"/>
                </a:cubicBezTo>
                <a:cubicBezTo>
                  <a:pt x="20424" y="16304"/>
                  <a:pt x="20499" y="16300"/>
                  <a:pt x="20538" y="16297"/>
                </a:cubicBezTo>
                <a:cubicBezTo>
                  <a:pt x="20598" y="16293"/>
                  <a:pt x="20641" y="16312"/>
                  <a:pt x="20687" y="16321"/>
                </a:cubicBezTo>
                <a:cubicBezTo>
                  <a:pt x="20745" y="16332"/>
                  <a:pt x="20784" y="16355"/>
                  <a:pt x="20836" y="16371"/>
                </a:cubicBezTo>
                <a:cubicBezTo>
                  <a:pt x="20868" y="16381"/>
                  <a:pt x="20918" y="16409"/>
                  <a:pt x="20935" y="16446"/>
                </a:cubicBezTo>
                <a:cubicBezTo>
                  <a:pt x="20961" y="16503"/>
                  <a:pt x="20903" y="16484"/>
                  <a:pt x="20886" y="16520"/>
                </a:cubicBezTo>
                <a:cubicBezTo>
                  <a:pt x="20863" y="16567"/>
                  <a:pt x="20825" y="16625"/>
                  <a:pt x="20786" y="16669"/>
                </a:cubicBezTo>
                <a:cubicBezTo>
                  <a:pt x="20753" y="16706"/>
                  <a:pt x="20730" y="16727"/>
                  <a:pt x="20712" y="16768"/>
                </a:cubicBezTo>
                <a:cubicBezTo>
                  <a:pt x="20680" y="16844"/>
                  <a:pt x="20691" y="16848"/>
                  <a:pt x="20712" y="16917"/>
                </a:cubicBezTo>
                <a:cubicBezTo>
                  <a:pt x="20722" y="16951"/>
                  <a:pt x="20717" y="16987"/>
                  <a:pt x="20737" y="17016"/>
                </a:cubicBezTo>
                <a:cubicBezTo>
                  <a:pt x="20749" y="17035"/>
                  <a:pt x="20809" y="17089"/>
                  <a:pt x="20811" y="17090"/>
                </a:cubicBezTo>
                <a:cubicBezTo>
                  <a:pt x="20843" y="17106"/>
                  <a:pt x="20870" y="17115"/>
                  <a:pt x="20910" y="17115"/>
                </a:cubicBezTo>
                <a:cubicBezTo>
                  <a:pt x="20943" y="17115"/>
                  <a:pt x="20977" y="17115"/>
                  <a:pt x="21010" y="17115"/>
                </a:cubicBezTo>
              </a:path>
              <a:path w="4416" h="1887">
                <a:moveTo>
                  <a:pt x="20861" y="15900"/>
                </a:moveTo>
                <a:cubicBezTo>
                  <a:pt x="20795" y="15896"/>
                  <a:pt x="20748" y="15880"/>
                  <a:pt x="20687" y="15875"/>
                </a:cubicBezTo>
                <a:cubicBezTo>
                  <a:pt x="20599" y="15868"/>
                  <a:pt x="20525" y="15856"/>
                  <a:pt x="20439" y="15850"/>
                </a:cubicBezTo>
                <a:cubicBezTo>
                  <a:pt x="20323" y="15842"/>
                  <a:pt x="20209" y="15828"/>
                  <a:pt x="20092" y="15825"/>
                </a:cubicBezTo>
                <a:cubicBezTo>
                  <a:pt x="19793" y="15819"/>
                  <a:pt x="19494" y="15828"/>
                  <a:pt x="19199" y="15850"/>
                </a:cubicBezTo>
                <a:cubicBezTo>
                  <a:pt x="19064" y="15860"/>
                  <a:pt x="18936" y="15889"/>
                  <a:pt x="18802" y="15900"/>
                </a:cubicBezTo>
                <a:cubicBezTo>
                  <a:pt x="18667" y="15911"/>
                  <a:pt x="18538" y="15926"/>
                  <a:pt x="18405" y="15949"/>
                </a:cubicBezTo>
                <a:cubicBezTo>
                  <a:pt x="18265" y="15973"/>
                  <a:pt x="18123" y="15990"/>
                  <a:pt x="17983" y="16024"/>
                </a:cubicBezTo>
                <a:cubicBezTo>
                  <a:pt x="17892" y="16046"/>
                  <a:pt x="17796" y="16085"/>
                  <a:pt x="17711" y="16123"/>
                </a:cubicBezTo>
                <a:cubicBezTo>
                  <a:pt x="17613" y="16166"/>
                  <a:pt x="17519" y="16231"/>
                  <a:pt x="17438" y="16297"/>
                </a:cubicBezTo>
                <a:cubicBezTo>
                  <a:pt x="17367" y="16355"/>
                  <a:pt x="17322" y="16430"/>
                  <a:pt x="17264" y="16495"/>
                </a:cubicBezTo>
                <a:cubicBezTo>
                  <a:pt x="17205" y="16561"/>
                  <a:pt x="17181" y="16595"/>
                  <a:pt x="17165" y="16694"/>
                </a:cubicBezTo>
                <a:cubicBezTo>
                  <a:pt x="17153" y="16770"/>
                  <a:pt x="17173" y="16853"/>
                  <a:pt x="17214" y="16917"/>
                </a:cubicBezTo>
                <a:cubicBezTo>
                  <a:pt x="17281" y="17024"/>
                  <a:pt x="17367" y="17087"/>
                  <a:pt x="17462" y="17165"/>
                </a:cubicBezTo>
                <a:cubicBezTo>
                  <a:pt x="17555" y="17241"/>
                  <a:pt x="17649" y="17295"/>
                  <a:pt x="17760" y="17338"/>
                </a:cubicBezTo>
                <a:cubicBezTo>
                  <a:pt x="17885" y="17387"/>
                  <a:pt x="18028" y="17426"/>
                  <a:pt x="18157" y="17462"/>
                </a:cubicBezTo>
                <a:cubicBezTo>
                  <a:pt x="18486" y="17553"/>
                  <a:pt x="18835" y="17631"/>
                  <a:pt x="19174" y="17661"/>
                </a:cubicBezTo>
                <a:cubicBezTo>
                  <a:pt x="19339" y="17676"/>
                  <a:pt x="19506" y="17700"/>
                  <a:pt x="19670" y="17711"/>
                </a:cubicBezTo>
                <a:cubicBezTo>
                  <a:pt x="19911" y="17727"/>
                  <a:pt x="20177" y="17729"/>
                  <a:pt x="20414" y="17686"/>
                </a:cubicBezTo>
                <a:cubicBezTo>
                  <a:pt x="20568" y="17658"/>
                  <a:pt x="20716" y="17621"/>
                  <a:pt x="20861" y="17562"/>
                </a:cubicBezTo>
                <a:cubicBezTo>
                  <a:pt x="21016" y="17499"/>
                  <a:pt x="21181" y="17423"/>
                  <a:pt x="21307" y="17314"/>
                </a:cubicBezTo>
                <a:cubicBezTo>
                  <a:pt x="21383" y="17248"/>
                  <a:pt x="21431" y="17181"/>
                  <a:pt x="21481" y="17090"/>
                </a:cubicBezTo>
                <a:cubicBezTo>
                  <a:pt x="21514" y="17030"/>
                  <a:pt x="21569" y="16908"/>
                  <a:pt x="21580" y="16842"/>
                </a:cubicBezTo>
                <a:cubicBezTo>
                  <a:pt x="21596" y="16740"/>
                  <a:pt x="21591" y="16591"/>
                  <a:pt x="21555" y="16495"/>
                </a:cubicBezTo>
                <a:cubicBezTo>
                  <a:pt x="21537" y="16447"/>
                  <a:pt x="21443" y="16282"/>
                  <a:pt x="21406" y="16247"/>
                </a:cubicBezTo>
                <a:cubicBezTo>
                  <a:pt x="21272" y="16119"/>
                  <a:pt x="21132" y="16086"/>
                  <a:pt x="20960" y="16024"/>
                </a:cubicBezTo>
                <a:cubicBezTo>
                  <a:pt x="20935" y="16016"/>
                  <a:pt x="20911" y="16007"/>
                  <a:pt x="20886" y="159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30280" y="5348160"/>
            <a:ext cx="741600" cy="438120"/>
          </a:xfrm>
          <a:custGeom>
            <a:avLst/>
            <a:gdLst/>
            <a:ahLst/>
            <a:rect l="l" t="t" r="r" b="b"/>
            <a:pathLst>
              <a:path w="2060" h="1216">
                <a:moveTo>
                  <a:pt x="6598" y="15081"/>
                </a:moveTo>
                <a:cubicBezTo>
                  <a:pt x="6598" y="15015"/>
                  <a:pt x="6578" y="15164"/>
                  <a:pt x="6573" y="15180"/>
                </a:cubicBezTo>
                <a:cubicBezTo>
                  <a:pt x="6550" y="15247"/>
                  <a:pt x="6520" y="15310"/>
                  <a:pt x="6499" y="15379"/>
                </a:cubicBezTo>
                <a:cubicBezTo>
                  <a:pt x="6495" y="15392"/>
                  <a:pt x="6453" y="15462"/>
                  <a:pt x="6474" y="15478"/>
                </a:cubicBezTo>
                <a:cubicBezTo>
                  <a:pt x="6520" y="15515"/>
                  <a:pt x="6532" y="15487"/>
                  <a:pt x="6573" y="15478"/>
                </a:cubicBezTo>
                <a:cubicBezTo>
                  <a:pt x="6664" y="15458"/>
                  <a:pt x="6762" y="15489"/>
                  <a:pt x="6846" y="15503"/>
                </a:cubicBezTo>
                <a:cubicBezTo>
                  <a:pt x="6904" y="15513"/>
                  <a:pt x="6943" y="15489"/>
                  <a:pt x="6995" y="15478"/>
                </a:cubicBezTo>
              </a:path>
              <a:path w="2060" h="1216">
                <a:moveTo>
                  <a:pt x="6970" y="14858"/>
                </a:moveTo>
                <a:cubicBezTo>
                  <a:pt x="6926" y="14913"/>
                  <a:pt x="6904" y="14984"/>
                  <a:pt x="6896" y="15056"/>
                </a:cubicBezTo>
                <a:cubicBezTo>
                  <a:pt x="6883" y="15170"/>
                  <a:pt x="6881" y="15293"/>
                  <a:pt x="6871" y="15404"/>
                </a:cubicBezTo>
                <a:cubicBezTo>
                  <a:pt x="6862" y="15501"/>
                  <a:pt x="6817" y="15898"/>
                  <a:pt x="6896" y="15974"/>
                </a:cubicBezTo>
                <a:cubicBezTo>
                  <a:pt x="6896" y="15966"/>
                  <a:pt x="6896" y="15957"/>
                  <a:pt x="6896" y="15949"/>
                </a:cubicBezTo>
              </a:path>
              <a:path w="2060" h="1216">
                <a:moveTo>
                  <a:pt x="7193" y="15156"/>
                </a:moveTo>
                <a:cubicBezTo>
                  <a:pt x="7156" y="15295"/>
                  <a:pt x="7099" y="15433"/>
                  <a:pt x="7094" y="15577"/>
                </a:cubicBezTo>
                <a:cubicBezTo>
                  <a:pt x="7091" y="15674"/>
                  <a:pt x="7102" y="15737"/>
                  <a:pt x="7144" y="15825"/>
                </a:cubicBezTo>
                <a:cubicBezTo>
                  <a:pt x="7182" y="15905"/>
                  <a:pt x="7220" y="15919"/>
                  <a:pt x="7293" y="15949"/>
                </a:cubicBezTo>
                <a:cubicBezTo>
                  <a:pt x="7367" y="15979"/>
                  <a:pt x="7404" y="15966"/>
                  <a:pt x="7441" y="15900"/>
                </a:cubicBezTo>
                <a:cubicBezTo>
                  <a:pt x="7478" y="15834"/>
                  <a:pt x="7522" y="15726"/>
                  <a:pt x="7516" y="15652"/>
                </a:cubicBezTo>
                <a:cubicBezTo>
                  <a:pt x="7509" y="15559"/>
                  <a:pt x="7494" y="15441"/>
                  <a:pt x="7466" y="15354"/>
                </a:cubicBezTo>
                <a:cubicBezTo>
                  <a:pt x="7442" y="15280"/>
                  <a:pt x="7410" y="15151"/>
                  <a:pt x="7342" y="15106"/>
                </a:cubicBezTo>
                <a:cubicBezTo>
                  <a:pt x="7306" y="15083"/>
                  <a:pt x="7224" y="15057"/>
                  <a:pt x="7218" y="15106"/>
                </a:cubicBezTo>
                <a:cubicBezTo>
                  <a:pt x="7218" y="15114"/>
                  <a:pt x="7218" y="15123"/>
                  <a:pt x="7218" y="15131"/>
                </a:cubicBezTo>
              </a:path>
              <a:path w="2060" h="1216">
                <a:moveTo>
                  <a:pt x="7714" y="15949"/>
                </a:moveTo>
                <a:cubicBezTo>
                  <a:pt x="7714" y="16004"/>
                  <a:pt x="7714" y="16051"/>
                  <a:pt x="7714" y="15974"/>
                </a:cubicBezTo>
                <a:cubicBezTo>
                  <a:pt x="7714" y="15929"/>
                  <a:pt x="7745" y="15841"/>
                  <a:pt x="7764" y="15801"/>
                </a:cubicBezTo>
                <a:cubicBezTo>
                  <a:pt x="7782" y="15763"/>
                  <a:pt x="7851" y="15705"/>
                  <a:pt x="7888" y="15701"/>
                </a:cubicBezTo>
                <a:cubicBezTo>
                  <a:pt x="7928" y="15697"/>
                  <a:pt x="7983" y="15750"/>
                  <a:pt x="8012" y="15776"/>
                </a:cubicBezTo>
                <a:cubicBezTo>
                  <a:pt x="8054" y="15814"/>
                  <a:pt x="8073" y="15879"/>
                  <a:pt x="8086" y="15925"/>
                </a:cubicBezTo>
                <a:cubicBezTo>
                  <a:pt x="8094" y="15952"/>
                  <a:pt x="8086" y="15995"/>
                  <a:pt x="8086" y="16024"/>
                </a:cubicBezTo>
                <a:cubicBezTo>
                  <a:pt x="8086" y="15975"/>
                  <a:pt x="8103" y="15938"/>
                  <a:pt x="8111" y="15900"/>
                </a:cubicBezTo>
                <a:cubicBezTo>
                  <a:pt x="8123" y="15838"/>
                  <a:pt x="8143" y="15803"/>
                  <a:pt x="8210" y="15776"/>
                </a:cubicBezTo>
                <a:cubicBezTo>
                  <a:pt x="8271" y="15751"/>
                  <a:pt x="8327" y="15804"/>
                  <a:pt x="8359" y="15850"/>
                </a:cubicBezTo>
                <a:cubicBezTo>
                  <a:pt x="8401" y="15909"/>
                  <a:pt x="8431" y="15932"/>
                  <a:pt x="8458" y="15999"/>
                </a:cubicBezTo>
                <a:cubicBezTo>
                  <a:pt x="8489" y="16076"/>
                  <a:pt x="8483" y="16098"/>
                  <a:pt x="8533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circular arc of a railroad curve has a chord of length 3000 feet and a central angle of 40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raw a diagram to represent the problem.  Show the known quantities on the diagram and use variables r and s to represent the radius of the arc and the length of the arc respectively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nd the radius r of the circular arc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nd the length s of the circular arc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5929200" y="3589200"/>
            <a:ext cx="2473560" cy="2206800"/>
          </a:xfrm>
          <a:custGeom>
            <a:avLst/>
            <a:gdLst/>
            <a:ahLst/>
            <a:rect l="l" t="t" r="r" b="b"/>
            <a:pathLst>
              <a:path w="6872" h="6128">
                <a:moveTo>
                  <a:pt x="22175" y="10170"/>
                </a:moveTo>
                <a:cubicBezTo>
                  <a:pt x="21741" y="10064"/>
                  <a:pt x="21312" y="10005"/>
                  <a:pt x="20861" y="10046"/>
                </a:cubicBezTo>
                <a:cubicBezTo>
                  <a:pt x="20588" y="10071"/>
                  <a:pt x="20332" y="10133"/>
                  <a:pt x="20067" y="10195"/>
                </a:cubicBezTo>
                <a:cubicBezTo>
                  <a:pt x="19783" y="10261"/>
                  <a:pt x="19522" y="10340"/>
                  <a:pt x="19248" y="10443"/>
                </a:cubicBezTo>
                <a:cubicBezTo>
                  <a:pt x="18728" y="10638"/>
                  <a:pt x="18236" y="10957"/>
                  <a:pt x="17810" y="11311"/>
                </a:cubicBezTo>
                <a:cubicBezTo>
                  <a:pt x="17443" y="11616"/>
                  <a:pt x="17161" y="11997"/>
                  <a:pt x="16917" y="12402"/>
                </a:cubicBezTo>
                <a:cubicBezTo>
                  <a:pt x="16764" y="12655"/>
                  <a:pt x="16617" y="12960"/>
                  <a:pt x="16545" y="13246"/>
                </a:cubicBezTo>
                <a:cubicBezTo>
                  <a:pt x="16488" y="13471"/>
                  <a:pt x="16489" y="13690"/>
                  <a:pt x="16495" y="13915"/>
                </a:cubicBezTo>
                <a:cubicBezTo>
                  <a:pt x="16500" y="14118"/>
                  <a:pt x="16520" y="14319"/>
                  <a:pt x="16594" y="14511"/>
                </a:cubicBezTo>
                <a:cubicBezTo>
                  <a:pt x="16690" y="14758"/>
                  <a:pt x="16852" y="14935"/>
                  <a:pt x="17016" y="15131"/>
                </a:cubicBezTo>
                <a:cubicBezTo>
                  <a:pt x="17207" y="15359"/>
                  <a:pt x="17406" y="15496"/>
                  <a:pt x="17661" y="15652"/>
                </a:cubicBezTo>
                <a:cubicBezTo>
                  <a:pt x="18098" y="15920"/>
                  <a:pt x="18585" y="16070"/>
                  <a:pt x="19100" y="16098"/>
                </a:cubicBezTo>
                <a:cubicBezTo>
                  <a:pt x="19682" y="16130"/>
                  <a:pt x="20291" y="16106"/>
                  <a:pt x="20861" y="15974"/>
                </a:cubicBezTo>
                <a:cubicBezTo>
                  <a:pt x="21121" y="15914"/>
                  <a:pt x="21374" y="15810"/>
                  <a:pt x="21605" y="15677"/>
                </a:cubicBezTo>
                <a:cubicBezTo>
                  <a:pt x="21874" y="15522"/>
                  <a:pt x="22020" y="15324"/>
                  <a:pt x="22225" y="15106"/>
                </a:cubicBezTo>
                <a:cubicBezTo>
                  <a:pt x="22585" y="14722"/>
                  <a:pt x="22812" y="14258"/>
                  <a:pt x="22994" y="13767"/>
                </a:cubicBezTo>
                <a:cubicBezTo>
                  <a:pt x="23214" y="13176"/>
                  <a:pt x="23309" y="12584"/>
                  <a:pt x="23316" y="11956"/>
                </a:cubicBezTo>
                <a:cubicBezTo>
                  <a:pt x="23319" y="11666"/>
                  <a:pt x="23280" y="11365"/>
                  <a:pt x="23192" y="11088"/>
                </a:cubicBezTo>
                <a:cubicBezTo>
                  <a:pt x="23114" y="10843"/>
                  <a:pt x="22989" y="10608"/>
                  <a:pt x="22820" y="10418"/>
                </a:cubicBezTo>
                <a:cubicBezTo>
                  <a:pt x="22485" y="10042"/>
                  <a:pt x="22105" y="9970"/>
                  <a:pt x="21630" y="9996"/>
                </a:cubicBezTo>
              </a:path>
              <a:path w="6872" h="6128">
                <a:moveTo>
                  <a:pt x="20191" y="10021"/>
                </a:moveTo>
                <a:cubicBezTo>
                  <a:pt x="20172" y="10052"/>
                  <a:pt x="20144" y="10069"/>
                  <a:pt x="20117" y="10120"/>
                </a:cubicBezTo>
                <a:cubicBezTo>
                  <a:pt x="20054" y="10238"/>
                  <a:pt x="20015" y="10366"/>
                  <a:pt x="19968" y="10492"/>
                </a:cubicBezTo>
                <a:cubicBezTo>
                  <a:pt x="19915" y="10633"/>
                  <a:pt x="19867" y="10771"/>
                  <a:pt x="19819" y="10914"/>
                </a:cubicBezTo>
                <a:cubicBezTo>
                  <a:pt x="19750" y="11120"/>
                  <a:pt x="19667" y="11320"/>
                  <a:pt x="19621" y="11534"/>
                </a:cubicBezTo>
                <a:cubicBezTo>
                  <a:pt x="19570" y="11770"/>
                  <a:pt x="19481" y="11995"/>
                  <a:pt x="19422" y="12229"/>
                </a:cubicBezTo>
                <a:cubicBezTo>
                  <a:pt x="19379" y="12402"/>
                  <a:pt x="19334" y="12583"/>
                  <a:pt x="19273" y="12750"/>
                </a:cubicBezTo>
                <a:cubicBezTo>
                  <a:pt x="19230" y="12868"/>
                  <a:pt x="19180" y="12979"/>
                  <a:pt x="19149" y="13097"/>
                </a:cubicBezTo>
                <a:cubicBezTo>
                  <a:pt x="19137" y="13142"/>
                  <a:pt x="19134" y="13177"/>
                  <a:pt x="19124" y="13221"/>
                </a:cubicBezTo>
                <a:cubicBezTo>
                  <a:pt x="19168" y="13233"/>
                  <a:pt x="19205" y="13231"/>
                  <a:pt x="19248" y="13246"/>
                </a:cubicBezTo>
                <a:cubicBezTo>
                  <a:pt x="19330" y="13275"/>
                  <a:pt x="19409" y="13299"/>
                  <a:pt x="19496" y="13320"/>
                </a:cubicBezTo>
                <a:cubicBezTo>
                  <a:pt x="19653" y="13357"/>
                  <a:pt x="19784" y="13352"/>
                  <a:pt x="19943" y="13370"/>
                </a:cubicBezTo>
                <a:cubicBezTo>
                  <a:pt x="20142" y="13393"/>
                  <a:pt x="20337" y="13416"/>
                  <a:pt x="20538" y="13419"/>
                </a:cubicBezTo>
                <a:cubicBezTo>
                  <a:pt x="20779" y="13423"/>
                  <a:pt x="21016" y="13444"/>
                  <a:pt x="21258" y="13444"/>
                </a:cubicBezTo>
                <a:cubicBezTo>
                  <a:pt x="21829" y="13444"/>
                  <a:pt x="22757" y="13616"/>
                  <a:pt x="23267" y="13320"/>
                </a:cubicBezTo>
                <a:cubicBezTo>
                  <a:pt x="23346" y="13274"/>
                  <a:pt x="23290" y="13273"/>
                  <a:pt x="23341" y="13221"/>
                </a:cubicBezTo>
              </a:path>
              <a:path w="6872" h="6128">
                <a:moveTo>
                  <a:pt x="20166" y="9996"/>
                </a:moveTo>
                <a:cubicBezTo>
                  <a:pt x="20199" y="10036"/>
                  <a:pt x="20246" y="10096"/>
                  <a:pt x="20290" y="10145"/>
                </a:cubicBezTo>
                <a:cubicBezTo>
                  <a:pt x="20426" y="10297"/>
                  <a:pt x="20592" y="10425"/>
                  <a:pt x="20737" y="10567"/>
                </a:cubicBezTo>
                <a:cubicBezTo>
                  <a:pt x="20909" y="10735"/>
                  <a:pt x="21086" y="10895"/>
                  <a:pt x="21258" y="11063"/>
                </a:cubicBezTo>
                <a:cubicBezTo>
                  <a:pt x="21452" y="11253"/>
                  <a:pt x="21644" y="11457"/>
                  <a:pt x="21828" y="11658"/>
                </a:cubicBezTo>
                <a:cubicBezTo>
                  <a:pt x="22027" y="11876"/>
                  <a:pt x="22241" y="12096"/>
                  <a:pt x="22423" y="12328"/>
                </a:cubicBezTo>
                <a:cubicBezTo>
                  <a:pt x="22593" y="12544"/>
                  <a:pt x="22794" y="12770"/>
                  <a:pt x="22944" y="12998"/>
                </a:cubicBezTo>
                <a:cubicBezTo>
                  <a:pt x="23039" y="13142"/>
                  <a:pt x="23112" y="13305"/>
                  <a:pt x="23217" y="13444"/>
                </a:cubicBezTo>
                <a:cubicBezTo>
                  <a:pt x="23245" y="13482"/>
                  <a:pt x="23238" y="13457"/>
                  <a:pt x="23267" y="13494"/>
                </a:cubicBezTo>
              </a:path>
              <a:path w="6872" h="6128">
                <a:moveTo>
                  <a:pt x="20290" y="10071"/>
                </a:moveTo>
                <a:cubicBezTo>
                  <a:pt x="20267" y="10102"/>
                  <a:pt x="20193" y="10184"/>
                  <a:pt x="20265" y="10220"/>
                </a:cubicBezTo>
                <a:cubicBezTo>
                  <a:pt x="20311" y="10243"/>
                  <a:pt x="20350" y="10255"/>
                  <a:pt x="20389" y="10220"/>
                </a:cubicBezTo>
                <a:cubicBezTo>
                  <a:pt x="20412" y="10197"/>
                  <a:pt x="20420" y="10193"/>
                  <a:pt x="20414" y="10170"/>
                </a:cubicBezTo>
                <a:cubicBezTo>
                  <a:pt x="20355" y="10110"/>
                  <a:pt x="20329" y="10120"/>
                  <a:pt x="20241" y="10120"/>
                </a:cubicBezTo>
                <a:cubicBezTo>
                  <a:pt x="20179" y="10120"/>
                  <a:pt x="20116" y="10141"/>
                  <a:pt x="20067" y="10170"/>
                </a:cubicBezTo>
                <a:cubicBezTo>
                  <a:pt x="20110" y="10235"/>
                  <a:pt x="20115" y="10225"/>
                  <a:pt x="20191" y="10195"/>
                </a:cubicBezTo>
                <a:cubicBezTo>
                  <a:pt x="20234" y="10178"/>
                  <a:pt x="20289" y="10136"/>
                  <a:pt x="20315" y="10096"/>
                </a:cubicBezTo>
                <a:cubicBezTo>
                  <a:pt x="20342" y="10054"/>
                  <a:pt x="20340" y="10040"/>
                  <a:pt x="20340" y="9996"/>
                </a:cubicBezTo>
                <a:cubicBezTo>
                  <a:pt x="20287" y="9996"/>
                  <a:pt x="20229" y="10001"/>
                  <a:pt x="20191" y="10046"/>
                </a:cubicBezTo>
                <a:cubicBezTo>
                  <a:pt x="20183" y="10063"/>
                  <a:pt x="20174" y="10079"/>
                  <a:pt x="20166" y="10096"/>
                </a:cubicBezTo>
              </a:path>
              <a:path w="6872" h="6128">
                <a:moveTo>
                  <a:pt x="23143" y="13320"/>
                </a:moveTo>
                <a:cubicBezTo>
                  <a:pt x="23057" y="13358"/>
                  <a:pt x="23068" y="13325"/>
                  <a:pt x="23068" y="13395"/>
                </a:cubicBezTo>
                <a:cubicBezTo>
                  <a:pt x="23106" y="13422"/>
                  <a:pt x="23120" y="13419"/>
                  <a:pt x="23168" y="13419"/>
                </a:cubicBezTo>
                <a:cubicBezTo>
                  <a:pt x="23210" y="13419"/>
                  <a:pt x="23238" y="13384"/>
                  <a:pt x="23242" y="13345"/>
                </a:cubicBezTo>
                <a:cubicBezTo>
                  <a:pt x="23242" y="13337"/>
                  <a:pt x="23242" y="13328"/>
                  <a:pt x="23242" y="13320"/>
                </a:cubicBezTo>
                <a:cubicBezTo>
                  <a:pt x="23200" y="13320"/>
                  <a:pt x="23144" y="13303"/>
                  <a:pt x="23118" y="13345"/>
                </a:cubicBezTo>
                <a:cubicBezTo>
                  <a:pt x="23099" y="13376"/>
                  <a:pt x="23126" y="13424"/>
                  <a:pt x="23143" y="13444"/>
                </a:cubicBezTo>
                <a:cubicBezTo>
                  <a:pt x="23180" y="13485"/>
                  <a:pt x="23158" y="13494"/>
                  <a:pt x="23217" y="13494"/>
                </a:cubicBezTo>
                <a:cubicBezTo>
                  <a:pt x="23252" y="13412"/>
                  <a:pt x="23247" y="13433"/>
                  <a:pt x="23192" y="13395"/>
                </a:cubicBezTo>
                <a:cubicBezTo>
                  <a:pt x="23156" y="13370"/>
                  <a:pt x="23163" y="13370"/>
                  <a:pt x="23118" y="13370"/>
                </a:cubicBezTo>
              </a:path>
              <a:path w="6872" h="6128">
                <a:moveTo>
                  <a:pt x="23093" y="13444"/>
                </a:moveTo>
                <a:cubicBezTo>
                  <a:pt x="23149" y="13486"/>
                  <a:pt x="23139" y="13462"/>
                  <a:pt x="23192" y="13444"/>
                </a:cubicBezTo>
                <a:cubicBezTo>
                  <a:pt x="23224" y="13433"/>
                  <a:pt x="23232" y="13410"/>
                  <a:pt x="23242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59760" y="3830760"/>
            <a:ext cx="233280" cy="169920"/>
          </a:xfrm>
          <a:custGeom>
            <a:avLst/>
            <a:gdLst/>
            <a:ahLst/>
            <a:rect l="l" t="t" r="r" b="b"/>
            <a:pathLst>
              <a:path w="646" h="472">
                <a:moveTo>
                  <a:pt x="20166" y="10666"/>
                </a:moveTo>
                <a:cubicBezTo>
                  <a:pt x="20234" y="10649"/>
                  <a:pt x="20290" y="10654"/>
                  <a:pt x="20365" y="10641"/>
                </a:cubicBezTo>
                <a:cubicBezTo>
                  <a:pt x="20411" y="10633"/>
                  <a:pt x="20467" y="10641"/>
                  <a:pt x="20513" y="10641"/>
                </a:cubicBezTo>
                <a:cubicBezTo>
                  <a:pt x="20513" y="10690"/>
                  <a:pt x="20497" y="10725"/>
                  <a:pt x="20464" y="10765"/>
                </a:cubicBezTo>
                <a:cubicBezTo>
                  <a:pt x="20406" y="10835"/>
                  <a:pt x="20383" y="10917"/>
                  <a:pt x="20340" y="10988"/>
                </a:cubicBezTo>
                <a:cubicBezTo>
                  <a:pt x="20314" y="11031"/>
                  <a:pt x="20315" y="11059"/>
                  <a:pt x="20315" y="11112"/>
                </a:cubicBezTo>
              </a:path>
              <a:path w="646" h="472">
                <a:moveTo>
                  <a:pt x="20588" y="10840"/>
                </a:moveTo>
                <a:cubicBezTo>
                  <a:pt x="20581" y="10872"/>
                  <a:pt x="20541" y="10994"/>
                  <a:pt x="20563" y="11038"/>
                </a:cubicBezTo>
                <a:cubicBezTo>
                  <a:pt x="20579" y="11070"/>
                  <a:pt x="20629" y="11110"/>
                  <a:pt x="20662" y="11112"/>
                </a:cubicBezTo>
                <a:cubicBezTo>
                  <a:pt x="20736" y="11117"/>
                  <a:pt x="20755" y="11072"/>
                  <a:pt x="20786" y="11013"/>
                </a:cubicBezTo>
                <a:cubicBezTo>
                  <a:pt x="20834" y="10921"/>
                  <a:pt x="20816" y="10821"/>
                  <a:pt x="20712" y="10815"/>
                </a:cubicBezTo>
                <a:cubicBezTo>
                  <a:pt x="20652" y="10811"/>
                  <a:pt x="20616" y="10838"/>
                  <a:pt x="20563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59800" y="3911760"/>
            <a:ext cx="428400" cy="312480"/>
          </a:xfrm>
          <a:custGeom>
            <a:avLst/>
            <a:gdLst/>
            <a:ahLst/>
            <a:rect l="l" t="t" r="r" b="b"/>
            <a:pathLst>
              <a:path w="1192" h="870">
                <a:moveTo>
                  <a:pt x="21555" y="10864"/>
                </a:moveTo>
                <a:cubicBezTo>
                  <a:pt x="21698" y="10908"/>
                  <a:pt x="21768" y="10928"/>
                  <a:pt x="21878" y="11013"/>
                </a:cubicBezTo>
                <a:cubicBezTo>
                  <a:pt x="21896" y="11027"/>
                  <a:pt x="21926" y="11118"/>
                  <a:pt x="21903" y="11137"/>
                </a:cubicBezTo>
                <a:cubicBezTo>
                  <a:pt x="21879" y="11156"/>
                  <a:pt x="21806" y="11169"/>
                  <a:pt x="21779" y="11187"/>
                </a:cubicBezTo>
                <a:cubicBezTo>
                  <a:pt x="21731" y="11220"/>
                  <a:pt x="21716" y="11244"/>
                  <a:pt x="21754" y="11286"/>
                </a:cubicBezTo>
                <a:cubicBezTo>
                  <a:pt x="21799" y="11336"/>
                  <a:pt x="21854" y="11368"/>
                  <a:pt x="21903" y="11410"/>
                </a:cubicBezTo>
                <a:cubicBezTo>
                  <a:pt x="21957" y="11455"/>
                  <a:pt x="21977" y="11493"/>
                  <a:pt x="21977" y="11559"/>
                </a:cubicBezTo>
                <a:cubicBezTo>
                  <a:pt x="21870" y="11559"/>
                  <a:pt x="21803" y="11550"/>
                  <a:pt x="21704" y="11509"/>
                </a:cubicBezTo>
                <a:cubicBezTo>
                  <a:pt x="21675" y="11497"/>
                  <a:pt x="21569" y="11483"/>
                  <a:pt x="21580" y="11435"/>
                </a:cubicBezTo>
                <a:cubicBezTo>
                  <a:pt x="21590" y="11391"/>
                  <a:pt x="21671" y="11357"/>
                  <a:pt x="21704" y="11336"/>
                </a:cubicBezTo>
              </a:path>
              <a:path w="1192" h="870">
                <a:moveTo>
                  <a:pt x="22051" y="11237"/>
                </a:moveTo>
                <a:cubicBezTo>
                  <a:pt x="21998" y="11312"/>
                  <a:pt x="21923" y="11383"/>
                  <a:pt x="21952" y="11485"/>
                </a:cubicBezTo>
                <a:cubicBezTo>
                  <a:pt x="21966" y="11536"/>
                  <a:pt x="22046" y="11576"/>
                  <a:pt x="22101" y="11559"/>
                </a:cubicBezTo>
                <a:cubicBezTo>
                  <a:pt x="22182" y="11534"/>
                  <a:pt x="22196" y="11453"/>
                  <a:pt x="22225" y="11385"/>
                </a:cubicBezTo>
                <a:cubicBezTo>
                  <a:pt x="22259" y="11307"/>
                  <a:pt x="22251" y="11260"/>
                  <a:pt x="22200" y="11187"/>
                </a:cubicBezTo>
                <a:cubicBezTo>
                  <a:pt x="22162" y="11133"/>
                  <a:pt x="22086" y="11137"/>
                  <a:pt x="22027" y="11137"/>
                </a:cubicBezTo>
              </a:path>
              <a:path w="1192" h="870">
                <a:moveTo>
                  <a:pt x="22399" y="11212"/>
                </a:moveTo>
                <a:cubicBezTo>
                  <a:pt x="22353" y="11304"/>
                  <a:pt x="22299" y="11373"/>
                  <a:pt x="22250" y="11460"/>
                </a:cubicBezTo>
                <a:cubicBezTo>
                  <a:pt x="22216" y="11520"/>
                  <a:pt x="22241" y="11572"/>
                  <a:pt x="22299" y="11609"/>
                </a:cubicBezTo>
                <a:cubicBezTo>
                  <a:pt x="22351" y="11642"/>
                  <a:pt x="22420" y="11647"/>
                  <a:pt x="22473" y="11609"/>
                </a:cubicBezTo>
                <a:cubicBezTo>
                  <a:pt x="22552" y="11552"/>
                  <a:pt x="22581" y="11478"/>
                  <a:pt x="22572" y="11410"/>
                </a:cubicBezTo>
                <a:cubicBezTo>
                  <a:pt x="22561" y="11328"/>
                  <a:pt x="22533" y="11318"/>
                  <a:pt x="22448" y="11311"/>
                </a:cubicBezTo>
                <a:cubicBezTo>
                  <a:pt x="22406" y="11308"/>
                  <a:pt x="22409" y="11303"/>
                  <a:pt x="22399" y="11336"/>
                </a:cubicBezTo>
              </a:path>
              <a:path w="1192" h="870">
                <a:moveTo>
                  <a:pt x="22622" y="11485"/>
                </a:moveTo>
                <a:cubicBezTo>
                  <a:pt x="22601" y="11514"/>
                  <a:pt x="22478" y="11643"/>
                  <a:pt x="22523" y="11708"/>
                </a:cubicBezTo>
                <a:cubicBezTo>
                  <a:pt x="22532" y="11720"/>
                  <a:pt x="22598" y="11742"/>
                  <a:pt x="22622" y="11733"/>
                </a:cubicBezTo>
                <a:cubicBezTo>
                  <a:pt x="22719" y="11698"/>
                  <a:pt x="22756" y="11602"/>
                  <a:pt x="22721" y="11509"/>
                </a:cubicBezTo>
                <a:cubicBezTo>
                  <a:pt x="22694" y="11438"/>
                  <a:pt x="22558" y="11373"/>
                  <a:pt x="22498" y="11336"/>
                </a:cubicBezTo>
                <a:cubicBezTo>
                  <a:pt x="22415" y="11286"/>
                  <a:pt x="22333" y="11237"/>
                  <a:pt x="22250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4446720"/>
            <a:ext cx="1447560" cy="903240"/>
          </a:xfrm>
          <a:custGeom>
            <a:avLst/>
            <a:gdLst/>
            <a:ahLst/>
            <a:rect l="l" t="t" r="r" b="b"/>
            <a:pathLst>
              <a:path w="4020" h="2506">
                <a:moveTo>
                  <a:pt x="21903" y="12650"/>
                </a:moveTo>
                <a:cubicBezTo>
                  <a:pt x="21973" y="12659"/>
                  <a:pt x="22059" y="12681"/>
                  <a:pt x="22126" y="12700"/>
                </a:cubicBezTo>
                <a:cubicBezTo>
                  <a:pt x="22200" y="12721"/>
                  <a:pt x="22272" y="12744"/>
                  <a:pt x="22349" y="12750"/>
                </a:cubicBezTo>
                <a:cubicBezTo>
                  <a:pt x="22357" y="12750"/>
                  <a:pt x="22366" y="12750"/>
                  <a:pt x="22374" y="12750"/>
                </a:cubicBezTo>
                <a:cubicBezTo>
                  <a:pt x="22374" y="12806"/>
                  <a:pt x="22351" y="12823"/>
                  <a:pt x="22324" y="12874"/>
                </a:cubicBezTo>
                <a:cubicBezTo>
                  <a:pt x="22288" y="12941"/>
                  <a:pt x="22219" y="12964"/>
                  <a:pt x="22200" y="13047"/>
                </a:cubicBezTo>
                <a:cubicBezTo>
                  <a:pt x="22181" y="13131"/>
                  <a:pt x="22122" y="13214"/>
                  <a:pt x="22225" y="13146"/>
                </a:cubicBezTo>
              </a:path>
              <a:path w="4020" h="2506">
                <a:moveTo>
                  <a:pt x="22448" y="13022"/>
                </a:moveTo>
                <a:cubicBezTo>
                  <a:pt x="22452" y="13103"/>
                  <a:pt x="22429" y="13203"/>
                  <a:pt x="22523" y="13246"/>
                </a:cubicBezTo>
                <a:cubicBezTo>
                  <a:pt x="22563" y="13264"/>
                  <a:pt x="22610" y="13193"/>
                  <a:pt x="22622" y="13171"/>
                </a:cubicBezTo>
                <a:cubicBezTo>
                  <a:pt x="22646" y="13128"/>
                  <a:pt x="22673" y="13058"/>
                  <a:pt x="22622" y="13022"/>
                </a:cubicBezTo>
                <a:cubicBezTo>
                  <a:pt x="22454" y="12905"/>
                  <a:pt x="22403" y="12889"/>
                  <a:pt x="22225" y="12849"/>
                </a:cubicBezTo>
              </a:path>
              <a:path w="4020" h="2506">
                <a:moveTo>
                  <a:pt x="19323" y="12700"/>
                </a:moveTo>
                <a:cubicBezTo>
                  <a:pt x="19329" y="12725"/>
                  <a:pt x="19336" y="12777"/>
                  <a:pt x="19348" y="12799"/>
                </a:cubicBezTo>
                <a:cubicBezTo>
                  <a:pt x="19370" y="12822"/>
                  <a:pt x="19378" y="12827"/>
                  <a:pt x="19372" y="12849"/>
                </a:cubicBezTo>
                <a:cubicBezTo>
                  <a:pt x="19417" y="12860"/>
                  <a:pt x="19442" y="12874"/>
                  <a:pt x="19496" y="12874"/>
                </a:cubicBezTo>
                <a:cubicBezTo>
                  <a:pt x="19553" y="12874"/>
                  <a:pt x="19574" y="12869"/>
                  <a:pt x="19596" y="12824"/>
                </a:cubicBezTo>
              </a:path>
              <a:path w="4020" h="2506">
                <a:moveTo>
                  <a:pt x="19621" y="12700"/>
                </a:moveTo>
                <a:cubicBezTo>
                  <a:pt x="19595" y="12824"/>
                  <a:pt x="19553" y="12969"/>
                  <a:pt x="19546" y="13097"/>
                </a:cubicBezTo>
                <a:cubicBezTo>
                  <a:pt x="19541" y="13186"/>
                  <a:pt x="19519" y="13224"/>
                  <a:pt x="19596" y="13122"/>
                </a:cubicBezTo>
              </a:path>
              <a:path w="4020" h="2506">
                <a:moveTo>
                  <a:pt x="19769" y="12725"/>
                </a:moveTo>
                <a:cubicBezTo>
                  <a:pt x="19731" y="12802"/>
                  <a:pt x="19661" y="12905"/>
                  <a:pt x="19695" y="12998"/>
                </a:cubicBezTo>
                <a:cubicBezTo>
                  <a:pt x="19715" y="13052"/>
                  <a:pt x="19734" y="13085"/>
                  <a:pt x="19794" y="13097"/>
                </a:cubicBezTo>
                <a:cubicBezTo>
                  <a:pt x="19847" y="13108"/>
                  <a:pt x="19919" y="13043"/>
                  <a:pt x="19943" y="12998"/>
                </a:cubicBezTo>
                <a:cubicBezTo>
                  <a:pt x="19962" y="12963"/>
                  <a:pt x="20027" y="12817"/>
                  <a:pt x="19993" y="12774"/>
                </a:cubicBezTo>
                <a:cubicBezTo>
                  <a:pt x="19951" y="12720"/>
                  <a:pt x="19859" y="12700"/>
                  <a:pt x="19794" y="12700"/>
                </a:cubicBezTo>
                <a:cubicBezTo>
                  <a:pt x="19778" y="12700"/>
                  <a:pt x="19761" y="12700"/>
                  <a:pt x="19745" y="12700"/>
                </a:cubicBezTo>
              </a:path>
              <a:path w="4020" h="2506">
                <a:moveTo>
                  <a:pt x="20960" y="13717"/>
                </a:moveTo>
                <a:cubicBezTo>
                  <a:pt x="20960" y="13784"/>
                  <a:pt x="20945" y="13830"/>
                  <a:pt x="20935" y="13891"/>
                </a:cubicBezTo>
                <a:cubicBezTo>
                  <a:pt x="20932" y="13911"/>
                  <a:pt x="20935" y="14078"/>
                  <a:pt x="20935" y="14015"/>
                </a:cubicBezTo>
                <a:cubicBezTo>
                  <a:pt x="20935" y="13935"/>
                  <a:pt x="20917" y="13837"/>
                  <a:pt x="20960" y="13767"/>
                </a:cubicBezTo>
                <a:cubicBezTo>
                  <a:pt x="21011" y="13685"/>
                  <a:pt x="21048" y="13680"/>
                  <a:pt x="21134" y="13643"/>
                </a:cubicBezTo>
                <a:cubicBezTo>
                  <a:pt x="21189" y="13619"/>
                  <a:pt x="21224" y="13618"/>
                  <a:pt x="21282" y="13618"/>
                </a:cubicBezTo>
                <a:cubicBezTo>
                  <a:pt x="21307" y="13618"/>
                  <a:pt x="21315" y="13618"/>
                  <a:pt x="21307" y="13593"/>
                </a:cubicBezTo>
              </a:path>
              <a:path w="4020" h="2506">
                <a:moveTo>
                  <a:pt x="19769" y="14139"/>
                </a:moveTo>
                <a:cubicBezTo>
                  <a:pt x="19731" y="14196"/>
                  <a:pt x="19722" y="14259"/>
                  <a:pt x="19695" y="14312"/>
                </a:cubicBezTo>
                <a:cubicBezTo>
                  <a:pt x="19680" y="14341"/>
                  <a:pt x="19661" y="14387"/>
                  <a:pt x="19645" y="14412"/>
                </a:cubicBezTo>
                <a:cubicBezTo>
                  <a:pt x="19623" y="14434"/>
                  <a:pt x="19615" y="14439"/>
                  <a:pt x="19621" y="14461"/>
                </a:cubicBezTo>
                <a:cubicBezTo>
                  <a:pt x="19658" y="14448"/>
                  <a:pt x="19642" y="14436"/>
                  <a:pt x="19695" y="14436"/>
                </a:cubicBezTo>
                <a:cubicBezTo>
                  <a:pt x="19742" y="14436"/>
                  <a:pt x="19780" y="14487"/>
                  <a:pt x="19819" y="14511"/>
                </a:cubicBezTo>
                <a:cubicBezTo>
                  <a:pt x="19876" y="14545"/>
                  <a:pt x="19930" y="14536"/>
                  <a:pt x="19993" y="14536"/>
                </a:cubicBezTo>
              </a:path>
              <a:path w="4020" h="2506">
                <a:moveTo>
                  <a:pt x="20017" y="14139"/>
                </a:moveTo>
                <a:cubicBezTo>
                  <a:pt x="20017" y="14246"/>
                  <a:pt x="20009" y="14315"/>
                  <a:pt x="19993" y="14412"/>
                </a:cubicBezTo>
                <a:cubicBezTo>
                  <a:pt x="19983" y="14475"/>
                  <a:pt x="19972" y="14549"/>
                  <a:pt x="19968" y="14610"/>
                </a:cubicBezTo>
                <a:cubicBezTo>
                  <a:pt x="19964" y="14663"/>
                  <a:pt x="19950" y="14745"/>
                  <a:pt x="19993" y="14759"/>
                </a:cubicBezTo>
              </a:path>
              <a:path w="4020" h="2506">
                <a:moveTo>
                  <a:pt x="20216" y="14213"/>
                </a:moveTo>
                <a:cubicBezTo>
                  <a:pt x="20273" y="14199"/>
                  <a:pt x="20259" y="14207"/>
                  <a:pt x="20315" y="14213"/>
                </a:cubicBezTo>
                <a:cubicBezTo>
                  <a:pt x="20364" y="14218"/>
                  <a:pt x="20413" y="14205"/>
                  <a:pt x="20439" y="14263"/>
                </a:cubicBezTo>
                <a:cubicBezTo>
                  <a:pt x="20458" y="14306"/>
                  <a:pt x="20461" y="14308"/>
                  <a:pt x="20439" y="14337"/>
                </a:cubicBezTo>
                <a:cubicBezTo>
                  <a:pt x="20420" y="14363"/>
                  <a:pt x="20346" y="14402"/>
                  <a:pt x="20315" y="14412"/>
                </a:cubicBezTo>
                <a:cubicBezTo>
                  <a:pt x="20283" y="14423"/>
                  <a:pt x="20276" y="14429"/>
                  <a:pt x="20265" y="14461"/>
                </a:cubicBezTo>
                <a:cubicBezTo>
                  <a:pt x="20305" y="14471"/>
                  <a:pt x="20390" y="14523"/>
                  <a:pt x="20414" y="14560"/>
                </a:cubicBezTo>
                <a:cubicBezTo>
                  <a:pt x="20437" y="14597"/>
                  <a:pt x="20439" y="14636"/>
                  <a:pt x="20439" y="14684"/>
                </a:cubicBezTo>
                <a:cubicBezTo>
                  <a:pt x="20439" y="14730"/>
                  <a:pt x="20432" y="14757"/>
                  <a:pt x="20389" y="14784"/>
                </a:cubicBezTo>
                <a:cubicBezTo>
                  <a:pt x="20351" y="14808"/>
                  <a:pt x="20281" y="14828"/>
                  <a:pt x="20241" y="14833"/>
                </a:cubicBezTo>
                <a:cubicBezTo>
                  <a:pt x="20200" y="14838"/>
                  <a:pt x="20145" y="14815"/>
                  <a:pt x="20141" y="14784"/>
                </a:cubicBezTo>
                <a:cubicBezTo>
                  <a:pt x="20141" y="14776"/>
                  <a:pt x="20141" y="14767"/>
                  <a:pt x="20141" y="14759"/>
                </a:cubicBezTo>
              </a:path>
              <a:path w="4020" h="2506">
                <a:moveTo>
                  <a:pt x="20811" y="14387"/>
                </a:moveTo>
                <a:cubicBezTo>
                  <a:pt x="20811" y="14329"/>
                  <a:pt x="20811" y="14321"/>
                  <a:pt x="20811" y="14288"/>
                </a:cubicBezTo>
                <a:cubicBezTo>
                  <a:pt x="20749" y="14288"/>
                  <a:pt x="20714" y="14295"/>
                  <a:pt x="20662" y="14312"/>
                </a:cubicBezTo>
                <a:cubicBezTo>
                  <a:pt x="20636" y="14321"/>
                  <a:pt x="20620" y="14371"/>
                  <a:pt x="20638" y="14412"/>
                </a:cubicBezTo>
                <a:cubicBezTo>
                  <a:pt x="20671" y="14485"/>
                  <a:pt x="20697" y="14543"/>
                  <a:pt x="20737" y="14610"/>
                </a:cubicBezTo>
                <a:cubicBezTo>
                  <a:pt x="20752" y="14635"/>
                  <a:pt x="20785" y="14727"/>
                  <a:pt x="20762" y="14759"/>
                </a:cubicBezTo>
                <a:cubicBezTo>
                  <a:pt x="20703" y="14840"/>
                  <a:pt x="20697" y="14803"/>
                  <a:pt x="20638" y="14784"/>
                </a:cubicBezTo>
                <a:cubicBezTo>
                  <a:pt x="20609" y="14775"/>
                  <a:pt x="20593" y="14750"/>
                  <a:pt x="20588" y="14709"/>
                </a:cubicBezTo>
                <a:cubicBezTo>
                  <a:pt x="20584" y="14677"/>
                  <a:pt x="20618" y="14633"/>
                  <a:pt x="20638" y="14610"/>
                </a:cubicBezTo>
                <a:cubicBezTo>
                  <a:pt x="20672" y="14571"/>
                  <a:pt x="20733" y="14546"/>
                  <a:pt x="20762" y="14511"/>
                </a:cubicBezTo>
                <a:cubicBezTo>
                  <a:pt x="20811" y="14453"/>
                  <a:pt x="20824" y="14434"/>
                  <a:pt x="20886" y="14387"/>
                </a:cubicBezTo>
                <a:cubicBezTo>
                  <a:pt x="20923" y="14359"/>
                  <a:pt x="20945" y="14328"/>
                  <a:pt x="20985" y="14312"/>
                </a:cubicBezTo>
                <a:cubicBezTo>
                  <a:pt x="20985" y="14371"/>
                  <a:pt x="20986" y="14391"/>
                  <a:pt x="20960" y="14436"/>
                </a:cubicBezTo>
                <a:cubicBezTo>
                  <a:pt x="20929" y="14489"/>
                  <a:pt x="20915" y="14550"/>
                  <a:pt x="20910" y="14610"/>
                </a:cubicBezTo>
                <a:cubicBezTo>
                  <a:pt x="20905" y="14670"/>
                  <a:pt x="20928" y="14732"/>
                  <a:pt x="20960" y="14784"/>
                </a:cubicBezTo>
                <a:cubicBezTo>
                  <a:pt x="20972" y="14804"/>
                  <a:pt x="21080" y="14848"/>
                  <a:pt x="21109" y="14858"/>
                </a:cubicBezTo>
                <a:cubicBezTo>
                  <a:pt x="21145" y="14870"/>
                  <a:pt x="21208" y="14829"/>
                  <a:pt x="21233" y="14808"/>
                </a:cubicBezTo>
                <a:cubicBezTo>
                  <a:pt x="21281" y="14766"/>
                  <a:pt x="21282" y="14747"/>
                  <a:pt x="21282" y="14684"/>
                </a:cubicBezTo>
                <a:cubicBezTo>
                  <a:pt x="21282" y="14660"/>
                  <a:pt x="21282" y="14651"/>
                  <a:pt x="21282" y="14635"/>
                </a:cubicBezTo>
                <a:cubicBezTo>
                  <a:pt x="21226" y="14635"/>
                  <a:pt x="21207" y="14629"/>
                  <a:pt x="21183" y="14660"/>
                </a:cubicBezTo>
                <a:cubicBezTo>
                  <a:pt x="21120" y="14743"/>
                  <a:pt x="21134" y="14749"/>
                  <a:pt x="21158" y="14858"/>
                </a:cubicBezTo>
              </a:path>
              <a:path w="4020" h="2506">
                <a:moveTo>
                  <a:pt x="18628" y="13271"/>
                </a:moveTo>
                <a:cubicBezTo>
                  <a:pt x="18674" y="13225"/>
                  <a:pt x="18712" y="13193"/>
                  <a:pt x="18752" y="13146"/>
                </a:cubicBezTo>
                <a:cubicBezTo>
                  <a:pt x="18760" y="13138"/>
                  <a:pt x="18769" y="13130"/>
                  <a:pt x="18777" y="13122"/>
                </a:cubicBezTo>
              </a:path>
              <a:path w="4020" h="2506">
                <a:moveTo>
                  <a:pt x="19273" y="12650"/>
                </a:moveTo>
                <a:cubicBezTo>
                  <a:pt x="19297" y="12608"/>
                  <a:pt x="19328" y="12571"/>
                  <a:pt x="19348" y="12551"/>
                </a:cubicBezTo>
                <a:cubicBezTo>
                  <a:pt x="19365" y="12595"/>
                  <a:pt x="19375" y="12622"/>
                  <a:pt x="19348" y="12675"/>
                </a:cubicBezTo>
                <a:cubicBezTo>
                  <a:pt x="19317" y="12738"/>
                  <a:pt x="19268" y="12842"/>
                  <a:pt x="19224" y="12898"/>
                </a:cubicBezTo>
                <a:cubicBezTo>
                  <a:pt x="19174" y="12963"/>
                  <a:pt x="19146" y="13030"/>
                  <a:pt x="19100" y="13097"/>
                </a:cubicBezTo>
                <a:cubicBezTo>
                  <a:pt x="19078" y="13119"/>
                  <a:pt x="19069" y="13124"/>
                  <a:pt x="19075" y="13146"/>
                </a:cubicBezTo>
                <a:cubicBezTo>
                  <a:pt x="19083" y="13084"/>
                  <a:pt x="19098" y="13033"/>
                  <a:pt x="19124" y="12973"/>
                </a:cubicBezTo>
                <a:cubicBezTo>
                  <a:pt x="19147" y="12919"/>
                  <a:pt x="19188" y="12869"/>
                  <a:pt x="19224" y="12824"/>
                </a:cubicBezTo>
                <a:cubicBezTo>
                  <a:pt x="19213" y="12900"/>
                  <a:pt x="19190" y="12875"/>
                  <a:pt x="19149" y="12948"/>
                </a:cubicBezTo>
                <a:cubicBezTo>
                  <a:pt x="19122" y="12996"/>
                  <a:pt x="19103" y="13065"/>
                  <a:pt x="19100" y="13122"/>
                </a:cubicBezTo>
                <a:cubicBezTo>
                  <a:pt x="19099" y="13146"/>
                  <a:pt x="19100" y="13171"/>
                  <a:pt x="19100" y="13196"/>
                </a:cubicBezTo>
                <a:cubicBezTo>
                  <a:pt x="19142" y="13222"/>
                  <a:pt x="19148" y="13218"/>
                  <a:pt x="19199" y="13221"/>
                </a:cubicBezTo>
                <a:cubicBezTo>
                  <a:pt x="19457" y="13236"/>
                  <a:pt x="19715" y="13211"/>
                  <a:pt x="19968" y="13246"/>
                </a:cubicBezTo>
                <a:cubicBezTo>
                  <a:pt x="20026" y="13254"/>
                  <a:pt x="20044" y="13242"/>
                  <a:pt x="20092" y="13271"/>
                </a:cubicBezTo>
                <a:cubicBezTo>
                  <a:pt x="20027" y="13271"/>
                  <a:pt x="19981" y="13255"/>
                  <a:pt x="19918" y="13246"/>
                </a:cubicBezTo>
                <a:cubicBezTo>
                  <a:pt x="19830" y="13233"/>
                  <a:pt x="19732" y="13231"/>
                  <a:pt x="19645" y="13221"/>
                </a:cubicBezTo>
                <a:cubicBezTo>
                  <a:pt x="19547" y="13210"/>
                  <a:pt x="19446" y="13200"/>
                  <a:pt x="19348" y="13196"/>
                </a:cubicBezTo>
                <a:cubicBezTo>
                  <a:pt x="19255" y="13193"/>
                  <a:pt x="19129" y="13189"/>
                  <a:pt x="19075" y="13221"/>
                </a:cubicBezTo>
                <a:cubicBezTo>
                  <a:pt x="19154" y="13228"/>
                  <a:pt x="19247" y="13229"/>
                  <a:pt x="19323" y="13246"/>
                </a:cubicBezTo>
                <a:cubicBezTo>
                  <a:pt x="19370" y="13257"/>
                  <a:pt x="19397" y="13266"/>
                  <a:pt x="19447" y="13271"/>
                </a:cubicBezTo>
                <a:cubicBezTo>
                  <a:pt x="19389" y="13250"/>
                  <a:pt x="19331" y="13225"/>
                  <a:pt x="19273" y="13196"/>
                </a:cubicBezTo>
                <a:cubicBezTo>
                  <a:pt x="19219" y="13169"/>
                  <a:pt x="19158" y="13124"/>
                  <a:pt x="19124" y="13072"/>
                </a:cubicBezTo>
                <a:cubicBezTo>
                  <a:pt x="19092" y="13023"/>
                  <a:pt x="19087" y="12929"/>
                  <a:pt x="19100" y="12874"/>
                </a:cubicBezTo>
                <a:cubicBezTo>
                  <a:pt x="19114" y="12812"/>
                  <a:pt x="19162" y="12700"/>
                  <a:pt x="19199" y="12650"/>
                </a:cubicBezTo>
                <a:cubicBezTo>
                  <a:pt x="19251" y="12579"/>
                  <a:pt x="19272" y="12500"/>
                  <a:pt x="19323" y="12427"/>
                </a:cubicBezTo>
                <a:cubicBezTo>
                  <a:pt x="19348" y="12402"/>
                  <a:pt x="19356" y="12394"/>
                  <a:pt x="19372" y="12378"/>
                </a:cubicBezTo>
                <a:cubicBezTo>
                  <a:pt x="19339" y="12411"/>
                  <a:pt x="19345" y="12411"/>
                  <a:pt x="19323" y="12452"/>
                </a:cubicBezTo>
                <a:cubicBezTo>
                  <a:pt x="19284" y="12525"/>
                  <a:pt x="19251" y="12597"/>
                  <a:pt x="19224" y="12675"/>
                </a:cubicBezTo>
                <a:cubicBezTo>
                  <a:pt x="19198" y="12750"/>
                  <a:pt x="19173" y="12827"/>
                  <a:pt x="19149" y="12898"/>
                </a:cubicBezTo>
                <a:cubicBezTo>
                  <a:pt x="19128" y="12961"/>
                  <a:pt x="19124" y="12979"/>
                  <a:pt x="19124" y="13047"/>
                </a:cubicBezTo>
                <a:cubicBezTo>
                  <a:pt x="19124" y="13072"/>
                  <a:pt x="19124" y="13080"/>
                  <a:pt x="19124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70000" y="4803840"/>
            <a:ext cx="1992240" cy="625320"/>
          </a:xfrm>
          <a:custGeom>
            <a:avLst/>
            <a:gdLst/>
            <a:ahLst/>
            <a:rect l="l" t="t" r="r" b="b"/>
            <a:pathLst>
              <a:path w="5533" h="1737">
                <a:moveTo>
                  <a:pt x="3522" y="13692"/>
                </a:moveTo>
                <a:cubicBezTo>
                  <a:pt x="3547" y="13751"/>
                  <a:pt x="3547" y="13790"/>
                  <a:pt x="3547" y="13717"/>
                </a:cubicBezTo>
                <a:cubicBezTo>
                  <a:pt x="3547" y="13685"/>
                  <a:pt x="3539" y="13651"/>
                  <a:pt x="3522" y="13643"/>
                </a:cubicBezTo>
                <a:cubicBezTo>
                  <a:pt x="3501" y="13633"/>
                  <a:pt x="3445" y="13620"/>
                  <a:pt x="3423" y="13618"/>
                </a:cubicBezTo>
                <a:cubicBezTo>
                  <a:pt x="3386" y="13615"/>
                  <a:pt x="3293" y="13629"/>
                  <a:pt x="3274" y="13667"/>
                </a:cubicBezTo>
                <a:cubicBezTo>
                  <a:pt x="3242" y="13729"/>
                  <a:pt x="3292" y="13746"/>
                  <a:pt x="3324" y="13767"/>
                </a:cubicBezTo>
                <a:cubicBezTo>
                  <a:pt x="3365" y="13793"/>
                  <a:pt x="3409" y="13837"/>
                  <a:pt x="3448" y="13866"/>
                </a:cubicBezTo>
                <a:cubicBezTo>
                  <a:pt x="3492" y="13899"/>
                  <a:pt x="3533" y="13926"/>
                  <a:pt x="3572" y="13965"/>
                </a:cubicBezTo>
                <a:cubicBezTo>
                  <a:pt x="3595" y="13988"/>
                  <a:pt x="3643" y="14023"/>
                  <a:pt x="3621" y="14064"/>
                </a:cubicBezTo>
                <a:cubicBezTo>
                  <a:pt x="3599" y="14105"/>
                  <a:pt x="3534" y="14089"/>
                  <a:pt x="3497" y="14089"/>
                </a:cubicBezTo>
                <a:cubicBezTo>
                  <a:pt x="3421" y="14089"/>
                  <a:pt x="3370" y="14082"/>
                  <a:pt x="3299" y="14064"/>
                </a:cubicBezTo>
                <a:cubicBezTo>
                  <a:pt x="3249" y="14051"/>
                  <a:pt x="3266" y="14025"/>
                  <a:pt x="3274" y="13990"/>
                </a:cubicBezTo>
                <a:cubicBezTo>
                  <a:pt x="3274" y="13982"/>
                  <a:pt x="3274" y="13973"/>
                  <a:pt x="3274" y="13965"/>
                </a:cubicBezTo>
              </a:path>
              <a:path w="5533" h="1737">
                <a:moveTo>
                  <a:pt x="3845" y="13692"/>
                </a:moveTo>
                <a:cubicBezTo>
                  <a:pt x="3845" y="13826"/>
                  <a:pt x="3834" y="13970"/>
                  <a:pt x="3870" y="14089"/>
                </a:cubicBezTo>
                <a:cubicBezTo>
                  <a:pt x="3870" y="14114"/>
                  <a:pt x="3870" y="14122"/>
                  <a:pt x="3870" y="14089"/>
                </a:cubicBezTo>
              </a:path>
              <a:path w="5533" h="1737">
                <a:moveTo>
                  <a:pt x="3944" y="13444"/>
                </a:moveTo>
                <a:cubicBezTo>
                  <a:pt x="3972" y="13444"/>
                  <a:pt x="3983" y="13446"/>
                  <a:pt x="3994" y="13469"/>
                </a:cubicBezTo>
              </a:path>
              <a:path w="5533" h="1737">
                <a:moveTo>
                  <a:pt x="4093" y="13965"/>
                </a:moveTo>
                <a:cubicBezTo>
                  <a:pt x="4093" y="13990"/>
                  <a:pt x="4093" y="14014"/>
                  <a:pt x="4093" y="14039"/>
                </a:cubicBezTo>
                <a:cubicBezTo>
                  <a:pt x="4093" y="14121"/>
                  <a:pt x="4092" y="13941"/>
                  <a:pt x="4093" y="13940"/>
                </a:cubicBezTo>
                <a:cubicBezTo>
                  <a:pt x="4109" y="13901"/>
                  <a:pt x="4130" y="13857"/>
                  <a:pt x="4142" y="13816"/>
                </a:cubicBezTo>
                <a:cubicBezTo>
                  <a:pt x="4152" y="13781"/>
                  <a:pt x="4186" y="13719"/>
                  <a:pt x="4217" y="13717"/>
                </a:cubicBezTo>
                <a:cubicBezTo>
                  <a:pt x="4285" y="13712"/>
                  <a:pt x="4295" y="13722"/>
                  <a:pt x="4341" y="13767"/>
                </a:cubicBezTo>
                <a:cubicBezTo>
                  <a:pt x="4375" y="13801"/>
                  <a:pt x="4387" y="13867"/>
                  <a:pt x="4390" y="13915"/>
                </a:cubicBezTo>
                <a:cubicBezTo>
                  <a:pt x="4393" y="13970"/>
                  <a:pt x="4415" y="14009"/>
                  <a:pt x="4415" y="14064"/>
                </a:cubicBezTo>
                <a:cubicBezTo>
                  <a:pt x="4415" y="14102"/>
                  <a:pt x="4422" y="14144"/>
                  <a:pt x="4440" y="14089"/>
                </a:cubicBezTo>
              </a:path>
              <a:path w="5533" h="1737">
                <a:moveTo>
                  <a:pt x="4614" y="13593"/>
                </a:moveTo>
                <a:cubicBezTo>
                  <a:pt x="4614" y="13661"/>
                  <a:pt x="4592" y="13764"/>
                  <a:pt x="4638" y="13816"/>
                </a:cubicBezTo>
                <a:cubicBezTo>
                  <a:pt x="4682" y="13866"/>
                  <a:pt x="4696" y="13866"/>
                  <a:pt x="4762" y="13866"/>
                </a:cubicBezTo>
                <a:cubicBezTo>
                  <a:pt x="4816" y="13866"/>
                  <a:pt x="4826" y="13859"/>
                  <a:pt x="4887" y="13841"/>
                </a:cubicBezTo>
              </a:path>
              <a:path w="5533" h="1737">
                <a:moveTo>
                  <a:pt x="4936" y="13543"/>
                </a:moveTo>
                <a:cubicBezTo>
                  <a:pt x="4936" y="13632"/>
                  <a:pt x="4925" y="13708"/>
                  <a:pt x="4911" y="13791"/>
                </a:cubicBezTo>
                <a:cubicBezTo>
                  <a:pt x="4902" y="13842"/>
                  <a:pt x="4916" y="13987"/>
                  <a:pt x="4936" y="14039"/>
                </a:cubicBezTo>
                <a:cubicBezTo>
                  <a:pt x="4949" y="14072"/>
                  <a:pt x="4963" y="14081"/>
                  <a:pt x="4986" y="14089"/>
                </a:cubicBezTo>
              </a:path>
              <a:path w="5533" h="1737">
                <a:moveTo>
                  <a:pt x="5184" y="13618"/>
                </a:moveTo>
                <a:cubicBezTo>
                  <a:pt x="5184" y="13672"/>
                  <a:pt x="5178" y="13719"/>
                  <a:pt x="5159" y="13767"/>
                </a:cubicBezTo>
                <a:cubicBezTo>
                  <a:pt x="5135" y="13828"/>
                  <a:pt x="5113" y="13924"/>
                  <a:pt x="5135" y="13990"/>
                </a:cubicBezTo>
                <a:cubicBezTo>
                  <a:pt x="5154" y="14047"/>
                  <a:pt x="5193" y="14132"/>
                  <a:pt x="5259" y="14139"/>
                </a:cubicBezTo>
                <a:cubicBezTo>
                  <a:pt x="5345" y="14149"/>
                  <a:pt x="5338" y="14125"/>
                  <a:pt x="5383" y="14064"/>
                </a:cubicBezTo>
                <a:cubicBezTo>
                  <a:pt x="5421" y="14013"/>
                  <a:pt x="5447" y="13953"/>
                  <a:pt x="5457" y="13891"/>
                </a:cubicBezTo>
                <a:cubicBezTo>
                  <a:pt x="5467" y="13830"/>
                  <a:pt x="5417" y="13763"/>
                  <a:pt x="5383" y="13717"/>
                </a:cubicBezTo>
                <a:cubicBezTo>
                  <a:pt x="5354" y="13678"/>
                  <a:pt x="5315" y="13665"/>
                  <a:pt x="5283" y="13643"/>
                </a:cubicBezTo>
                <a:cubicBezTo>
                  <a:pt x="5275" y="13635"/>
                  <a:pt x="5267" y="13626"/>
                  <a:pt x="5259" y="13618"/>
                </a:cubicBezTo>
              </a:path>
              <a:path w="5533" h="1737">
                <a:moveTo>
                  <a:pt x="5531" y="13395"/>
                </a:moveTo>
                <a:cubicBezTo>
                  <a:pt x="5480" y="13455"/>
                  <a:pt x="5482" y="13432"/>
                  <a:pt x="5482" y="13494"/>
                </a:cubicBezTo>
                <a:cubicBezTo>
                  <a:pt x="5543" y="13494"/>
                  <a:pt x="5610" y="13510"/>
                  <a:pt x="5655" y="13469"/>
                </a:cubicBezTo>
                <a:cubicBezTo>
                  <a:pt x="5676" y="13450"/>
                  <a:pt x="5697" y="13400"/>
                  <a:pt x="5680" y="13370"/>
                </a:cubicBezTo>
                <a:cubicBezTo>
                  <a:pt x="5655" y="13324"/>
                  <a:pt x="5573" y="13345"/>
                  <a:pt x="5531" y="13345"/>
                </a:cubicBezTo>
              </a:path>
              <a:path w="5533" h="1737">
                <a:moveTo>
                  <a:pt x="3249" y="14263"/>
                </a:moveTo>
                <a:cubicBezTo>
                  <a:pt x="3337" y="14263"/>
                  <a:pt x="3412" y="14276"/>
                  <a:pt x="3497" y="14288"/>
                </a:cubicBezTo>
                <a:cubicBezTo>
                  <a:pt x="3776" y="14328"/>
                  <a:pt x="4089" y="14282"/>
                  <a:pt x="4366" y="14263"/>
                </a:cubicBezTo>
                <a:cubicBezTo>
                  <a:pt x="4605" y="14247"/>
                  <a:pt x="4848" y="14257"/>
                  <a:pt x="5085" y="14238"/>
                </a:cubicBezTo>
                <a:cubicBezTo>
                  <a:pt x="5186" y="14230"/>
                  <a:pt x="5320" y="14251"/>
                  <a:pt x="5383" y="14213"/>
                </a:cubicBezTo>
                <a:cubicBezTo>
                  <a:pt x="5350" y="14213"/>
                  <a:pt x="5365" y="14203"/>
                  <a:pt x="5333" y="14213"/>
                </a:cubicBezTo>
                <a:cubicBezTo>
                  <a:pt x="5274" y="14232"/>
                  <a:pt x="5248" y="14238"/>
                  <a:pt x="5184" y="14238"/>
                </a:cubicBezTo>
              </a:path>
              <a:path w="5533" h="1737">
                <a:moveTo>
                  <a:pt x="3696" y="14560"/>
                </a:moveTo>
                <a:cubicBezTo>
                  <a:pt x="3760" y="14534"/>
                  <a:pt x="3800" y="14536"/>
                  <a:pt x="3870" y="14536"/>
                </a:cubicBezTo>
                <a:cubicBezTo>
                  <a:pt x="3916" y="14536"/>
                  <a:pt x="3980" y="14541"/>
                  <a:pt x="4018" y="14560"/>
                </a:cubicBezTo>
                <a:cubicBezTo>
                  <a:pt x="4070" y="14586"/>
                  <a:pt x="4048" y="14617"/>
                  <a:pt x="4043" y="14635"/>
                </a:cubicBezTo>
                <a:cubicBezTo>
                  <a:pt x="4032" y="14680"/>
                  <a:pt x="3984" y="14660"/>
                  <a:pt x="3944" y="14684"/>
                </a:cubicBezTo>
                <a:cubicBezTo>
                  <a:pt x="3910" y="14704"/>
                  <a:pt x="3814" y="14715"/>
                  <a:pt x="3795" y="14734"/>
                </a:cubicBezTo>
                <a:cubicBezTo>
                  <a:pt x="3795" y="14742"/>
                  <a:pt x="3795" y="14751"/>
                  <a:pt x="3795" y="14759"/>
                </a:cubicBezTo>
                <a:cubicBezTo>
                  <a:pt x="3829" y="14785"/>
                  <a:pt x="3857" y="14792"/>
                  <a:pt x="3894" y="14808"/>
                </a:cubicBezTo>
                <a:cubicBezTo>
                  <a:pt x="3940" y="14828"/>
                  <a:pt x="4051" y="14889"/>
                  <a:pt x="4068" y="14932"/>
                </a:cubicBezTo>
                <a:cubicBezTo>
                  <a:pt x="4081" y="14965"/>
                  <a:pt x="4073" y="15036"/>
                  <a:pt x="4043" y="15056"/>
                </a:cubicBezTo>
                <a:cubicBezTo>
                  <a:pt x="4007" y="15081"/>
                  <a:pt x="3938" y="15096"/>
                  <a:pt x="3894" y="15081"/>
                </a:cubicBezTo>
                <a:cubicBezTo>
                  <a:pt x="3839" y="15062"/>
                  <a:pt x="3771" y="15065"/>
                  <a:pt x="3721" y="15032"/>
                </a:cubicBezTo>
                <a:cubicBezTo>
                  <a:pt x="3664" y="14994"/>
                  <a:pt x="3714" y="14944"/>
                  <a:pt x="3746" y="14908"/>
                </a:cubicBezTo>
                <a:cubicBezTo>
                  <a:pt x="3754" y="14900"/>
                  <a:pt x="3762" y="14891"/>
                  <a:pt x="3770" y="14883"/>
                </a:cubicBezTo>
              </a:path>
              <a:path w="5533" h="1737">
                <a:moveTo>
                  <a:pt x="4266" y="14684"/>
                </a:moveTo>
                <a:cubicBezTo>
                  <a:pt x="4192" y="14800"/>
                  <a:pt x="4192" y="14806"/>
                  <a:pt x="4192" y="14932"/>
                </a:cubicBezTo>
                <a:cubicBezTo>
                  <a:pt x="4192" y="15006"/>
                  <a:pt x="4244" y="15014"/>
                  <a:pt x="4291" y="15056"/>
                </a:cubicBezTo>
                <a:cubicBezTo>
                  <a:pt x="4334" y="15094"/>
                  <a:pt x="4383" y="15081"/>
                  <a:pt x="4440" y="15081"/>
                </a:cubicBezTo>
                <a:cubicBezTo>
                  <a:pt x="4536" y="15081"/>
                  <a:pt x="4508" y="15044"/>
                  <a:pt x="4539" y="14982"/>
                </a:cubicBezTo>
                <a:cubicBezTo>
                  <a:pt x="4576" y="14908"/>
                  <a:pt x="4552" y="14887"/>
                  <a:pt x="4539" y="14808"/>
                </a:cubicBezTo>
                <a:cubicBezTo>
                  <a:pt x="4528" y="14742"/>
                  <a:pt x="4512" y="14689"/>
                  <a:pt x="4440" y="14660"/>
                </a:cubicBezTo>
                <a:cubicBezTo>
                  <a:pt x="4381" y="14636"/>
                  <a:pt x="4394" y="14642"/>
                  <a:pt x="4341" y="14660"/>
                </a:cubicBezTo>
                <a:cubicBezTo>
                  <a:pt x="4311" y="14670"/>
                  <a:pt x="4281" y="14715"/>
                  <a:pt x="4266" y="14759"/>
                </a:cubicBezTo>
                <a:cubicBezTo>
                  <a:pt x="4255" y="14791"/>
                  <a:pt x="4308" y="14827"/>
                  <a:pt x="4316" y="14858"/>
                </a:cubicBezTo>
              </a:path>
              <a:path w="5533" h="1737">
                <a:moveTo>
                  <a:pt x="4713" y="14660"/>
                </a:moveTo>
                <a:cubicBezTo>
                  <a:pt x="4665" y="14707"/>
                  <a:pt x="4630" y="14742"/>
                  <a:pt x="4614" y="14808"/>
                </a:cubicBezTo>
                <a:cubicBezTo>
                  <a:pt x="4604" y="14847"/>
                  <a:pt x="4651" y="14916"/>
                  <a:pt x="4688" y="14932"/>
                </a:cubicBezTo>
                <a:cubicBezTo>
                  <a:pt x="4753" y="14960"/>
                  <a:pt x="4801" y="14962"/>
                  <a:pt x="4862" y="14932"/>
                </a:cubicBezTo>
                <a:cubicBezTo>
                  <a:pt x="4920" y="14903"/>
                  <a:pt x="4932" y="14873"/>
                  <a:pt x="4936" y="14808"/>
                </a:cubicBezTo>
                <a:cubicBezTo>
                  <a:pt x="4938" y="14768"/>
                  <a:pt x="4936" y="14662"/>
                  <a:pt x="4911" y="14635"/>
                </a:cubicBezTo>
                <a:cubicBezTo>
                  <a:pt x="4868" y="14589"/>
                  <a:pt x="4820" y="14560"/>
                  <a:pt x="4762" y="14560"/>
                </a:cubicBezTo>
                <a:cubicBezTo>
                  <a:pt x="4673" y="14560"/>
                  <a:pt x="4688" y="14589"/>
                  <a:pt x="4663" y="14635"/>
                </a:cubicBezTo>
                <a:cubicBezTo>
                  <a:pt x="4640" y="14677"/>
                  <a:pt x="4637" y="14708"/>
                  <a:pt x="4663" y="14759"/>
                </a:cubicBezTo>
                <a:cubicBezTo>
                  <a:pt x="4693" y="14789"/>
                  <a:pt x="4707" y="14800"/>
                  <a:pt x="4738" y="14808"/>
                </a:cubicBezTo>
              </a:path>
              <a:path w="5533" h="1737">
                <a:moveTo>
                  <a:pt x="5159" y="14585"/>
                </a:moveTo>
                <a:cubicBezTo>
                  <a:pt x="5117" y="14663"/>
                  <a:pt x="5092" y="14720"/>
                  <a:pt x="5085" y="14808"/>
                </a:cubicBezTo>
                <a:cubicBezTo>
                  <a:pt x="5081" y="14856"/>
                  <a:pt x="5132" y="14943"/>
                  <a:pt x="5159" y="14982"/>
                </a:cubicBezTo>
                <a:cubicBezTo>
                  <a:pt x="5192" y="15031"/>
                  <a:pt x="5248" y="15064"/>
                  <a:pt x="5308" y="15056"/>
                </a:cubicBezTo>
                <a:cubicBezTo>
                  <a:pt x="5410" y="15042"/>
                  <a:pt x="5434" y="15037"/>
                  <a:pt x="5482" y="14957"/>
                </a:cubicBezTo>
                <a:cubicBezTo>
                  <a:pt x="5523" y="14889"/>
                  <a:pt x="5512" y="14827"/>
                  <a:pt x="5482" y="14759"/>
                </a:cubicBezTo>
                <a:cubicBezTo>
                  <a:pt x="5454" y="14697"/>
                  <a:pt x="5400" y="14632"/>
                  <a:pt x="5333" y="14610"/>
                </a:cubicBezTo>
                <a:cubicBezTo>
                  <a:pt x="5313" y="14603"/>
                  <a:pt x="5244" y="14591"/>
                  <a:pt x="5259" y="14560"/>
                </a:cubicBezTo>
                <a:cubicBezTo>
                  <a:pt x="5267" y="14552"/>
                  <a:pt x="5275" y="14544"/>
                  <a:pt x="5283" y="14536"/>
                </a:cubicBezTo>
              </a:path>
              <a:path w="5533" h="1737">
                <a:moveTo>
                  <a:pt x="5854" y="14238"/>
                </a:moveTo>
                <a:cubicBezTo>
                  <a:pt x="5948" y="14238"/>
                  <a:pt x="5996" y="14220"/>
                  <a:pt x="6077" y="14213"/>
                </a:cubicBezTo>
                <a:cubicBezTo>
                  <a:pt x="6085" y="14213"/>
                  <a:pt x="6094" y="14213"/>
                  <a:pt x="6102" y="14213"/>
                </a:cubicBezTo>
              </a:path>
              <a:path w="5533" h="1737">
                <a:moveTo>
                  <a:pt x="5879" y="14337"/>
                </a:moveTo>
                <a:cubicBezTo>
                  <a:pt x="5939" y="14398"/>
                  <a:pt x="5965" y="14431"/>
                  <a:pt x="6052" y="14436"/>
                </a:cubicBezTo>
                <a:cubicBezTo>
                  <a:pt x="6069" y="14436"/>
                  <a:pt x="6085" y="14436"/>
                  <a:pt x="6102" y="14436"/>
                </a:cubicBezTo>
              </a:path>
              <a:path w="5533" h="1737">
                <a:moveTo>
                  <a:pt x="6821" y="13618"/>
                </a:moveTo>
                <a:cubicBezTo>
                  <a:pt x="6821" y="13643"/>
                  <a:pt x="6821" y="13651"/>
                  <a:pt x="6821" y="13667"/>
                </a:cubicBezTo>
                <a:cubicBezTo>
                  <a:pt x="6808" y="13618"/>
                  <a:pt x="6778" y="13596"/>
                  <a:pt x="6722" y="13593"/>
                </a:cubicBezTo>
                <a:cubicBezTo>
                  <a:pt x="6684" y="13591"/>
                  <a:pt x="6595" y="13611"/>
                  <a:pt x="6573" y="13643"/>
                </a:cubicBezTo>
                <a:cubicBezTo>
                  <a:pt x="6556" y="13667"/>
                  <a:pt x="6558" y="13662"/>
                  <a:pt x="6548" y="13692"/>
                </a:cubicBezTo>
                <a:cubicBezTo>
                  <a:pt x="6605" y="13749"/>
                  <a:pt x="6659" y="13794"/>
                  <a:pt x="6722" y="13841"/>
                </a:cubicBezTo>
                <a:cubicBezTo>
                  <a:pt x="6748" y="13860"/>
                  <a:pt x="6807" y="13934"/>
                  <a:pt x="6821" y="13965"/>
                </a:cubicBezTo>
                <a:cubicBezTo>
                  <a:pt x="6821" y="13990"/>
                  <a:pt x="6821" y="13998"/>
                  <a:pt x="6846" y="13990"/>
                </a:cubicBezTo>
                <a:cubicBezTo>
                  <a:pt x="6808" y="14019"/>
                  <a:pt x="6795" y="14015"/>
                  <a:pt x="6747" y="14015"/>
                </a:cubicBezTo>
                <a:cubicBezTo>
                  <a:pt x="6688" y="14015"/>
                  <a:pt x="6653" y="13994"/>
                  <a:pt x="6598" y="13990"/>
                </a:cubicBezTo>
                <a:cubicBezTo>
                  <a:pt x="6537" y="13986"/>
                  <a:pt x="6514" y="13974"/>
                  <a:pt x="6499" y="13915"/>
                </a:cubicBezTo>
              </a:path>
              <a:path w="5533" h="1737">
                <a:moveTo>
                  <a:pt x="7069" y="13667"/>
                </a:moveTo>
                <a:cubicBezTo>
                  <a:pt x="7070" y="13677"/>
                  <a:pt x="7077" y="13906"/>
                  <a:pt x="7094" y="13940"/>
                </a:cubicBezTo>
                <a:cubicBezTo>
                  <a:pt x="7106" y="13965"/>
                  <a:pt x="7119" y="14036"/>
                  <a:pt x="7119" y="13990"/>
                </a:cubicBezTo>
              </a:path>
              <a:path w="5533" h="1737">
                <a:moveTo>
                  <a:pt x="7119" y="13370"/>
                </a:moveTo>
                <a:cubicBezTo>
                  <a:pt x="7177" y="13370"/>
                  <a:pt x="7185" y="13370"/>
                  <a:pt x="7218" y="13370"/>
                </a:cubicBezTo>
              </a:path>
              <a:path w="5533" h="1737">
                <a:moveTo>
                  <a:pt x="7293" y="13767"/>
                </a:moveTo>
                <a:cubicBezTo>
                  <a:pt x="7307" y="13845"/>
                  <a:pt x="7317" y="13875"/>
                  <a:pt x="7317" y="13940"/>
                </a:cubicBezTo>
                <a:cubicBezTo>
                  <a:pt x="7317" y="13882"/>
                  <a:pt x="7333" y="13837"/>
                  <a:pt x="7342" y="13791"/>
                </a:cubicBezTo>
                <a:cubicBezTo>
                  <a:pt x="7353" y="13738"/>
                  <a:pt x="7355" y="13708"/>
                  <a:pt x="7392" y="13667"/>
                </a:cubicBezTo>
                <a:cubicBezTo>
                  <a:pt x="7404" y="13653"/>
                  <a:pt x="7465" y="13586"/>
                  <a:pt x="7491" y="13618"/>
                </a:cubicBezTo>
                <a:cubicBezTo>
                  <a:pt x="7499" y="13628"/>
                  <a:pt x="7561" y="13702"/>
                  <a:pt x="7565" y="13717"/>
                </a:cubicBezTo>
                <a:cubicBezTo>
                  <a:pt x="7579" y="13769"/>
                  <a:pt x="7586" y="13844"/>
                  <a:pt x="7615" y="13891"/>
                </a:cubicBezTo>
                <a:cubicBezTo>
                  <a:pt x="7629" y="13914"/>
                  <a:pt x="7641" y="14012"/>
                  <a:pt x="7689" y="13990"/>
                </a:cubicBezTo>
                <a:cubicBezTo>
                  <a:pt x="7697" y="13982"/>
                  <a:pt x="7706" y="13973"/>
                  <a:pt x="7714" y="13965"/>
                </a:cubicBezTo>
              </a:path>
              <a:path w="5533" h="1737">
                <a:moveTo>
                  <a:pt x="7764" y="13519"/>
                </a:moveTo>
                <a:cubicBezTo>
                  <a:pt x="7821" y="13505"/>
                  <a:pt x="7869" y="13494"/>
                  <a:pt x="7938" y="13494"/>
                </a:cubicBezTo>
                <a:cubicBezTo>
                  <a:pt x="7997" y="13494"/>
                  <a:pt x="8036" y="13506"/>
                  <a:pt x="8062" y="13519"/>
                </a:cubicBezTo>
                <a:cubicBezTo>
                  <a:pt x="8113" y="13546"/>
                  <a:pt x="8075" y="13586"/>
                  <a:pt x="8062" y="13643"/>
                </a:cubicBezTo>
                <a:cubicBezTo>
                  <a:pt x="8051" y="13694"/>
                  <a:pt x="8040" y="13741"/>
                  <a:pt x="8037" y="13791"/>
                </a:cubicBezTo>
                <a:cubicBezTo>
                  <a:pt x="8034" y="13848"/>
                  <a:pt x="8017" y="13975"/>
                  <a:pt x="8062" y="13990"/>
                </a:cubicBezTo>
              </a:path>
              <a:path w="5533" h="1737">
                <a:moveTo>
                  <a:pt x="8359" y="13568"/>
                </a:moveTo>
                <a:cubicBezTo>
                  <a:pt x="8352" y="13650"/>
                  <a:pt x="8323" y="13713"/>
                  <a:pt x="8310" y="13791"/>
                </a:cubicBezTo>
                <a:cubicBezTo>
                  <a:pt x="8302" y="13841"/>
                  <a:pt x="8263" y="13909"/>
                  <a:pt x="8285" y="13965"/>
                </a:cubicBezTo>
                <a:cubicBezTo>
                  <a:pt x="8302" y="14010"/>
                  <a:pt x="8327" y="14017"/>
                  <a:pt x="8359" y="14039"/>
                </a:cubicBezTo>
                <a:cubicBezTo>
                  <a:pt x="8397" y="14065"/>
                  <a:pt x="8477" y="14060"/>
                  <a:pt x="8508" y="14015"/>
                </a:cubicBezTo>
                <a:cubicBezTo>
                  <a:pt x="8545" y="13962"/>
                  <a:pt x="8533" y="13902"/>
                  <a:pt x="8533" y="13841"/>
                </a:cubicBezTo>
                <a:cubicBezTo>
                  <a:pt x="8533" y="13766"/>
                  <a:pt x="8508" y="13774"/>
                  <a:pt x="8483" y="13717"/>
                </a:cubicBezTo>
                <a:cubicBezTo>
                  <a:pt x="8467" y="13681"/>
                  <a:pt x="8459" y="13652"/>
                  <a:pt x="8434" y="13618"/>
                </a:cubicBezTo>
              </a:path>
              <a:path w="5533" h="1737">
                <a:moveTo>
                  <a:pt x="8657" y="13444"/>
                </a:moveTo>
                <a:cubicBezTo>
                  <a:pt x="8634" y="13471"/>
                  <a:pt x="8563" y="13534"/>
                  <a:pt x="8632" y="13568"/>
                </a:cubicBezTo>
                <a:cubicBezTo>
                  <a:pt x="8651" y="13577"/>
                  <a:pt x="8704" y="13608"/>
                  <a:pt x="8731" y="13593"/>
                </a:cubicBezTo>
                <a:cubicBezTo>
                  <a:pt x="8775" y="13569"/>
                  <a:pt x="8781" y="13569"/>
                  <a:pt x="8781" y="13519"/>
                </a:cubicBezTo>
                <a:cubicBezTo>
                  <a:pt x="8781" y="13463"/>
                  <a:pt x="8777" y="13464"/>
                  <a:pt x="8731" y="13444"/>
                </a:cubicBezTo>
                <a:cubicBezTo>
                  <a:pt x="8682" y="13419"/>
                  <a:pt x="8665" y="13411"/>
                  <a:pt x="8632" y="13444"/>
                </a:cubicBezTo>
              </a:path>
              <a:path w="5533" h="1737">
                <a:moveTo>
                  <a:pt x="8657" y="14288"/>
                </a:moveTo>
                <a:cubicBezTo>
                  <a:pt x="8480" y="14288"/>
                  <a:pt x="8308" y="14293"/>
                  <a:pt x="8136" y="14312"/>
                </a:cubicBezTo>
                <a:cubicBezTo>
                  <a:pt x="7965" y="14331"/>
                  <a:pt x="7784" y="14322"/>
                  <a:pt x="7615" y="14337"/>
                </a:cubicBezTo>
                <a:cubicBezTo>
                  <a:pt x="7448" y="14352"/>
                  <a:pt x="7283" y="14340"/>
                  <a:pt x="7119" y="14362"/>
                </a:cubicBezTo>
                <a:cubicBezTo>
                  <a:pt x="7055" y="14371"/>
                  <a:pt x="7026" y="14357"/>
                  <a:pt x="6970" y="14387"/>
                </a:cubicBezTo>
                <a:cubicBezTo>
                  <a:pt x="6942" y="14387"/>
                  <a:pt x="6931" y="14389"/>
                  <a:pt x="6921" y="14412"/>
                </a:cubicBezTo>
              </a:path>
              <a:path w="5533" h="1737">
                <a:moveTo>
                  <a:pt x="7764" y="14684"/>
                </a:moveTo>
                <a:cubicBezTo>
                  <a:pt x="7784" y="14758"/>
                  <a:pt x="7789" y="14807"/>
                  <a:pt x="7789" y="14883"/>
                </a:cubicBezTo>
                <a:cubicBezTo>
                  <a:pt x="7789" y="14937"/>
                  <a:pt x="7769" y="14962"/>
                  <a:pt x="7764" y="15007"/>
                </a:cubicBezTo>
                <a:cubicBezTo>
                  <a:pt x="7764" y="15032"/>
                  <a:pt x="7764" y="15040"/>
                  <a:pt x="7764" y="15056"/>
                </a:cubicBezTo>
                <a:cubicBezTo>
                  <a:pt x="7717" y="15041"/>
                  <a:pt x="7739" y="14989"/>
                  <a:pt x="7739" y="14932"/>
                </a:cubicBezTo>
                <a:cubicBezTo>
                  <a:pt x="7739" y="14901"/>
                  <a:pt x="7750" y="14811"/>
                  <a:pt x="7764" y="14784"/>
                </a:cubicBezTo>
                <a:cubicBezTo>
                  <a:pt x="7778" y="14757"/>
                  <a:pt x="7805" y="14699"/>
                  <a:pt x="7838" y="14684"/>
                </a:cubicBezTo>
                <a:cubicBezTo>
                  <a:pt x="7915" y="14650"/>
                  <a:pt x="8065" y="14693"/>
                  <a:pt x="8136" y="14709"/>
                </a:cubicBezTo>
                <a:cubicBezTo>
                  <a:pt x="8144" y="14709"/>
                  <a:pt x="8153" y="14709"/>
                  <a:pt x="8161" y="14709"/>
                </a:cubicBezTo>
              </a:path>
              <a:path w="5533" h="1737">
                <a:moveTo>
                  <a:pt x="5705" y="14015"/>
                </a:moveTo>
                <a:cubicBezTo>
                  <a:pt x="5757" y="14044"/>
                  <a:pt x="5787" y="14072"/>
                  <a:pt x="5829" y="14114"/>
                </a:cubicBezTo>
                <a:cubicBezTo>
                  <a:pt x="5897" y="14181"/>
                  <a:pt x="5979" y="14226"/>
                  <a:pt x="6052" y="14288"/>
                </a:cubicBezTo>
                <a:cubicBezTo>
                  <a:pt x="6144" y="14366"/>
                  <a:pt x="6249" y="14397"/>
                  <a:pt x="6350" y="14461"/>
                </a:cubicBezTo>
                <a:cubicBezTo>
                  <a:pt x="6452" y="14526"/>
                  <a:pt x="6537" y="14564"/>
                  <a:pt x="6648" y="14610"/>
                </a:cubicBezTo>
                <a:cubicBezTo>
                  <a:pt x="6693" y="14629"/>
                  <a:pt x="6743" y="14676"/>
                  <a:pt x="6796" y="14660"/>
                </a:cubicBezTo>
                <a:cubicBezTo>
                  <a:pt x="6821" y="14660"/>
                  <a:pt x="6829" y="14660"/>
                  <a:pt x="6821" y="14635"/>
                </a:cubicBezTo>
              </a:path>
              <a:path w="5533" h="1737">
                <a:moveTo>
                  <a:pt x="6598" y="14039"/>
                </a:moveTo>
                <a:cubicBezTo>
                  <a:pt x="6559" y="14078"/>
                  <a:pt x="6488" y="14164"/>
                  <a:pt x="6449" y="14188"/>
                </a:cubicBezTo>
                <a:cubicBezTo>
                  <a:pt x="6361" y="14241"/>
                  <a:pt x="6264" y="14286"/>
                  <a:pt x="6176" y="14337"/>
                </a:cubicBezTo>
                <a:cubicBezTo>
                  <a:pt x="6075" y="14395"/>
                  <a:pt x="5977" y="14446"/>
                  <a:pt x="5879" y="14511"/>
                </a:cubicBezTo>
                <a:cubicBezTo>
                  <a:pt x="5779" y="14577"/>
                  <a:pt x="5669" y="14628"/>
                  <a:pt x="5581" y="14709"/>
                </a:cubicBezTo>
                <a:cubicBezTo>
                  <a:pt x="5547" y="14740"/>
                  <a:pt x="5526" y="14736"/>
                  <a:pt x="5482" y="147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27280" y="4902120"/>
            <a:ext cx="2303640" cy="758880"/>
          </a:xfrm>
          <a:custGeom>
            <a:avLst/>
            <a:gdLst/>
            <a:ahLst/>
            <a:rect l="l" t="t" r="r" b="b"/>
            <a:pathLst>
              <a:path w="6400" h="2109">
                <a:moveTo>
                  <a:pt x="10096" y="14288"/>
                </a:moveTo>
                <a:cubicBezTo>
                  <a:pt x="10096" y="14232"/>
                  <a:pt x="10083" y="14213"/>
                  <a:pt x="10071" y="14188"/>
                </a:cubicBezTo>
                <a:cubicBezTo>
                  <a:pt x="10054" y="14153"/>
                  <a:pt x="10045" y="14163"/>
                  <a:pt x="9996" y="14163"/>
                </a:cubicBezTo>
                <a:cubicBezTo>
                  <a:pt x="9985" y="14163"/>
                  <a:pt x="9940" y="14178"/>
                  <a:pt x="9922" y="14188"/>
                </a:cubicBezTo>
                <a:cubicBezTo>
                  <a:pt x="9898" y="14202"/>
                  <a:pt x="9882" y="14262"/>
                  <a:pt x="9897" y="14288"/>
                </a:cubicBezTo>
                <a:cubicBezTo>
                  <a:pt x="9912" y="14315"/>
                  <a:pt x="9938" y="14372"/>
                  <a:pt x="9971" y="14387"/>
                </a:cubicBezTo>
                <a:cubicBezTo>
                  <a:pt x="10036" y="14416"/>
                  <a:pt x="10047" y="14431"/>
                  <a:pt x="10096" y="14486"/>
                </a:cubicBezTo>
                <a:cubicBezTo>
                  <a:pt x="10139" y="14535"/>
                  <a:pt x="10165" y="14574"/>
                  <a:pt x="10170" y="14635"/>
                </a:cubicBezTo>
                <a:cubicBezTo>
                  <a:pt x="10175" y="14695"/>
                  <a:pt x="10178" y="14755"/>
                  <a:pt x="10145" y="14808"/>
                </a:cubicBezTo>
                <a:cubicBezTo>
                  <a:pt x="10129" y="14834"/>
                  <a:pt x="10074" y="14855"/>
                  <a:pt x="10046" y="14858"/>
                </a:cubicBezTo>
                <a:cubicBezTo>
                  <a:pt x="9970" y="14866"/>
                  <a:pt x="9977" y="14833"/>
                  <a:pt x="9922" y="14808"/>
                </a:cubicBezTo>
                <a:cubicBezTo>
                  <a:pt x="9891" y="14794"/>
                  <a:pt x="9840" y="14775"/>
                  <a:pt x="9823" y="14734"/>
                </a:cubicBezTo>
                <a:cubicBezTo>
                  <a:pt x="9805" y="14692"/>
                  <a:pt x="9797" y="14655"/>
                  <a:pt x="9823" y="14610"/>
                </a:cubicBezTo>
                <a:cubicBezTo>
                  <a:pt x="9831" y="14602"/>
                  <a:pt x="9839" y="14593"/>
                  <a:pt x="9847" y="14585"/>
                </a:cubicBezTo>
              </a:path>
              <a:path w="6400" h="2109">
                <a:moveTo>
                  <a:pt x="10542" y="14412"/>
                </a:moveTo>
                <a:cubicBezTo>
                  <a:pt x="10599" y="14420"/>
                  <a:pt x="10630" y="14436"/>
                  <a:pt x="10691" y="14436"/>
                </a:cubicBezTo>
                <a:cubicBezTo>
                  <a:pt x="10724" y="14436"/>
                  <a:pt x="10757" y="14436"/>
                  <a:pt x="10790" y="14436"/>
                </a:cubicBezTo>
              </a:path>
              <a:path w="6400" h="2109">
                <a:moveTo>
                  <a:pt x="10517" y="14610"/>
                </a:moveTo>
                <a:cubicBezTo>
                  <a:pt x="10570" y="14633"/>
                  <a:pt x="10636" y="14651"/>
                  <a:pt x="10691" y="14660"/>
                </a:cubicBezTo>
                <a:cubicBezTo>
                  <a:pt x="10740" y="14660"/>
                  <a:pt x="10757" y="14660"/>
                  <a:pt x="10790" y="14660"/>
                </a:cubicBezTo>
              </a:path>
              <a:path w="6400" h="2109">
                <a:moveTo>
                  <a:pt x="13047" y="14089"/>
                </a:moveTo>
                <a:cubicBezTo>
                  <a:pt x="13048" y="14086"/>
                  <a:pt x="13069" y="14018"/>
                  <a:pt x="13072" y="14015"/>
                </a:cubicBezTo>
                <a:cubicBezTo>
                  <a:pt x="13088" y="14003"/>
                  <a:pt x="13115" y="13954"/>
                  <a:pt x="13146" y="13940"/>
                </a:cubicBezTo>
                <a:cubicBezTo>
                  <a:pt x="13175" y="13927"/>
                  <a:pt x="13256" y="13935"/>
                  <a:pt x="13271" y="13965"/>
                </a:cubicBezTo>
                <a:cubicBezTo>
                  <a:pt x="13289" y="14001"/>
                  <a:pt x="13304" y="14050"/>
                  <a:pt x="13320" y="14089"/>
                </a:cubicBezTo>
                <a:cubicBezTo>
                  <a:pt x="13350" y="14164"/>
                  <a:pt x="13345" y="14231"/>
                  <a:pt x="13345" y="14312"/>
                </a:cubicBezTo>
                <a:cubicBezTo>
                  <a:pt x="13345" y="14403"/>
                  <a:pt x="13310" y="14477"/>
                  <a:pt x="13271" y="14560"/>
                </a:cubicBezTo>
                <a:cubicBezTo>
                  <a:pt x="13242" y="14621"/>
                  <a:pt x="13216" y="14685"/>
                  <a:pt x="13171" y="14734"/>
                </a:cubicBezTo>
                <a:cubicBezTo>
                  <a:pt x="13155" y="14752"/>
                  <a:pt x="13068" y="14811"/>
                  <a:pt x="13047" y="14808"/>
                </a:cubicBezTo>
                <a:cubicBezTo>
                  <a:pt x="13001" y="14802"/>
                  <a:pt x="12977" y="14748"/>
                  <a:pt x="12973" y="14709"/>
                </a:cubicBezTo>
                <a:cubicBezTo>
                  <a:pt x="12967" y="14659"/>
                  <a:pt x="12985" y="14649"/>
                  <a:pt x="12998" y="14610"/>
                </a:cubicBezTo>
                <a:cubicBezTo>
                  <a:pt x="13009" y="14578"/>
                  <a:pt x="13034" y="14528"/>
                  <a:pt x="13072" y="14511"/>
                </a:cubicBezTo>
                <a:cubicBezTo>
                  <a:pt x="13125" y="14488"/>
                  <a:pt x="13129" y="14535"/>
                  <a:pt x="13146" y="14560"/>
                </a:cubicBezTo>
                <a:cubicBezTo>
                  <a:pt x="13172" y="14598"/>
                  <a:pt x="13196" y="14624"/>
                  <a:pt x="13221" y="14660"/>
                </a:cubicBezTo>
                <a:cubicBezTo>
                  <a:pt x="13245" y="14694"/>
                  <a:pt x="13298" y="14788"/>
                  <a:pt x="13345" y="14808"/>
                </a:cubicBezTo>
                <a:cubicBezTo>
                  <a:pt x="13370" y="14808"/>
                  <a:pt x="13378" y="14808"/>
                  <a:pt x="13370" y="14784"/>
                </a:cubicBezTo>
              </a:path>
              <a:path w="6400" h="2109">
                <a:moveTo>
                  <a:pt x="13543" y="14387"/>
                </a:moveTo>
                <a:cubicBezTo>
                  <a:pt x="13543" y="14412"/>
                  <a:pt x="13543" y="14420"/>
                  <a:pt x="13543" y="14387"/>
                </a:cubicBezTo>
              </a:path>
              <a:path w="6400" h="2109">
                <a:moveTo>
                  <a:pt x="13742" y="14089"/>
                </a:moveTo>
                <a:cubicBezTo>
                  <a:pt x="13811" y="14069"/>
                  <a:pt x="13799" y="14089"/>
                  <a:pt x="13866" y="14089"/>
                </a:cubicBezTo>
                <a:cubicBezTo>
                  <a:pt x="13937" y="14089"/>
                  <a:pt x="13975" y="14110"/>
                  <a:pt x="14039" y="14114"/>
                </a:cubicBezTo>
                <a:cubicBezTo>
                  <a:pt x="14072" y="14116"/>
                  <a:pt x="14106" y="14114"/>
                  <a:pt x="14139" y="14114"/>
                </a:cubicBezTo>
              </a:path>
              <a:path w="6400" h="2109">
                <a:moveTo>
                  <a:pt x="13915" y="14139"/>
                </a:moveTo>
                <a:cubicBezTo>
                  <a:pt x="13890" y="14247"/>
                  <a:pt x="13847" y="14376"/>
                  <a:pt x="13841" y="14486"/>
                </a:cubicBezTo>
                <a:cubicBezTo>
                  <a:pt x="13837" y="14565"/>
                  <a:pt x="13820" y="14590"/>
                  <a:pt x="13841" y="14660"/>
                </a:cubicBezTo>
                <a:cubicBezTo>
                  <a:pt x="13854" y="14703"/>
                  <a:pt x="13821" y="14694"/>
                  <a:pt x="13866" y="14709"/>
                </a:cubicBezTo>
              </a:path>
              <a:path w="6400" h="2109">
                <a:moveTo>
                  <a:pt x="14089" y="14213"/>
                </a:moveTo>
                <a:cubicBezTo>
                  <a:pt x="14081" y="14301"/>
                  <a:pt x="14064" y="14370"/>
                  <a:pt x="14064" y="14461"/>
                </a:cubicBezTo>
                <a:cubicBezTo>
                  <a:pt x="14064" y="14562"/>
                  <a:pt x="14066" y="14640"/>
                  <a:pt x="14089" y="14734"/>
                </a:cubicBezTo>
                <a:cubicBezTo>
                  <a:pt x="14089" y="14762"/>
                  <a:pt x="14091" y="14773"/>
                  <a:pt x="14114" y="14784"/>
                </a:cubicBezTo>
              </a:path>
              <a:path w="6400" h="2109">
                <a:moveTo>
                  <a:pt x="14337" y="14734"/>
                </a:moveTo>
                <a:cubicBezTo>
                  <a:pt x="14372" y="14734"/>
                  <a:pt x="14385" y="14725"/>
                  <a:pt x="14387" y="14684"/>
                </a:cubicBezTo>
              </a:path>
              <a:path w="6400" h="2109">
                <a:moveTo>
                  <a:pt x="14610" y="14163"/>
                </a:moveTo>
                <a:cubicBezTo>
                  <a:pt x="14610" y="14171"/>
                  <a:pt x="14610" y="14180"/>
                  <a:pt x="14610" y="14188"/>
                </a:cubicBezTo>
                <a:cubicBezTo>
                  <a:pt x="14572" y="14201"/>
                  <a:pt x="14585" y="14218"/>
                  <a:pt x="14585" y="14263"/>
                </a:cubicBezTo>
                <a:cubicBezTo>
                  <a:pt x="14585" y="14314"/>
                  <a:pt x="14576" y="14349"/>
                  <a:pt x="14610" y="14387"/>
                </a:cubicBezTo>
                <a:cubicBezTo>
                  <a:pt x="14625" y="14404"/>
                  <a:pt x="14688" y="14463"/>
                  <a:pt x="14709" y="14461"/>
                </a:cubicBezTo>
                <a:cubicBezTo>
                  <a:pt x="14768" y="14455"/>
                  <a:pt x="14797" y="14446"/>
                  <a:pt x="14808" y="14412"/>
                </a:cubicBezTo>
              </a:path>
              <a:path w="6400" h="2109">
                <a:moveTo>
                  <a:pt x="14833" y="14039"/>
                </a:moveTo>
                <a:cubicBezTo>
                  <a:pt x="14825" y="14116"/>
                  <a:pt x="14808" y="14158"/>
                  <a:pt x="14808" y="14238"/>
                </a:cubicBezTo>
                <a:cubicBezTo>
                  <a:pt x="14808" y="14314"/>
                  <a:pt x="14784" y="14381"/>
                  <a:pt x="14784" y="14461"/>
                </a:cubicBezTo>
                <a:cubicBezTo>
                  <a:pt x="14784" y="14551"/>
                  <a:pt x="14764" y="14619"/>
                  <a:pt x="14759" y="14709"/>
                </a:cubicBezTo>
                <a:cubicBezTo>
                  <a:pt x="14759" y="14734"/>
                  <a:pt x="14759" y="14742"/>
                  <a:pt x="14759" y="14759"/>
                </a:cubicBezTo>
              </a:path>
              <a:path w="6400" h="2109">
                <a:moveTo>
                  <a:pt x="14982" y="14163"/>
                </a:moveTo>
                <a:cubicBezTo>
                  <a:pt x="15000" y="14137"/>
                  <a:pt x="15047" y="14031"/>
                  <a:pt x="15106" y="14064"/>
                </a:cubicBezTo>
                <a:cubicBezTo>
                  <a:pt x="15130" y="14077"/>
                  <a:pt x="15196" y="14107"/>
                  <a:pt x="15205" y="14139"/>
                </a:cubicBezTo>
                <a:cubicBezTo>
                  <a:pt x="15218" y="14183"/>
                  <a:pt x="15204" y="14252"/>
                  <a:pt x="15180" y="14288"/>
                </a:cubicBezTo>
                <a:cubicBezTo>
                  <a:pt x="15142" y="14345"/>
                  <a:pt x="15093" y="14378"/>
                  <a:pt x="15032" y="14387"/>
                </a:cubicBezTo>
                <a:cubicBezTo>
                  <a:pt x="15088" y="14387"/>
                  <a:pt x="15138" y="14375"/>
                  <a:pt x="15180" y="14412"/>
                </a:cubicBezTo>
                <a:cubicBezTo>
                  <a:pt x="15234" y="14460"/>
                  <a:pt x="15233" y="14475"/>
                  <a:pt x="15255" y="14536"/>
                </a:cubicBezTo>
                <a:cubicBezTo>
                  <a:pt x="15277" y="14599"/>
                  <a:pt x="15285" y="14650"/>
                  <a:pt x="15255" y="14709"/>
                </a:cubicBezTo>
                <a:cubicBezTo>
                  <a:pt x="15234" y="14750"/>
                  <a:pt x="15165" y="14770"/>
                  <a:pt x="15131" y="14784"/>
                </a:cubicBezTo>
                <a:cubicBezTo>
                  <a:pt x="15055" y="14816"/>
                  <a:pt x="15045" y="14804"/>
                  <a:pt x="14982" y="14784"/>
                </a:cubicBezTo>
                <a:cubicBezTo>
                  <a:pt x="14921" y="14765"/>
                  <a:pt x="14920" y="14794"/>
                  <a:pt x="14957" y="14709"/>
                </a:cubicBezTo>
              </a:path>
              <a:path w="6400" h="2109">
                <a:moveTo>
                  <a:pt x="15627" y="14337"/>
                </a:moveTo>
                <a:cubicBezTo>
                  <a:pt x="15638" y="14302"/>
                  <a:pt x="15683" y="14216"/>
                  <a:pt x="15627" y="14188"/>
                </a:cubicBezTo>
                <a:cubicBezTo>
                  <a:pt x="15581" y="14165"/>
                  <a:pt x="15589" y="14170"/>
                  <a:pt x="15528" y="14188"/>
                </a:cubicBezTo>
                <a:cubicBezTo>
                  <a:pt x="15509" y="14194"/>
                  <a:pt x="15467" y="14227"/>
                  <a:pt x="15478" y="14263"/>
                </a:cubicBezTo>
                <a:cubicBezTo>
                  <a:pt x="15504" y="14353"/>
                  <a:pt x="15531" y="14446"/>
                  <a:pt x="15553" y="14536"/>
                </a:cubicBezTo>
                <a:cubicBezTo>
                  <a:pt x="15573" y="14616"/>
                  <a:pt x="15577" y="14676"/>
                  <a:pt x="15577" y="14759"/>
                </a:cubicBezTo>
                <a:cubicBezTo>
                  <a:pt x="15577" y="14800"/>
                  <a:pt x="15565" y="14772"/>
                  <a:pt x="15553" y="14808"/>
                </a:cubicBezTo>
                <a:cubicBezTo>
                  <a:pt x="15523" y="14798"/>
                  <a:pt x="15511" y="14788"/>
                  <a:pt x="15478" y="14759"/>
                </a:cubicBezTo>
                <a:cubicBezTo>
                  <a:pt x="15444" y="14729"/>
                  <a:pt x="15453" y="14703"/>
                  <a:pt x="15453" y="14660"/>
                </a:cubicBezTo>
                <a:cubicBezTo>
                  <a:pt x="15453" y="14568"/>
                  <a:pt x="15480" y="14544"/>
                  <a:pt x="15528" y="14461"/>
                </a:cubicBezTo>
                <a:cubicBezTo>
                  <a:pt x="15553" y="14412"/>
                  <a:pt x="15561" y="14395"/>
                  <a:pt x="15577" y="14362"/>
                </a:cubicBezTo>
              </a:path>
              <a:path w="6400" h="2109">
                <a:moveTo>
                  <a:pt x="15801" y="14089"/>
                </a:moveTo>
                <a:cubicBezTo>
                  <a:pt x="15813" y="14139"/>
                  <a:pt x="15818" y="14206"/>
                  <a:pt x="15801" y="14263"/>
                </a:cubicBezTo>
                <a:cubicBezTo>
                  <a:pt x="15781" y="14330"/>
                  <a:pt x="15755" y="14389"/>
                  <a:pt x="15751" y="14461"/>
                </a:cubicBezTo>
                <a:cubicBezTo>
                  <a:pt x="15747" y="14538"/>
                  <a:pt x="15760" y="14590"/>
                  <a:pt x="15776" y="14660"/>
                </a:cubicBezTo>
                <a:cubicBezTo>
                  <a:pt x="15790" y="14721"/>
                  <a:pt x="15799" y="14737"/>
                  <a:pt x="15850" y="14759"/>
                </a:cubicBezTo>
                <a:cubicBezTo>
                  <a:pt x="15871" y="14768"/>
                  <a:pt x="15945" y="14805"/>
                  <a:pt x="15974" y="14784"/>
                </a:cubicBezTo>
                <a:cubicBezTo>
                  <a:pt x="16042" y="14735"/>
                  <a:pt x="16049" y="14685"/>
                  <a:pt x="16049" y="14610"/>
                </a:cubicBezTo>
                <a:cubicBezTo>
                  <a:pt x="16049" y="14544"/>
                  <a:pt x="16043" y="14521"/>
                  <a:pt x="15974" y="14486"/>
                </a:cubicBezTo>
                <a:cubicBezTo>
                  <a:pt x="15952" y="14475"/>
                  <a:pt x="15838" y="14499"/>
                  <a:pt x="15825" y="14511"/>
                </a:cubicBezTo>
                <a:cubicBezTo>
                  <a:pt x="15786" y="14547"/>
                  <a:pt x="15727" y="14616"/>
                  <a:pt x="15701" y="14660"/>
                </a:cubicBezTo>
                <a:cubicBezTo>
                  <a:pt x="15663" y="14725"/>
                  <a:pt x="15662" y="14741"/>
                  <a:pt x="15602" y="14784"/>
                </a:cubicBezTo>
              </a:path>
              <a:path w="6400" h="2109">
                <a:moveTo>
                  <a:pt x="12973" y="13643"/>
                </a:moveTo>
                <a:cubicBezTo>
                  <a:pt x="12961" y="13735"/>
                  <a:pt x="12907" y="13779"/>
                  <a:pt x="12874" y="13866"/>
                </a:cubicBezTo>
                <a:cubicBezTo>
                  <a:pt x="12835" y="13967"/>
                  <a:pt x="12822" y="14062"/>
                  <a:pt x="12799" y="14163"/>
                </a:cubicBezTo>
                <a:cubicBezTo>
                  <a:pt x="12773" y="14280"/>
                  <a:pt x="12811" y="14369"/>
                  <a:pt x="12849" y="14486"/>
                </a:cubicBezTo>
                <a:cubicBezTo>
                  <a:pt x="12875" y="14564"/>
                  <a:pt x="12886" y="14591"/>
                  <a:pt x="12923" y="14635"/>
                </a:cubicBezTo>
              </a:path>
              <a:path w="6400" h="2109">
                <a:moveTo>
                  <a:pt x="16073" y="13717"/>
                </a:moveTo>
                <a:cubicBezTo>
                  <a:pt x="16123" y="13758"/>
                  <a:pt x="16163" y="13835"/>
                  <a:pt x="16173" y="13915"/>
                </a:cubicBezTo>
                <a:cubicBezTo>
                  <a:pt x="16186" y="14017"/>
                  <a:pt x="16203" y="14188"/>
                  <a:pt x="16197" y="14288"/>
                </a:cubicBezTo>
                <a:cubicBezTo>
                  <a:pt x="16190" y="14423"/>
                  <a:pt x="16173" y="14582"/>
                  <a:pt x="16123" y="14709"/>
                </a:cubicBezTo>
                <a:cubicBezTo>
                  <a:pt x="16088" y="14797"/>
                  <a:pt x="16052" y="14852"/>
                  <a:pt x="15999" y="14932"/>
                </a:cubicBezTo>
              </a:path>
              <a:path w="6400" h="2109">
                <a:moveTo>
                  <a:pt x="11361" y="13891"/>
                </a:moveTo>
                <a:cubicBezTo>
                  <a:pt x="11361" y="13959"/>
                  <a:pt x="11355" y="14008"/>
                  <a:pt x="11336" y="14064"/>
                </a:cubicBezTo>
                <a:cubicBezTo>
                  <a:pt x="11322" y="14105"/>
                  <a:pt x="11298" y="14142"/>
                  <a:pt x="11286" y="14188"/>
                </a:cubicBezTo>
                <a:cubicBezTo>
                  <a:pt x="11268" y="14259"/>
                  <a:pt x="11343" y="14263"/>
                  <a:pt x="11361" y="14288"/>
                </a:cubicBezTo>
                <a:cubicBezTo>
                  <a:pt x="11396" y="14338"/>
                  <a:pt x="11426" y="14287"/>
                  <a:pt x="11485" y="14312"/>
                </a:cubicBezTo>
                <a:cubicBezTo>
                  <a:pt x="11538" y="14334"/>
                  <a:pt x="11530" y="14345"/>
                  <a:pt x="11584" y="14312"/>
                </a:cubicBezTo>
              </a:path>
              <a:path w="6400" h="2109">
                <a:moveTo>
                  <a:pt x="11708" y="13791"/>
                </a:moveTo>
                <a:cubicBezTo>
                  <a:pt x="11698" y="13840"/>
                  <a:pt x="11665" y="13892"/>
                  <a:pt x="11658" y="13940"/>
                </a:cubicBezTo>
                <a:cubicBezTo>
                  <a:pt x="11647" y="14024"/>
                  <a:pt x="11633" y="14103"/>
                  <a:pt x="11633" y="14188"/>
                </a:cubicBezTo>
                <a:cubicBezTo>
                  <a:pt x="11633" y="14251"/>
                  <a:pt x="11604" y="14468"/>
                  <a:pt x="11658" y="14486"/>
                </a:cubicBezTo>
              </a:path>
              <a:path w="6400" h="2109">
                <a:moveTo>
                  <a:pt x="11832" y="14015"/>
                </a:moveTo>
                <a:cubicBezTo>
                  <a:pt x="11762" y="14215"/>
                  <a:pt x="11745" y="14202"/>
                  <a:pt x="11782" y="14362"/>
                </a:cubicBezTo>
                <a:cubicBezTo>
                  <a:pt x="11788" y="14390"/>
                  <a:pt x="11839" y="14496"/>
                  <a:pt x="11881" y="14486"/>
                </a:cubicBezTo>
                <a:cubicBezTo>
                  <a:pt x="11918" y="14478"/>
                  <a:pt x="11979" y="14452"/>
                  <a:pt x="12005" y="14412"/>
                </a:cubicBezTo>
                <a:cubicBezTo>
                  <a:pt x="12043" y="14353"/>
                  <a:pt x="12078" y="14310"/>
                  <a:pt x="12080" y="14238"/>
                </a:cubicBezTo>
                <a:cubicBezTo>
                  <a:pt x="12082" y="14159"/>
                  <a:pt x="12099" y="14037"/>
                  <a:pt x="12055" y="13965"/>
                </a:cubicBezTo>
                <a:cubicBezTo>
                  <a:pt x="12034" y="13931"/>
                  <a:pt x="11992" y="13895"/>
                  <a:pt x="11956" y="13891"/>
                </a:cubicBezTo>
                <a:cubicBezTo>
                  <a:pt x="11887" y="13884"/>
                  <a:pt x="11894" y="13915"/>
                  <a:pt x="11857" y="13965"/>
                </a:cubicBezTo>
                <a:cubicBezTo>
                  <a:pt x="11849" y="13973"/>
                  <a:pt x="11840" y="13982"/>
                  <a:pt x="11832" y="13990"/>
                </a:cubicBezTo>
              </a:path>
              <a:path w="6400" h="2109">
                <a:moveTo>
                  <a:pt x="11385" y="14560"/>
                </a:moveTo>
                <a:cubicBezTo>
                  <a:pt x="11447" y="14548"/>
                  <a:pt x="11493" y="14536"/>
                  <a:pt x="11559" y="14536"/>
                </a:cubicBezTo>
                <a:cubicBezTo>
                  <a:pt x="11749" y="14536"/>
                  <a:pt x="12270" y="14536"/>
                  <a:pt x="12080" y="14536"/>
                </a:cubicBezTo>
              </a:path>
              <a:path w="6400" h="2109">
                <a:moveTo>
                  <a:pt x="11609" y="14808"/>
                </a:moveTo>
                <a:cubicBezTo>
                  <a:pt x="11553" y="14808"/>
                  <a:pt x="11639" y="14786"/>
                  <a:pt x="11658" y="14784"/>
                </a:cubicBezTo>
                <a:cubicBezTo>
                  <a:pt x="11701" y="14779"/>
                  <a:pt x="11783" y="14769"/>
                  <a:pt x="11807" y="14808"/>
                </a:cubicBezTo>
                <a:cubicBezTo>
                  <a:pt x="11831" y="14847"/>
                  <a:pt x="11841" y="14871"/>
                  <a:pt x="11807" y="14908"/>
                </a:cubicBezTo>
                <a:cubicBezTo>
                  <a:pt x="11753" y="14967"/>
                  <a:pt x="11718" y="14977"/>
                  <a:pt x="11658" y="15007"/>
                </a:cubicBezTo>
                <a:cubicBezTo>
                  <a:pt x="11625" y="15023"/>
                  <a:pt x="11523" y="15032"/>
                  <a:pt x="11559" y="15032"/>
                </a:cubicBezTo>
                <a:cubicBezTo>
                  <a:pt x="11607" y="15032"/>
                  <a:pt x="11610" y="15001"/>
                  <a:pt x="11658" y="15032"/>
                </a:cubicBezTo>
                <a:cubicBezTo>
                  <a:pt x="11699" y="15058"/>
                  <a:pt x="11754" y="15088"/>
                  <a:pt x="11782" y="15131"/>
                </a:cubicBezTo>
                <a:cubicBezTo>
                  <a:pt x="11822" y="15193"/>
                  <a:pt x="11817" y="15276"/>
                  <a:pt x="11807" y="15329"/>
                </a:cubicBezTo>
                <a:cubicBezTo>
                  <a:pt x="11798" y="15377"/>
                  <a:pt x="11758" y="15412"/>
                  <a:pt x="11708" y="15429"/>
                </a:cubicBezTo>
                <a:cubicBezTo>
                  <a:pt x="11640" y="15452"/>
                  <a:pt x="11617" y="15440"/>
                  <a:pt x="11559" y="15429"/>
                </a:cubicBezTo>
                <a:cubicBezTo>
                  <a:pt x="11499" y="15417"/>
                  <a:pt x="11459" y="15420"/>
                  <a:pt x="11435" y="15354"/>
                </a:cubicBezTo>
                <a:cubicBezTo>
                  <a:pt x="11435" y="15346"/>
                  <a:pt x="11435" y="15337"/>
                  <a:pt x="11435" y="15329"/>
                </a:cubicBezTo>
              </a:path>
              <a:path w="6400" h="2109">
                <a:moveTo>
                  <a:pt x="12055" y="14858"/>
                </a:moveTo>
                <a:cubicBezTo>
                  <a:pt x="12034" y="14948"/>
                  <a:pt x="12009" y="15047"/>
                  <a:pt x="11981" y="15131"/>
                </a:cubicBezTo>
                <a:cubicBezTo>
                  <a:pt x="11954" y="15210"/>
                  <a:pt x="11940" y="15271"/>
                  <a:pt x="11981" y="15354"/>
                </a:cubicBezTo>
                <a:cubicBezTo>
                  <a:pt x="11990" y="15371"/>
                  <a:pt x="12065" y="15432"/>
                  <a:pt x="12080" y="15429"/>
                </a:cubicBezTo>
                <a:cubicBezTo>
                  <a:pt x="12113" y="15422"/>
                  <a:pt x="12154" y="15379"/>
                  <a:pt x="12179" y="15354"/>
                </a:cubicBezTo>
                <a:cubicBezTo>
                  <a:pt x="12224" y="15309"/>
                  <a:pt x="12244" y="15259"/>
                  <a:pt x="12254" y="15205"/>
                </a:cubicBezTo>
                <a:cubicBezTo>
                  <a:pt x="12264" y="15153"/>
                  <a:pt x="12256" y="15141"/>
                  <a:pt x="12229" y="15106"/>
                </a:cubicBezTo>
                <a:cubicBezTo>
                  <a:pt x="12177" y="15119"/>
                  <a:pt x="12188" y="15143"/>
                  <a:pt x="12154" y="15180"/>
                </a:cubicBezTo>
                <a:cubicBezTo>
                  <a:pt x="12128" y="15208"/>
                  <a:pt x="12107" y="15290"/>
                  <a:pt x="12129" y="15329"/>
                </a:cubicBezTo>
                <a:cubicBezTo>
                  <a:pt x="12152" y="15352"/>
                  <a:pt x="12160" y="15356"/>
                  <a:pt x="12154" y="15379"/>
                </a:cubicBezTo>
              </a:path>
              <a:path w="6400" h="2109">
                <a:moveTo>
                  <a:pt x="12502" y="15007"/>
                </a:moveTo>
                <a:cubicBezTo>
                  <a:pt x="12450" y="15094"/>
                  <a:pt x="12373" y="15200"/>
                  <a:pt x="12353" y="15304"/>
                </a:cubicBezTo>
                <a:cubicBezTo>
                  <a:pt x="12341" y="15365"/>
                  <a:pt x="12368" y="15428"/>
                  <a:pt x="12402" y="15478"/>
                </a:cubicBezTo>
                <a:cubicBezTo>
                  <a:pt x="12442" y="15537"/>
                  <a:pt x="12519" y="15559"/>
                  <a:pt x="12576" y="15528"/>
                </a:cubicBezTo>
                <a:cubicBezTo>
                  <a:pt x="12624" y="15502"/>
                  <a:pt x="12647" y="15425"/>
                  <a:pt x="12650" y="15379"/>
                </a:cubicBezTo>
                <a:cubicBezTo>
                  <a:pt x="12655" y="15284"/>
                  <a:pt x="12641" y="15250"/>
                  <a:pt x="12576" y="15180"/>
                </a:cubicBezTo>
                <a:cubicBezTo>
                  <a:pt x="12520" y="15120"/>
                  <a:pt x="12460" y="15064"/>
                  <a:pt x="12402" y="15007"/>
                </a:cubicBezTo>
              </a:path>
              <a:path w="6400" h="2109">
                <a:moveTo>
                  <a:pt x="11385" y="13643"/>
                </a:moveTo>
                <a:cubicBezTo>
                  <a:pt x="11320" y="13732"/>
                  <a:pt x="11257" y="13814"/>
                  <a:pt x="11212" y="13915"/>
                </a:cubicBezTo>
                <a:cubicBezTo>
                  <a:pt x="11158" y="14038"/>
                  <a:pt x="11120" y="14157"/>
                  <a:pt x="11088" y="14288"/>
                </a:cubicBezTo>
                <a:cubicBezTo>
                  <a:pt x="11056" y="14416"/>
                  <a:pt x="11006" y="14577"/>
                  <a:pt x="11013" y="14709"/>
                </a:cubicBezTo>
                <a:cubicBezTo>
                  <a:pt x="11024" y="14915"/>
                  <a:pt x="11121" y="15181"/>
                  <a:pt x="11261" y="15329"/>
                </a:cubicBezTo>
                <a:cubicBezTo>
                  <a:pt x="11357" y="15401"/>
                  <a:pt x="11386" y="15424"/>
                  <a:pt x="11460" y="15453"/>
                </a:cubicBezTo>
              </a:path>
              <a:path w="6400" h="2109">
                <a:moveTo>
                  <a:pt x="12278" y="13643"/>
                </a:moveTo>
                <a:cubicBezTo>
                  <a:pt x="12338" y="13658"/>
                  <a:pt x="12363" y="13675"/>
                  <a:pt x="12427" y="13767"/>
                </a:cubicBezTo>
                <a:cubicBezTo>
                  <a:pt x="12513" y="13891"/>
                  <a:pt x="12548" y="14023"/>
                  <a:pt x="12601" y="14163"/>
                </a:cubicBezTo>
                <a:cubicBezTo>
                  <a:pt x="12666" y="14333"/>
                  <a:pt x="12694" y="14505"/>
                  <a:pt x="12725" y="14684"/>
                </a:cubicBezTo>
                <a:cubicBezTo>
                  <a:pt x="12756" y="14865"/>
                  <a:pt x="12757" y="15027"/>
                  <a:pt x="12750" y="15205"/>
                </a:cubicBezTo>
                <a:cubicBezTo>
                  <a:pt x="12743" y="15383"/>
                  <a:pt x="12742" y="15506"/>
                  <a:pt x="12650" y="15652"/>
                </a:cubicBezTo>
                <a:cubicBezTo>
                  <a:pt x="12629" y="15695"/>
                  <a:pt x="12625" y="15707"/>
                  <a:pt x="12601" y="157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4760" y="5589720"/>
            <a:ext cx="1536480" cy="411120"/>
          </a:xfrm>
          <a:custGeom>
            <a:avLst/>
            <a:gdLst/>
            <a:ahLst/>
            <a:rect l="l" t="t" r="r" b="b"/>
            <a:pathLst>
              <a:path w="4268" h="1142">
                <a:moveTo>
                  <a:pt x="4291" y="16024"/>
                </a:moveTo>
                <a:cubicBezTo>
                  <a:pt x="4300" y="16094"/>
                  <a:pt x="4316" y="16149"/>
                  <a:pt x="4316" y="16222"/>
                </a:cubicBezTo>
                <a:cubicBezTo>
                  <a:pt x="4316" y="16274"/>
                  <a:pt x="4341" y="16423"/>
                  <a:pt x="4341" y="16371"/>
                </a:cubicBezTo>
                <a:cubicBezTo>
                  <a:pt x="4341" y="16317"/>
                  <a:pt x="4319" y="16302"/>
                  <a:pt x="4316" y="16247"/>
                </a:cubicBezTo>
                <a:cubicBezTo>
                  <a:pt x="4308" y="16106"/>
                  <a:pt x="4279" y="15880"/>
                  <a:pt x="4366" y="15776"/>
                </a:cubicBezTo>
                <a:cubicBezTo>
                  <a:pt x="4406" y="15728"/>
                  <a:pt x="4417" y="15743"/>
                  <a:pt x="4465" y="15726"/>
                </a:cubicBezTo>
                <a:cubicBezTo>
                  <a:pt x="4533" y="15701"/>
                  <a:pt x="4550" y="15688"/>
                  <a:pt x="4614" y="15726"/>
                </a:cubicBezTo>
              </a:path>
              <a:path w="4268" h="1142">
                <a:moveTo>
                  <a:pt x="4762" y="15900"/>
                </a:moveTo>
                <a:cubicBezTo>
                  <a:pt x="4826" y="15924"/>
                  <a:pt x="4867" y="15925"/>
                  <a:pt x="4936" y="15925"/>
                </a:cubicBezTo>
                <a:cubicBezTo>
                  <a:pt x="4961" y="15925"/>
                  <a:pt x="4986" y="15925"/>
                  <a:pt x="5011" y="15925"/>
                </a:cubicBezTo>
              </a:path>
              <a:path w="4268" h="1142">
                <a:moveTo>
                  <a:pt x="4762" y="16148"/>
                </a:moveTo>
                <a:cubicBezTo>
                  <a:pt x="4823" y="16182"/>
                  <a:pt x="4841" y="16197"/>
                  <a:pt x="4911" y="16197"/>
                </a:cubicBezTo>
                <a:cubicBezTo>
                  <a:pt x="4958" y="16197"/>
                  <a:pt x="4973" y="16195"/>
                  <a:pt x="5011" y="16173"/>
                </a:cubicBezTo>
              </a:path>
              <a:path w="4268" h="1142">
                <a:moveTo>
                  <a:pt x="5457" y="15751"/>
                </a:moveTo>
                <a:cubicBezTo>
                  <a:pt x="5439" y="15795"/>
                  <a:pt x="5388" y="15857"/>
                  <a:pt x="5383" y="15900"/>
                </a:cubicBezTo>
                <a:cubicBezTo>
                  <a:pt x="5377" y="15956"/>
                  <a:pt x="5338" y="15947"/>
                  <a:pt x="5383" y="15999"/>
                </a:cubicBezTo>
                <a:cubicBezTo>
                  <a:pt x="5424" y="16046"/>
                  <a:pt x="5446" y="16073"/>
                  <a:pt x="5507" y="16073"/>
                </a:cubicBezTo>
                <a:cubicBezTo>
                  <a:pt x="5540" y="16073"/>
                  <a:pt x="5573" y="16073"/>
                  <a:pt x="5606" y="16073"/>
                </a:cubicBezTo>
              </a:path>
              <a:path w="4268" h="1142">
                <a:moveTo>
                  <a:pt x="5705" y="15701"/>
                </a:moveTo>
                <a:cubicBezTo>
                  <a:pt x="5679" y="15736"/>
                  <a:pt x="5658" y="15777"/>
                  <a:pt x="5655" y="15825"/>
                </a:cubicBezTo>
                <a:cubicBezTo>
                  <a:pt x="5649" y="15911"/>
                  <a:pt x="5631" y="15985"/>
                  <a:pt x="5631" y="16073"/>
                </a:cubicBezTo>
                <a:cubicBezTo>
                  <a:pt x="5631" y="16154"/>
                  <a:pt x="5646" y="16222"/>
                  <a:pt x="5655" y="16297"/>
                </a:cubicBezTo>
                <a:cubicBezTo>
                  <a:pt x="5664" y="16367"/>
                  <a:pt x="5664" y="16409"/>
                  <a:pt x="5680" y="16446"/>
                </a:cubicBezTo>
                <a:cubicBezTo>
                  <a:pt x="5680" y="16470"/>
                  <a:pt x="5680" y="16478"/>
                  <a:pt x="5680" y="16446"/>
                </a:cubicBezTo>
              </a:path>
              <a:path w="4268" h="1142">
                <a:moveTo>
                  <a:pt x="5879" y="15875"/>
                </a:moveTo>
                <a:cubicBezTo>
                  <a:pt x="5926" y="15843"/>
                  <a:pt x="6003" y="15765"/>
                  <a:pt x="6077" y="15801"/>
                </a:cubicBezTo>
                <a:cubicBezTo>
                  <a:pt x="6101" y="15813"/>
                  <a:pt x="6167" y="15843"/>
                  <a:pt x="6176" y="15875"/>
                </a:cubicBezTo>
                <a:cubicBezTo>
                  <a:pt x="6192" y="15934"/>
                  <a:pt x="6164" y="15983"/>
                  <a:pt x="6127" y="16024"/>
                </a:cubicBezTo>
                <a:cubicBezTo>
                  <a:pt x="6093" y="16062"/>
                  <a:pt x="6052" y="16106"/>
                  <a:pt x="6003" y="16123"/>
                </a:cubicBezTo>
                <a:cubicBezTo>
                  <a:pt x="5965" y="16136"/>
                  <a:pt x="5982" y="16148"/>
                  <a:pt x="5928" y="16148"/>
                </a:cubicBezTo>
                <a:cubicBezTo>
                  <a:pt x="5971" y="16116"/>
                  <a:pt x="5996" y="16103"/>
                  <a:pt x="6052" y="16098"/>
                </a:cubicBezTo>
                <a:cubicBezTo>
                  <a:pt x="6104" y="16094"/>
                  <a:pt x="6117" y="16112"/>
                  <a:pt x="6152" y="16148"/>
                </a:cubicBezTo>
                <a:cubicBezTo>
                  <a:pt x="6188" y="16185"/>
                  <a:pt x="6217" y="16219"/>
                  <a:pt x="6226" y="16272"/>
                </a:cubicBezTo>
                <a:cubicBezTo>
                  <a:pt x="6235" y="16323"/>
                  <a:pt x="6231" y="16383"/>
                  <a:pt x="6201" y="16421"/>
                </a:cubicBezTo>
                <a:cubicBezTo>
                  <a:pt x="6160" y="16472"/>
                  <a:pt x="6179" y="16489"/>
                  <a:pt x="6102" y="16495"/>
                </a:cubicBezTo>
                <a:cubicBezTo>
                  <a:pt x="6051" y="16499"/>
                  <a:pt x="6043" y="16483"/>
                  <a:pt x="6003" y="16470"/>
                </a:cubicBezTo>
                <a:cubicBezTo>
                  <a:pt x="5971" y="16459"/>
                  <a:pt x="5963" y="16437"/>
                  <a:pt x="5953" y="16396"/>
                </a:cubicBezTo>
              </a:path>
              <a:path w="4268" h="1142">
                <a:moveTo>
                  <a:pt x="6648" y="15825"/>
                </a:moveTo>
                <a:cubicBezTo>
                  <a:pt x="6618" y="15782"/>
                  <a:pt x="6603" y="15757"/>
                  <a:pt x="6548" y="15751"/>
                </a:cubicBezTo>
                <a:cubicBezTo>
                  <a:pt x="6489" y="15744"/>
                  <a:pt x="6477" y="15809"/>
                  <a:pt x="6474" y="15850"/>
                </a:cubicBezTo>
                <a:cubicBezTo>
                  <a:pt x="6468" y="15922"/>
                  <a:pt x="6523" y="15985"/>
                  <a:pt x="6548" y="16049"/>
                </a:cubicBezTo>
                <a:cubicBezTo>
                  <a:pt x="6586" y="16147"/>
                  <a:pt x="6575" y="16226"/>
                  <a:pt x="6598" y="16321"/>
                </a:cubicBezTo>
                <a:cubicBezTo>
                  <a:pt x="6613" y="16383"/>
                  <a:pt x="6635" y="16415"/>
                  <a:pt x="6598" y="16470"/>
                </a:cubicBezTo>
                <a:cubicBezTo>
                  <a:pt x="6572" y="16509"/>
                  <a:pt x="6527" y="16517"/>
                  <a:pt x="6499" y="16495"/>
                </a:cubicBezTo>
                <a:cubicBezTo>
                  <a:pt x="6458" y="16463"/>
                  <a:pt x="6449" y="16445"/>
                  <a:pt x="6449" y="16396"/>
                </a:cubicBezTo>
                <a:cubicBezTo>
                  <a:pt x="6449" y="16357"/>
                  <a:pt x="6476" y="16281"/>
                  <a:pt x="6499" y="16247"/>
                </a:cubicBezTo>
                <a:cubicBezTo>
                  <a:pt x="6529" y="16201"/>
                  <a:pt x="6559" y="16109"/>
                  <a:pt x="6598" y="16073"/>
                </a:cubicBezTo>
                <a:cubicBezTo>
                  <a:pt x="6637" y="16037"/>
                  <a:pt x="6662" y="16018"/>
                  <a:pt x="6697" y="15974"/>
                </a:cubicBezTo>
              </a:path>
              <a:path w="4268" h="1142">
                <a:moveTo>
                  <a:pt x="6896" y="15776"/>
                </a:moveTo>
                <a:cubicBezTo>
                  <a:pt x="6876" y="15841"/>
                  <a:pt x="6866" y="15913"/>
                  <a:pt x="6846" y="15974"/>
                </a:cubicBezTo>
                <a:cubicBezTo>
                  <a:pt x="6813" y="16071"/>
                  <a:pt x="6791" y="16172"/>
                  <a:pt x="6821" y="16272"/>
                </a:cubicBezTo>
                <a:cubicBezTo>
                  <a:pt x="6834" y="16315"/>
                  <a:pt x="6887" y="16417"/>
                  <a:pt x="6921" y="16446"/>
                </a:cubicBezTo>
                <a:cubicBezTo>
                  <a:pt x="6939" y="16462"/>
                  <a:pt x="7048" y="16503"/>
                  <a:pt x="7069" y="16495"/>
                </a:cubicBezTo>
                <a:cubicBezTo>
                  <a:pt x="7095" y="16484"/>
                  <a:pt x="7155" y="16451"/>
                  <a:pt x="7169" y="16421"/>
                </a:cubicBezTo>
                <a:cubicBezTo>
                  <a:pt x="7198" y="16359"/>
                  <a:pt x="7193" y="16311"/>
                  <a:pt x="7193" y="16247"/>
                </a:cubicBezTo>
                <a:cubicBezTo>
                  <a:pt x="7193" y="16220"/>
                  <a:pt x="7169" y="16200"/>
                  <a:pt x="7144" y="16197"/>
                </a:cubicBezTo>
                <a:cubicBezTo>
                  <a:pt x="7066" y="16187"/>
                  <a:pt x="7065" y="16247"/>
                  <a:pt x="7045" y="16297"/>
                </a:cubicBezTo>
                <a:cubicBezTo>
                  <a:pt x="7014" y="16373"/>
                  <a:pt x="7020" y="16436"/>
                  <a:pt x="7020" y="16520"/>
                </a:cubicBezTo>
              </a:path>
              <a:path w="4268" h="1142">
                <a:moveTo>
                  <a:pt x="7838" y="15726"/>
                </a:moveTo>
                <a:cubicBezTo>
                  <a:pt x="7838" y="15661"/>
                  <a:pt x="7830" y="15653"/>
                  <a:pt x="7813" y="15602"/>
                </a:cubicBezTo>
                <a:cubicBezTo>
                  <a:pt x="7805" y="15577"/>
                  <a:pt x="7776" y="15534"/>
                  <a:pt x="7764" y="15528"/>
                </a:cubicBezTo>
                <a:cubicBezTo>
                  <a:pt x="7736" y="15514"/>
                  <a:pt x="7655" y="15524"/>
                  <a:pt x="7640" y="15553"/>
                </a:cubicBezTo>
                <a:cubicBezTo>
                  <a:pt x="7614" y="15604"/>
                  <a:pt x="7604" y="15671"/>
                  <a:pt x="7590" y="15726"/>
                </a:cubicBezTo>
                <a:cubicBezTo>
                  <a:pt x="7563" y="15830"/>
                  <a:pt x="7545" y="15964"/>
                  <a:pt x="7565" y="16073"/>
                </a:cubicBezTo>
                <a:cubicBezTo>
                  <a:pt x="7584" y="16176"/>
                  <a:pt x="7590" y="16264"/>
                  <a:pt x="7590" y="16371"/>
                </a:cubicBezTo>
                <a:cubicBezTo>
                  <a:pt x="7590" y="16397"/>
                  <a:pt x="7608" y="16567"/>
                  <a:pt x="7565" y="16545"/>
                </a:cubicBezTo>
                <a:cubicBezTo>
                  <a:pt x="7541" y="16520"/>
                  <a:pt x="7533" y="16511"/>
                  <a:pt x="7516" y="16495"/>
                </a:cubicBezTo>
              </a:path>
              <a:path w="4268" h="1142">
                <a:moveTo>
                  <a:pt x="7392" y="16222"/>
                </a:moveTo>
                <a:cubicBezTo>
                  <a:pt x="7473" y="16181"/>
                  <a:pt x="7524" y="16152"/>
                  <a:pt x="7615" y="16148"/>
                </a:cubicBezTo>
                <a:cubicBezTo>
                  <a:pt x="7667" y="16148"/>
                  <a:pt x="7685" y="16147"/>
                  <a:pt x="7714" y="16123"/>
                </a:cubicBezTo>
              </a:path>
              <a:path w="4268" h="1142">
                <a:moveTo>
                  <a:pt x="8037" y="15925"/>
                </a:moveTo>
                <a:cubicBezTo>
                  <a:pt x="8066" y="16002"/>
                  <a:pt x="8068" y="16069"/>
                  <a:pt x="8086" y="16148"/>
                </a:cubicBezTo>
                <a:cubicBezTo>
                  <a:pt x="8109" y="16248"/>
                  <a:pt x="8132" y="16343"/>
                  <a:pt x="8136" y="16446"/>
                </a:cubicBezTo>
                <a:cubicBezTo>
                  <a:pt x="8137" y="16474"/>
                  <a:pt x="8184" y="16621"/>
                  <a:pt x="8161" y="16644"/>
                </a:cubicBezTo>
                <a:cubicBezTo>
                  <a:pt x="8103" y="16702"/>
                  <a:pt x="8068" y="16619"/>
                  <a:pt x="8037" y="16570"/>
                </a:cubicBezTo>
              </a:path>
              <a:path w="4268" h="1142">
                <a:moveTo>
                  <a:pt x="7764" y="16222"/>
                </a:moveTo>
                <a:cubicBezTo>
                  <a:pt x="7858" y="16128"/>
                  <a:pt x="7897" y="16148"/>
                  <a:pt x="8037" y="16148"/>
                </a:cubicBezTo>
                <a:cubicBezTo>
                  <a:pt x="8223" y="16148"/>
                  <a:pt x="8368" y="16168"/>
                  <a:pt x="8558" y="161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67080" y="5670720"/>
            <a:ext cx="392040" cy="295200"/>
          </a:xfrm>
          <a:custGeom>
            <a:avLst/>
            <a:gdLst/>
            <a:ahLst/>
            <a:rect l="l" t="t" r="r" b="b"/>
            <a:pathLst>
              <a:path w="1093" h="820">
                <a:moveTo>
                  <a:pt x="10046" y="16123"/>
                </a:moveTo>
                <a:cubicBezTo>
                  <a:pt x="10178" y="16123"/>
                  <a:pt x="10311" y="16123"/>
                  <a:pt x="10443" y="16123"/>
                </a:cubicBezTo>
              </a:path>
              <a:path w="1093" h="820">
                <a:moveTo>
                  <a:pt x="9996" y="16470"/>
                </a:moveTo>
                <a:cubicBezTo>
                  <a:pt x="10037" y="16495"/>
                  <a:pt x="10084" y="16475"/>
                  <a:pt x="10120" y="16495"/>
                </a:cubicBezTo>
                <a:cubicBezTo>
                  <a:pt x="10178" y="16528"/>
                  <a:pt x="10219" y="16520"/>
                  <a:pt x="10294" y="16520"/>
                </a:cubicBezTo>
                <a:cubicBezTo>
                  <a:pt x="10311" y="16520"/>
                  <a:pt x="10327" y="16520"/>
                  <a:pt x="10344" y="16520"/>
                </a:cubicBezTo>
              </a:path>
              <a:path w="1093" h="820">
                <a:moveTo>
                  <a:pt x="9699" y="15825"/>
                </a:moveTo>
                <a:cubicBezTo>
                  <a:pt x="9680" y="15888"/>
                  <a:pt x="9678" y="15962"/>
                  <a:pt x="9649" y="15875"/>
                </a:cubicBezTo>
                <a:cubicBezTo>
                  <a:pt x="9626" y="15806"/>
                  <a:pt x="9577" y="15781"/>
                  <a:pt x="9500" y="15751"/>
                </a:cubicBezTo>
                <a:cubicBezTo>
                  <a:pt x="9453" y="15733"/>
                  <a:pt x="9407" y="15774"/>
                  <a:pt x="9376" y="15801"/>
                </a:cubicBezTo>
                <a:cubicBezTo>
                  <a:pt x="9355" y="15819"/>
                  <a:pt x="9334" y="15870"/>
                  <a:pt x="9351" y="15900"/>
                </a:cubicBezTo>
                <a:cubicBezTo>
                  <a:pt x="9375" y="15943"/>
                  <a:pt x="9421" y="16010"/>
                  <a:pt x="9451" y="16049"/>
                </a:cubicBezTo>
                <a:cubicBezTo>
                  <a:pt x="9504" y="16117"/>
                  <a:pt x="9543" y="16184"/>
                  <a:pt x="9599" y="16247"/>
                </a:cubicBezTo>
                <a:cubicBezTo>
                  <a:pt x="9660" y="16316"/>
                  <a:pt x="9701" y="16403"/>
                  <a:pt x="9723" y="16495"/>
                </a:cubicBezTo>
                <a:cubicBezTo>
                  <a:pt x="9734" y="16539"/>
                  <a:pt x="9717" y="16567"/>
                  <a:pt x="9674" y="16570"/>
                </a:cubicBezTo>
                <a:cubicBezTo>
                  <a:pt x="9611" y="16575"/>
                  <a:pt x="9576" y="16560"/>
                  <a:pt x="9525" y="16545"/>
                </a:cubicBezTo>
                <a:cubicBezTo>
                  <a:pt x="9488" y="16534"/>
                  <a:pt x="9461" y="16507"/>
                  <a:pt x="9426" y="16495"/>
                </a:cubicBezTo>
                <a:cubicBezTo>
                  <a:pt x="9380" y="16480"/>
                  <a:pt x="9376" y="16476"/>
                  <a:pt x="9376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19680" y="5724360"/>
            <a:ext cx="876240" cy="330480"/>
          </a:xfrm>
          <a:custGeom>
            <a:avLst/>
            <a:gdLst/>
            <a:ahLst/>
            <a:rect l="l" t="t" r="r" b="b"/>
            <a:pathLst>
              <a:path w="2432" h="919">
                <a:moveTo>
                  <a:pt x="10988" y="15925"/>
                </a:moveTo>
                <a:cubicBezTo>
                  <a:pt x="10988" y="15897"/>
                  <a:pt x="10986" y="15891"/>
                  <a:pt x="10964" y="15925"/>
                </a:cubicBezTo>
                <a:cubicBezTo>
                  <a:pt x="11025" y="15887"/>
                  <a:pt x="11069" y="15895"/>
                  <a:pt x="11137" y="15925"/>
                </a:cubicBezTo>
                <a:cubicBezTo>
                  <a:pt x="11188" y="15947"/>
                  <a:pt x="11286" y="15972"/>
                  <a:pt x="11261" y="16049"/>
                </a:cubicBezTo>
                <a:cubicBezTo>
                  <a:pt x="11242" y="16107"/>
                  <a:pt x="11170" y="16129"/>
                  <a:pt x="11137" y="16148"/>
                </a:cubicBezTo>
                <a:cubicBezTo>
                  <a:pt x="11098" y="16171"/>
                  <a:pt x="11109" y="16173"/>
                  <a:pt x="11063" y="16173"/>
                </a:cubicBezTo>
                <a:cubicBezTo>
                  <a:pt x="11144" y="16183"/>
                  <a:pt x="11177" y="16191"/>
                  <a:pt x="11237" y="16247"/>
                </a:cubicBezTo>
                <a:cubicBezTo>
                  <a:pt x="11269" y="16277"/>
                  <a:pt x="11275" y="16353"/>
                  <a:pt x="11261" y="16396"/>
                </a:cubicBezTo>
                <a:cubicBezTo>
                  <a:pt x="11251" y="16426"/>
                  <a:pt x="11198" y="16510"/>
                  <a:pt x="11162" y="16520"/>
                </a:cubicBezTo>
                <a:cubicBezTo>
                  <a:pt x="11113" y="16534"/>
                  <a:pt x="11022" y="16523"/>
                  <a:pt x="10988" y="16495"/>
                </a:cubicBezTo>
                <a:cubicBezTo>
                  <a:pt x="10959" y="16471"/>
                  <a:pt x="10907" y="16461"/>
                  <a:pt x="10889" y="16421"/>
                </a:cubicBezTo>
                <a:cubicBezTo>
                  <a:pt x="10889" y="16413"/>
                  <a:pt x="10889" y="16404"/>
                  <a:pt x="10889" y="16396"/>
                </a:cubicBezTo>
              </a:path>
              <a:path w="2432" h="919">
                <a:moveTo>
                  <a:pt x="11733" y="16024"/>
                </a:moveTo>
                <a:cubicBezTo>
                  <a:pt x="11710" y="16080"/>
                  <a:pt x="11656" y="16126"/>
                  <a:pt x="11609" y="16173"/>
                </a:cubicBezTo>
                <a:cubicBezTo>
                  <a:pt x="11547" y="16234"/>
                  <a:pt x="11528" y="16326"/>
                  <a:pt x="11609" y="16396"/>
                </a:cubicBezTo>
                <a:cubicBezTo>
                  <a:pt x="11660" y="16441"/>
                  <a:pt x="11765" y="16482"/>
                  <a:pt x="11832" y="16470"/>
                </a:cubicBezTo>
                <a:cubicBezTo>
                  <a:pt x="11913" y="16455"/>
                  <a:pt x="11990" y="16385"/>
                  <a:pt x="12030" y="16321"/>
                </a:cubicBezTo>
                <a:cubicBezTo>
                  <a:pt x="12062" y="16269"/>
                  <a:pt x="12072" y="16160"/>
                  <a:pt x="12055" y="16098"/>
                </a:cubicBezTo>
                <a:cubicBezTo>
                  <a:pt x="12041" y="16050"/>
                  <a:pt x="11956" y="15986"/>
                  <a:pt x="11906" y="15974"/>
                </a:cubicBezTo>
                <a:cubicBezTo>
                  <a:pt x="11851" y="15961"/>
                  <a:pt x="11756" y="15967"/>
                  <a:pt x="11708" y="15999"/>
                </a:cubicBezTo>
                <a:cubicBezTo>
                  <a:pt x="11662" y="16030"/>
                  <a:pt x="11669" y="16095"/>
                  <a:pt x="11683" y="16123"/>
                </a:cubicBezTo>
              </a:path>
              <a:path w="2432" h="919">
                <a:moveTo>
                  <a:pt x="12452" y="16049"/>
                </a:moveTo>
                <a:cubicBezTo>
                  <a:pt x="12424" y="16132"/>
                  <a:pt x="12376" y="16155"/>
                  <a:pt x="12328" y="16222"/>
                </a:cubicBezTo>
                <a:cubicBezTo>
                  <a:pt x="12301" y="16260"/>
                  <a:pt x="12286" y="16351"/>
                  <a:pt x="12303" y="16396"/>
                </a:cubicBezTo>
                <a:cubicBezTo>
                  <a:pt x="12320" y="16440"/>
                  <a:pt x="12410" y="16508"/>
                  <a:pt x="12452" y="16520"/>
                </a:cubicBezTo>
                <a:cubicBezTo>
                  <a:pt x="12518" y="16538"/>
                  <a:pt x="12568" y="16510"/>
                  <a:pt x="12626" y="16495"/>
                </a:cubicBezTo>
                <a:cubicBezTo>
                  <a:pt x="12666" y="16485"/>
                  <a:pt x="12684" y="16456"/>
                  <a:pt x="12725" y="16446"/>
                </a:cubicBezTo>
                <a:cubicBezTo>
                  <a:pt x="12716" y="16420"/>
                  <a:pt x="12699" y="16378"/>
                  <a:pt x="12650" y="16396"/>
                </a:cubicBezTo>
                <a:cubicBezTo>
                  <a:pt x="12603" y="16414"/>
                  <a:pt x="12548" y="16472"/>
                  <a:pt x="12526" y="16520"/>
                </a:cubicBezTo>
                <a:cubicBezTo>
                  <a:pt x="12494" y="16590"/>
                  <a:pt x="12510" y="16624"/>
                  <a:pt x="12526" y="16694"/>
                </a:cubicBezTo>
                <a:cubicBezTo>
                  <a:pt x="12526" y="16702"/>
                  <a:pt x="12526" y="16710"/>
                  <a:pt x="12526" y="16718"/>
                </a:cubicBezTo>
              </a:path>
              <a:path w="2432" h="919">
                <a:moveTo>
                  <a:pt x="12998" y="16148"/>
                </a:moveTo>
                <a:cubicBezTo>
                  <a:pt x="13141" y="16117"/>
                  <a:pt x="13109" y="16143"/>
                  <a:pt x="13221" y="16173"/>
                </a:cubicBezTo>
                <a:cubicBezTo>
                  <a:pt x="13294" y="16192"/>
                  <a:pt x="13313" y="16186"/>
                  <a:pt x="13320" y="16272"/>
                </a:cubicBezTo>
                <a:cubicBezTo>
                  <a:pt x="13325" y="16327"/>
                  <a:pt x="13262" y="16392"/>
                  <a:pt x="13221" y="16421"/>
                </a:cubicBezTo>
                <a:cubicBezTo>
                  <a:pt x="13167" y="16460"/>
                  <a:pt x="13100" y="16480"/>
                  <a:pt x="13047" y="16520"/>
                </a:cubicBezTo>
                <a:cubicBezTo>
                  <a:pt x="13022" y="16539"/>
                  <a:pt x="12961" y="16591"/>
                  <a:pt x="12948" y="16619"/>
                </a:cubicBezTo>
                <a:cubicBezTo>
                  <a:pt x="12937" y="16644"/>
                  <a:pt x="12983" y="16701"/>
                  <a:pt x="12998" y="16718"/>
                </a:cubicBezTo>
                <a:cubicBezTo>
                  <a:pt x="13034" y="16759"/>
                  <a:pt x="13066" y="16787"/>
                  <a:pt x="13122" y="16793"/>
                </a:cubicBezTo>
                <a:cubicBezTo>
                  <a:pt x="13162" y="16797"/>
                  <a:pt x="13175" y="16818"/>
                  <a:pt x="13221" y="16818"/>
                </a:cubicBezTo>
                <a:cubicBezTo>
                  <a:pt x="13254" y="16818"/>
                  <a:pt x="13271" y="16851"/>
                  <a:pt x="13271" y="16818"/>
                </a:cubicBezTo>
                <a:cubicBezTo>
                  <a:pt x="13271" y="16771"/>
                  <a:pt x="13272" y="16846"/>
                  <a:pt x="13246" y="16768"/>
                </a:cubicBezTo>
                <a:cubicBezTo>
                  <a:pt x="13246" y="16743"/>
                  <a:pt x="13246" y="16735"/>
                  <a:pt x="13246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64040" y="5715000"/>
            <a:ext cx="339840" cy="295200"/>
          </a:xfrm>
          <a:custGeom>
            <a:avLst/>
            <a:gdLst/>
            <a:ahLst/>
            <a:rect l="l" t="t" r="r" b="b"/>
            <a:pathLst>
              <a:path w="944" h="820">
                <a:moveTo>
                  <a:pt x="14312" y="15999"/>
                </a:moveTo>
                <a:cubicBezTo>
                  <a:pt x="14276" y="15907"/>
                  <a:pt x="14277" y="15923"/>
                  <a:pt x="14213" y="15875"/>
                </a:cubicBezTo>
                <a:cubicBezTo>
                  <a:pt x="14171" y="15906"/>
                  <a:pt x="14144" y="15924"/>
                  <a:pt x="14114" y="15974"/>
                </a:cubicBezTo>
                <a:cubicBezTo>
                  <a:pt x="14075" y="16039"/>
                  <a:pt x="14029" y="16095"/>
                  <a:pt x="14015" y="16173"/>
                </a:cubicBezTo>
                <a:cubicBezTo>
                  <a:pt x="13999" y="16256"/>
                  <a:pt x="13998" y="16363"/>
                  <a:pt x="13990" y="16446"/>
                </a:cubicBezTo>
                <a:cubicBezTo>
                  <a:pt x="13982" y="16527"/>
                  <a:pt x="13990" y="16613"/>
                  <a:pt x="13990" y="16694"/>
                </a:cubicBezTo>
              </a:path>
              <a:path w="944" h="820">
                <a:moveTo>
                  <a:pt x="13791" y="16346"/>
                </a:moveTo>
                <a:cubicBezTo>
                  <a:pt x="13915" y="16319"/>
                  <a:pt x="13968" y="16332"/>
                  <a:pt x="14089" y="16346"/>
                </a:cubicBezTo>
                <a:cubicBezTo>
                  <a:pt x="14188" y="16346"/>
                  <a:pt x="14238" y="16346"/>
                  <a:pt x="14312" y="16346"/>
                </a:cubicBezTo>
              </a:path>
              <a:path w="944" h="820">
                <a:moveTo>
                  <a:pt x="14610" y="16098"/>
                </a:moveTo>
                <a:cubicBezTo>
                  <a:pt x="14585" y="16222"/>
                  <a:pt x="14564" y="16343"/>
                  <a:pt x="14560" y="16470"/>
                </a:cubicBezTo>
                <a:cubicBezTo>
                  <a:pt x="14558" y="16544"/>
                  <a:pt x="14560" y="16619"/>
                  <a:pt x="14560" y="16694"/>
                </a:cubicBezTo>
              </a:path>
              <a:path w="944" h="820">
                <a:moveTo>
                  <a:pt x="14412" y="16346"/>
                </a:moveTo>
                <a:cubicBezTo>
                  <a:pt x="14529" y="16413"/>
                  <a:pt x="14600" y="16486"/>
                  <a:pt x="14684" y="16594"/>
                </a:cubicBezTo>
                <a:cubicBezTo>
                  <a:pt x="14701" y="16619"/>
                  <a:pt x="14717" y="16644"/>
                  <a:pt x="14734" y="166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40840" y="3571920"/>
            <a:ext cx="196560" cy="303120"/>
          </a:xfrm>
          <a:custGeom>
            <a:avLst/>
            <a:gdLst/>
            <a:ahLst/>
            <a:rect l="l" t="t" r="r" b="b"/>
            <a:pathLst>
              <a:path w="546" h="844">
                <a:moveTo>
                  <a:pt x="23416" y="9922"/>
                </a:moveTo>
                <a:cubicBezTo>
                  <a:pt x="23435" y="9945"/>
                  <a:pt x="23505" y="10006"/>
                  <a:pt x="23515" y="10021"/>
                </a:cubicBezTo>
                <a:cubicBezTo>
                  <a:pt x="23535" y="10052"/>
                  <a:pt x="23521" y="9991"/>
                  <a:pt x="23490" y="9971"/>
                </a:cubicBezTo>
                <a:cubicBezTo>
                  <a:pt x="23464" y="9953"/>
                  <a:pt x="23460" y="9947"/>
                  <a:pt x="23416" y="9947"/>
                </a:cubicBezTo>
                <a:cubicBezTo>
                  <a:pt x="23367" y="9947"/>
                  <a:pt x="23356" y="9958"/>
                  <a:pt x="23316" y="9971"/>
                </a:cubicBezTo>
                <a:cubicBezTo>
                  <a:pt x="23279" y="9983"/>
                  <a:pt x="23248" y="9993"/>
                  <a:pt x="23217" y="10021"/>
                </a:cubicBezTo>
                <a:cubicBezTo>
                  <a:pt x="23191" y="10044"/>
                  <a:pt x="23172" y="10087"/>
                  <a:pt x="23168" y="10120"/>
                </a:cubicBezTo>
                <a:cubicBezTo>
                  <a:pt x="23160" y="10197"/>
                  <a:pt x="23220" y="10209"/>
                  <a:pt x="23267" y="10244"/>
                </a:cubicBezTo>
                <a:cubicBezTo>
                  <a:pt x="23317" y="10281"/>
                  <a:pt x="23362" y="10310"/>
                  <a:pt x="23416" y="10344"/>
                </a:cubicBezTo>
                <a:cubicBezTo>
                  <a:pt x="23485" y="10388"/>
                  <a:pt x="23613" y="10461"/>
                  <a:pt x="23664" y="10542"/>
                </a:cubicBezTo>
                <a:cubicBezTo>
                  <a:pt x="23694" y="10590"/>
                  <a:pt x="23713" y="10635"/>
                  <a:pt x="23713" y="10691"/>
                </a:cubicBezTo>
                <a:cubicBezTo>
                  <a:pt x="23713" y="10722"/>
                  <a:pt x="23705" y="10756"/>
                  <a:pt x="23688" y="10765"/>
                </a:cubicBezTo>
                <a:cubicBezTo>
                  <a:pt x="23638" y="10791"/>
                  <a:pt x="23484" y="10769"/>
                  <a:pt x="23440" y="10740"/>
                </a:cubicBezTo>
                <a:cubicBezTo>
                  <a:pt x="23417" y="10725"/>
                  <a:pt x="23373" y="10694"/>
                  <a:pt x="23366" y="10691"/>
                </a:cubicBezTo>
                <a:cubicBezTo>
                  <a:pt x="23342" y="10679"/>
                  <a:pt x="23329" y="10723"/>
                  <a:pt x="23316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.  434-435 (23-27) odd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3:53:35Z</dcterms:created>
  <dc:creator>abeason</dc:creator>
  <dc:description/>
  <cp:keywords/>
  <dc:language>en-US</dc:language>
  <cp:lastModifiedBy>abeason</cp:lastModifiedBy>
  <dcterms:modified xsi:type="dcterms:W3CDTF">2009-02-04T19:11:47Z</dcterms:modified>
  <cp:revision>4</cp:revision>
  <dc:subject/>
  <dc:title>WooHoo! Second Semester  2008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775751033</vt:lpwstr>
  </property>
</Properties>
</file>